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43279-8DBE-4835-B260-62A2288E60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4A482-A1E4-4558-BDD1-AB67535F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147AE-B411-455C-8C0A-080C9089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E19A3-0D23-461F-904B-0B30BBE838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84592-300A-439E-B919-FFED4C51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501B7-2D2D-489C-A738-E050D815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EC5A9-6BD5-4A38-9E7B-E1BF056F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21686-2227-4EB0-8594-7FB7AC814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673AC-0D8A-4524-BC60-1F664F7C1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19E38-C77B-4E9E-8FF3-0FAD2A78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80AE5-8200-4813-BF47-AD2AE493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B0D95-63AB-4F0E-A7FB-4651B52B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2FC8-33C7-4ACD-B821-A046D980E78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六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传出神经系统药理学概论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、传出神经递质及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图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-1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胆碱能神经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末梢分泌乙酰胆碱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CH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肾上腺素能神经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末梢分泌去甲肾上腺素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A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、传出神经递质的生物合成与代谢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乙酰胆碱酯酶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CH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水解乙酰胆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儿茶酚氧位甲基转移酶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COMT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和单胺氧化酶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MAO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灭活去甲肾上腺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出神经的受体分布及效应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图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-2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分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-1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21:58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