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081DDB-AD93-471B-9F4D-4AD42099C7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E18CDB-7786-42E3-BC07-69B4A429A8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213876C-9187-4071-A8AD-CE2977CFFD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47171B7-F623-47B4-9B2A-6C3DA9C9E3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E5E1AEB-246D-4198-ADD5-790E547E15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6AC8743-FA81-403E-BF61-48546776D9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2810865-8EAB-48CD-97CA-BB6B0547D9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41E1231-33A7-4782-B7D0-751EAA30DC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F1823BC-AF22-4998-B416-1AAF598D18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E87ECA-107C-445D-BD89-ED5DBD6390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3ACFF0-4B0B-4803-877F-092943B031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1D6E92-C548-47AD-84D7-9A436BE43A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F746A-4263-4AFF-B705-F9FEA883FDE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消毒防腐药物</a:t>
            </a:r>
            <a:endParaRPr b="0" lang="en-US" sz="6000" spc="-1" strike="noStrike">
              <a:solidFill>
                <a:srgbClr val="ffffff"/>
              </a:solidFill>
              <a:latin typeface="Verdana"/>
            </a:endParaRPr>
          </a:p>
        </p:txBody>
      </p:sp>
      <p:sp>
        <p:nvSpPr>
          <p:cNvPr id="105"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4" name="Rectangle 1"/>
          <p:cNvSpPr/>
          <p:nvPr/>
        </p:nvSpPr>
        <p:spPr>
          <a:xfrm>
            <a:off x="571680" y="2071800"/>
            <a:ext cx="8143560" cy="47862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甲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消毒手、器械、环境及处理排泄物。煤酚皂溶液（来苏儿）经水稀释后为常用的消毒剂</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甲醛甲酚溶液也是牙科治疗常用的根管消毒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苯酚。误服来苏儿吸收后药物可直接氧化红细胞，三天后可出现溶血反应或引起高铁血红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Rectangle 1"/>
          <p:cNvSpPr/>
          <p:nvPr/>
        </p:nvSpPr>
        <p:spPr>
          <a:xfrm>
            <a:off x="571680" y="3469680"/>
            <a:ext cx="771516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醇包括脂肪醇和芳香醇两类，均具有一定的抗菌作用，醇类能使蛋白变性或沉淀，呈现抑菌和杀菌作用。一般对细菌有效，对芽胞、肝炎病毒、真菌无杀灭作用。具有消毒防腐作用的醇，主要有乙醇、异丙醇，三氯叔丁醇、苯氧乙醇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
          <p:cNvSpPr/>
          <p:nvPr/>
        </p:nvSpPr>
        <p:spPr>
          <a:xfrm>
            <a:off x="324000" y="2937960"/>
            <a:ext cx="8358120" cy="2562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药理作用和作用机制</a:t>
            </a:r>
            <a:r>
              <a:rPr b="1" lang="en-US" sz="2000" spc="-1" strike="noStrike">
                <a:solidFill>
                  <a:srgbClr val="000066"/>
                </a:solidFill>
                <a:latin typeface="楷体_GB2312"/>
                <a:ea typeface="楷体_GB2312"/>
              </a:rPr>
              <a:t>】</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是最常用的一种脂肪醇。具有脱水与凝固蛋白等作用。其含水量是抗菌作用的必要条件。</a:t>
            </a:r>
            <a:r>
              <a:rPr b="1" lang="en-US" sz="2000" spc="-1" strike="noStrike">
                <a:solidFill>
                  <a:srgbClr val="000066"/>
                </a:solidFill>
                <a:latin typeface="楷体_GB2312"/>
                <a:ea typeface="楷体_GB2312"/>
              </a:rPr>
              <a:t>40%</a:t>
            </a:r>
            <a:r>
              <a:rPr b="1" lang="zh-CN" sz="2000" spc="-1" strike="noStrike">
                <a:solidFill>
                  <a:srgbClr val="000066"/>
                </a:solidFill>
                <a:latin typeface="楷体_GB2312"/>
                <a:ea typeface="楷体_GB2312"/>
              </a:rPr>
              <a:t>～</a:t>
            </a:r>
            <a:r>
              <a:rPr b="1" lang="en-US" sz="2000" spc="-1" strike="noStrike">
                <a:solidFill>
                  <a:srgbClr val="000066"/>
                </a:solidFill>
                <a:latin typeface="楷体_GB2312"/>
                <a:ea typeface="楷体_GB2312"/>
              </a:rPr>
              <a:t>60%</a:t>
            </a:r>
            <a:r>
              <a:rPr b="1" lang="zh-CN" sz="2000" spc="-1" strike="noStrike">
                <a:solidFill>
                  <a:srgbClr val="000066"/>
                </a:solidFill>
                <a:latin typeface="楷体_GB2312"/>
                <a:ea typeface="楷体_GB2312"/>
              </a:rPr>
              <a:t>的浓度对葡萄球菌最有效，</a:t>
            </a:r>
            <a:r>
              <a:rPr b="1" lang="en-US" sz="2000" spc="-1" strike="noStrike">
                <a:solidFill>
                  <a:srgbClr val="000066"/>
                </a:solidFill>
                <a:latin typeface="楷体_GB2312"/>
                <a:ea typeface="楷体_GB2312"/>
              </a:rPr>
              <a:t>70%</a:t>
            </a:r>
            <a:r>
              <a:rPr b="1" lang="zh-CN" sz="2000" spc="-1" strike="noStrike">
                <a:solidFill>
                  <a:srgbClr val="000066"/>
                </a:solidFill>
                <a:latin typeface="楷体_GB2312"/>
                <a:ea typeface="楷体_GB2312"/>
              </a:rPr>
              <a:t>浓度不仅杀菌效力最强，在</a:t>
            </a:r>
            <a:r>
              <a:rPr b="1" lang="en-US" sz="2000" spc="-1" strike="noStrike">
                <a:solidFill>
                  <a:srgbClr val="000066"/>
                </a:solidFill>
                <a:latin typeface="楷体_GB2312"/>
                <a:ea typeface="楷体_GB2312"/>
              </a:rPr>
              <a:t>2</a:t>
            </a:r>
            <a:r>
              <a:rPr b="1" lang="zh-CN" sz="2000" spc="-1" strike="noStrike">
                <a:solidFill>
                  <a:srgbClr val="000066"/>
                </a:solidFill>
                <a:latin typeface="楷体_GB2312"/>
                <a:ea typeface="楷体_GB2312"/>
              </a:rPr>
              <a:t>分钟内能将皮肤表面</a:t>
            </a:r>
            <a:r>
              <a:rPr b="1" lang="en-US" sz="2000" spc="-1" strike="noStrike">
                <a:solidFill>
                  <a:srgbClr val="000066"/>
                </a:solidFill>
                <a:latin typeface="楷体_GB2312"/>
                <a:ea typeface="楷体_GB2312"/>
              </a:rPr>
              <a:t>90%</a:t>
            </a:r>
            <a:r>
              <a:rPr b="1" lang="zh-CN" sz="2000" spc="-1" strike="noStrike">
                <a:solidFill>
                  <a:srgbClr val="000066"/>
                </a:solidFill>
                <a:latin typeface="楷体_GB2312"/>
                <a:ea typeface="楷体_GB2312"/>
              </a:rPr>
              <a:t>细菌杀死，而且在皮肤上扩散和挥发性最佳，对脂质无溶解，对皮肤组织无损害。过高浓度可使菌体表层蛋白质凝固，而阻碍乙醇向内渗透，影响杀菌作用。乙醇对芽孢及肝炎病毒无效，对真菌作用不稳定。涂擦皮肤，能扩张局部血管，增强血液循环，由于乙醇易挥发，有助热量散发。</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5"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
          <p:cNvSpPr/>
          <p:nvPr/>
        </p:nvSpPr>
        <p:spPr>
          <a:xfrm>
            <a:off x="285840" y="228384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作皮肤及一般器械消毒（可加碳酸氢钠防锈），不宜用于外科手术器械消毒。</a:t>
            </a:r>
            <a:r>
              <a:rPr b="1" lang="en-US" sz="2400" spc="-1" strike="noStrike">
                <a:solidFill>
                  <a:srgbClr val="000066"/>
                </a:solidFill>
                <a:latin typeface="楷体_GB2312"/>
                <a:ea typeface="楷体_GB2312"/>
              </a:rPr>
              <a:t>2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0%</a:t>
            </a:r>
            <a:r>
              <a:rPr b="1" lang="zh-CN" sz="2400" spc="-1" strike="noStrike">
                <a:solidFill>
                  <a:srgbClr val="000066"/>
                </a:solidFill>
                <a:latin typeface="楷体_GB2312"/>
                <a:ea typeface="楷体_GB2312"/>
              </a:rPr>
              <a:t>稀释液对高热患者，可涂擦皮肤降低体温</a:t>
            </a:r>
            <a:r>
              <a:rPr b="1" lang="en-US" sz="2400" spc="-1" strike="noStrike">
                <a:solidFill>
                  <a:srgbClr val="000066"/>
                </a:solidFill>
                <a:latin typeface="楷体_GB2312"/>
                <a:ea typeface="楷体_GB2312"/>
              </a:rPr>
              <a:t>:4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60%</a:t>
            </a:r>
            <a:r>
              <a:rPr b="1" lang="zh-CN" sz="2400" spc="-1" strike="noStrike">
                <a:solidFill>
                  <a:srgbClr val="000066"/>
                </a:solidFill>
                <a:latin typeface="楷体_GB2312"/>
                <a:ea typeface="楷体_GB2312"/>
              </a:rPr>
              <a:t>稀释液，对长期卧床患者涂擦皮肤可防止褥疮</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注射用无水乙醇，注射于神经干或神经节，可破坏局部组织，以暂时缓解三叉神经或坐骨神经疼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9"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1"/>
          <p:cNvSpPr/>
          <p:nvPr/>
        </p:nvSpPr>
        <p:spPr>
          <a:xfrm>
            <a:off x="285840" y="279216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2"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3"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1"/>
          <p:cNvSpPr/>
          <p:nvPr/>
        </p:nvSpPr>
        <p:spPr>
          <a:xfrm>
            <a:off x="285840" y="279144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乙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Rectangle 1"/>
          <p:cNvSpPr/>
          <p:nvPr/>
        </p:nvSpPr>
        <p:spPr>
          <a:xfrm>
            <a:off x="285840" y="296928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宜直接用于皮肤开放性伤口，以防凝固蛋白，使创面下层组织达不到消毒，导致细菌繁殖，创面恶化。穿刺或手术前用酒精消毒可以减少局部菌群，清洁皮肤后，并以消毒纱布轻轻摩擦局部，能加速其抗菌作用。勿用本品作大面积涂擦，因本品引起周围血管扩张，导致热量散失，老年人可发生体温低下。本品易挥发，使用后要密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1"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Rectangle 1"/>
          <p:cNvSpPr/>
          <p:nvPr/>
        </p:nvSpPr>
        <p:spPr>
          <a:xfrm>
            <a:off x="214200" y="2931480"/>
            <a:ext cx="835848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醛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具有消毒防腐作用的脂肪醛类药物主要有甲醛、戊二醛、三聚甲醛、多聚甲醛、乌洛托品等。其中甲醛与戊二醛富于反应性，能与蛋白质结合，溶解脂质显示强杀菌作用，对组织与粘膜刺激性强</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环状的三聚甲醛、直链的多聚甲醛和乌洛托品是以缓和释放出甲醛而显效，因而抗菌作用、刺激性、毒性等均比甲醛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5"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1"/>
          <p:cNvSpPr/>
          <p:nvPr/>
        </p:nvSpPr>
        <p:spPr>
          <a:xfrm>
            <a:off x="214200" y="3286080"/>
            <a:ext cx="835848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酸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酸类包括无机酸与有机酸两类，它们均具有不同程度杀菌作用，主要活性部分是氢离子或非离解分子，抗菌力与离解度有密切关系。其中硼酸、乳酸、醋酸、辛酸、苯甲酸、水杨酸、十一烯酸等为常用的消毒防腐药。尤对真菌有较强的杀灭效果。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9"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1"/>
          <p:cNvSpPr/>
          <p:nvPr/>
        </p:nvSpPr>
        <p:spPr>
          <a:xfrm>
            <a:off x="214200" y="3340440"/>
            <a:ext cx="8358480" cy="137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卤素包括氟、氯、溴、碘。常温下氟、氯为气态、溴为液态、碘为固态。在化合物中，以</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价非金属形式与金属或氢形成盐和酸，呈现化学活泼性。卤素可以从卤分子及其化合物中游离出来，通过卤化与氧化菌体原浆蛋白活性基团呈现杀菌作用。作为消毒防腐药主要包括氯及其含氯化合物与碘及其含碘化合物两部分，其中又分为无机与有机两类药物。一般无机类药物比有机类药物杀菌作用强，呈效快、刺激性与腐蚀性大，性质也不稳定。常用药物有含氯石灰、次氯酸钠、优氯静、氯胺</a:t>
            </a:r>
            <a:r>
              <a:rPr b="1" lang="en-US" sz="2400" spc="-1" strike="noStrike">
                <a:solidFill>
                  <a:srgbClr val="000066"/>
                </a:solidFill>
                <a:latin typeface="楷体_GB2312"/>
                <a:ea typeface="楷体_GB2312"/>
              </a:rPr>
              <a:t>T</a:t>
            </a:r>
            <a:r>
              <a:rPr b="1" lang="zh-CN" sz="2400" spc="-1" strike="noStrike">
                <a:solidFill>
                  <a:srgbClr val="000066"/>
                </a:solidFill>
                <a:latin typeface="楷体_GB2312"/>
                <a:ea typeface="楷体_GB2312"/>
              </a:rPr>
              <a:t>、碘、碘仿、聚乙烯砒哆酮碘、碘伏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ffffff"/>
              </a:solidFill>
              <a:latin typeface="Verdana"/>
            </a:endParaRPr>
          </a:p>
        </p:txBody>
      </p:sp>
      <p:sp>
        <p:nvSpPr>
          <p:cNvPr id="107" name=""/>
          <p:cNvSpPr txBox="1"/>
          <p:nvPr/>
        </p:nvSpPr>
        <p:spPr>
          <a:xfrm>
            <a:off x="285840" y="1857240"/>
            <a:ext cx="8291520" cy="442944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1.</a:t>
            </a:r>
            <a:r>
              <a:rPr b="1" lang="zh-CN" sz="3600" spc="-1" strike="noStrike">
                <a:solidFill>
                  <a:srgbClr val="000066"/>
                </a:solidFill>
                <a:latin typeface="Verdana"/>
                <a:ea typeface="宋体"/>
              </a:rPr>
              <a:t>掌握消毒防腐药的主要分类。</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2.</a:t>
            </a:r>
            <a:r>
              <a:rPr b="1" lang="zh-CN" sz="3600" spc="-1" strike="noStrike">
                <a:solidFill>
                  <a:srgbClr val="000066"/>
                </a:solidFill>
                <a:latin typeface="Verdana"/>
                <a:ea typeface="宋体"/>
              </a:rPr>
              <a:t>熟悉消毒防腐药的概念及影响本类药作用的因素。</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3.</a:t>
            </a:r>
            <a:r>
              <a:rPr b="1" lang="zh-CN" sz="3600" spc="-1" strike="noStrike">
                <a:solidFill>
                  <a:srgbClr val="000066"/>
                </a:solidFill>
                <a:latin typeface="Verdana"/>
                <a:ea typeface="宋体"/>
              </a:rPr>
              <a:t>了解各类药物的作用特点、不良反应、禁忌证和药物应用的注意事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黑体"/>
                <a:ea typeface="黑体"/>
              </a:rPr>
              <a:t>。</a:t>
            </a:r>
            <a:endParaRPr b="1" lang="en-US" sz="36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9" name="Rectangle 6"/>
          <p:cNvSpPr/>
          <p:nvPr/>
        </p:nvSpPr>
        <p:spPr>
          <a:xfrm>
            <a:off x="3492360" y="1071720"/>
            <a:ext cx="2365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1"/>
          <p:cNvSpPr/>
          <p:nvPr/>
        </p:nvSpPr>
        <p:spPr>
          <a:xfrm>
            <a:off x="500040" y="3267000"/>
            <a:ext cx="800100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与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由碘和某种类型表面活性剂所形成的络合碘。国产品为棕红色络合物液体，含有效碘</a:t>
            </a:r>
            <a:r>
              <a:rPr b="1" lang="en-US" sz="2400" spc="-1" strike="noStrike">
                <a:solidFill>
                  <a:srgbClr val="000066"/>
                </a:solidFill>
                <a:latin typeface="楷体_GB2312"/>
                <a:ea typeface="楷体_GB2312"/>
              </a:rPr>
              <a:t>0.5%</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pH≤3</a:t>
            </a:r>
            <a:r>
              <a:rPr b="1" lang="zh-CN" sz="2400" spc="-1" strike="noStrike">
                <a:solidFill>
                  <a:srgbClr val="000066"/>
                </a:solidFill>
                <a:latin typeface="楷体_GB2312"/>
                <a:ea typeface="楷体_GB2312"/>
              </a:rPr>
              <a:t>，本品中所含的表面活性剂起着载体和助溶剂的作用，随水稀释而逐渐放出碘，呈现杀菌作用。</a:t>
            </a:r>
            <a:endParaRPr b="0" lang="en-US" sz="2400" spc="-1" strike="noStrike">
              <a:solidFill>
                <a:srgbClr val="046ca6"/>
              </a:solidFill>
              <a:latin typeface="Arial"/>
            </a:endParaRPr>
          </a:p>
        </p:txBody>
      </p:sp>
      <p:sp>
        <p:nvSpPr>
          <p:cNvPr id="17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7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7" name="Rectangle 1"/>
          <p:cNvSpPr/>
          <p:nvPr/>
        </p:nvSpPr>
        <p:spPr>
          <a:xfrm>
            <a:off x="285840" y="3535200"/>
            <a:ext cx="857232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广谱杀菌作用，能杀灭结核杆菌、芽孢、乙肝病毒等。</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浓度下，作用</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分钟，可破坏乙型肝炎表面抗原。具有溶解度高、杀菌力强、刺激性小、易清除皮肤黄染、稳定而不易升华、药效持久且有去污作用等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外科手术前皮肤、黏膜消毒，防治伤口感染，也用于医疗器械、餐具及玻璃制品消毒，目前是医疗常用外用消毒剂。</a:t>
            </a:r>
            <a:endParaRPr b="0" lang="en-US" sz="2400" spc="-1" strike="noStrike">
              <a:solidFill>
                <a:srgbClr val="046ca6"/>
              </a:solidFill>
              <a:latin typeface="Arial"/>
            </a:endParaRPr>
          </a:p>
        </p:txBody>
      </p:sp>
      <p:sp>
        <p:nvSpPr>
          <p:cNvPr id="17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9"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0"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Rectangle 1"/>
          <p:cNvSpPr/>
          <p:nvPr/>
        </p:nvSpPr>
        <p:spPr>
          <a:xfrm>
            <a:off x="285840" y="3260880"/>
            <a:ext cx="85723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刺激性小，毒性低，不易发生碘过敏反应，临床不良反应报道尚少。</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本品在低温（</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左右）下，可能析出少量沉淀，温热后可复原，不影响使用效果。市售品贮存超过六个月，应按实际测定有效碘浓度稀释。本品遇淀粉变蓝，擦洗可除去。宜避光、密闭保存。 </a:t>
            </a:r>
            <a:endParaRPr b="0" lang="en-US" sz="2400" spc="-1" strike="noStrike">
              <a:solidFill>
                <a:srgbClr val="046ca6"/>
              </a:solidFill>
              <a:latin typeface="Arial"/>
            </a:endParaRPr>
          </a:p>
        </p:txBody>
      </p:sp>
      <p:sp>
        <p:nvSpPr>
          <p:cNvPr id="18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8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
        <p:nvSpPr>
          <p:cNvPr id="186" name="Rectangle 1"/>
          <p:cNvSpPr/>
          <p:nvPr/>
        </p:nvSpPr>
        <p:spPr>
          <a:xfrm>
            <a:off x="4239360" y="-720"/>
            <a:ext cx="6649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六、氧化剂</a:t>
            </a: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    </a:t>
            </a:r>
            <a:r>
              <a:rPr b="0" lang="zh-CN" sz="1200" spc="-1" strike="noStrike">
                <a:solidFill>
                  <a:srgbClr val="046ca6"/>
                </a:solidFill>
                <a:latin typeface="宋体"/>
                <a:ea typeface="宋体"/>
              </a:rPr>
              <a:t>氧化剂与有机物相遇时放出新生态氧，通过氧化细菌体内的活性基团呈现杀菌作用。医疗常用的消毒药有过氧化氢溶液、高锰酸钾、氯酸钾等。</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Rectangle 1"/>
          <p:cNvSpPr/>
          <p:nvPr/>
        </p:nvSpPr>
        <p:spPr>
          <a:xfrm>
            <a:off x="571680" y="2658600"/>
            <a:ext cx="76435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六、氧化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氧化剂与有机物相遇时放出新生态氧，通过氧化细菌体内的活性基团呈现杀菌作用。医疗常用的消毒药有过氧化氢溶液、高锰酸钾、氯酸钾等。</a:t>
            </a:r>
            <a:endParaRPr b="0" lang="en-US" sz="2400" spc="-1" strike="noStrike">
              <a:solidFill>
                <a:srgbClr val="046ca6"/>
              </a:solidFill>
              <a:latin typeface="Arial"/>
            </a:endParaRPr>
          </a:p>
        </p:txBody>
      </p:sp>
      <p:sp>
        <p:nvSpPr>
          <p:cNvPr id="189"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2" name="Rectangle 1"/>
          <p:cNvSpPr/>
          <p:nvPr/>
        </p:nvSpPr>
        <p:spPr>
          <a:xfrm>
            <a:off x="857160" y="2966400"/>
            <a:ext cx="77155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七、重金属化合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重金属如汞、银、锌等化合物都能与细菌蛋白质结合，使之沉淀而发挥抗菌作用。此外，重金属离子能与某些酶的巯基结合，使细菌代谢发生障碍而死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作为消毒防腐药有升汞、黄氧化汞、氯化氨基汞、红汞、硝甲酚汞、硫柳汞、硝酸银、强蛋白银、弱蛋白银、氯化锌等。含重金属的药物，特别是无机汞化合物，由于毒性大，加之对环境污染带来的公害，现日趋减少应用，已逐渐由其他新药替代。</a:t>
            </a:r>
            <a:endParaRPr b="0" lang="en-US" sz="2400" spc="-1" strike="noStrike">
              <a:solidFill>
                <a:srgbClr val="046ca6"/>
              </a:solidFill>
              <a:latin typeface="Arial"/>
            </a:endParaRPr>
          </a:p>
        </p:txBody>
      </p:sp>
      <p:sp>
        <p:nvSpPr>
          <p:cNvPr id="19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Rectangle 1"/>
          <p:cNvSpPr/>
          <p:nvPr/>
        </p:nvSpPr>
        <p:spPr>
          <a:xfrm>
            <a:off x="500040" y="3460680"/>
            <a:ext cx="81439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八、表面活性剂</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阳离子型表面活性剂的作用是易于吸附在细菌表面，改变细菌细胞壁的通透性，使胞内部分酶及代谢中间产物外渗，药液内渗，使蛋白变性，细菌失活。此类药物对革兰阳性菌作用大于革兰阴性菌，对霉菌、芽胞、病毒无效。此外，还具有清洁、溶解角质、乳化等作用和呈效快、性质稳定，对组织无刺激性等特点。属于阳离子型药物有苯扎氯铵（洁尔灭）、苯扎溴铵、度米芬、消毒净、创必龙、苄乙氨铵、氯化甲苄乙氧铵、洗必泰等</a:t>
            </a: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两性离子型的代表药有国外称为</a:t>
            </a:r>
            <a:r>
              <a:rPr b="1" lang="en-US" sz="2000" spc="-1" strike="noStrike">
                <a:solidFill>
                  <a:srgbClr val="000066"/>
                </a:solidFill>
                <a:latin typeface="楷体_GB2312"/>
                <a:ea typeface="楷体_GB2312"/>
              </a:rPr>
              <a:t>Tego50</a:t>
            </a:r>
            <a:r>
              <a:rPr b="1" lang="zh-CN" sz="2000" spc="-1" strike="noStrike">
                <a:solidFill>
                  <a:srgbClr val="000066"/>
                </a:solidFill>
                <a:latin typeface="楷体_GB2312"/>
                <a:ea typeface="楷体_GB2312"/>
              </a:rPr>
              <a:t>等。</a:t>
            </a:r>
            <a:endParaRPr b="0" lang="en-US" sz="2000" spc="-1" strike="noStrike">
              <a:solidFill>
                <a:srgbClr val="046ca6"/>
              </a:solidFill>
              <a:latin typeface="Arial"/>
            </a:endParaRPr>
          </a:p>
        </p:txBody>
      </p:sp>
      <p:sp>
        <p:nvSpPr>
          <p:cNvPr id="19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8"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201"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202" name="Rectangle 1"/>
          <p:cNvSpPr/>
          <p:nvPr/>
        </p:nvSpPr>
        <p:spPr>
          <a:xfrm>
            <a:off x="785880" y="3417480"/>
            <a:ext cx="757224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九、染料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染料又称色素，是在微生物形态研究中，显示出对各种组织有选择性染色力，从而证实其药理作用。它们能在细胞表面高浓度蓄积，改变细胞周围氧化还原电位，使胞内外平衡失调，致使微生物的呼吸、代谢系统障碍，呈现消毒防腐作用。此类药物有甲紫、雷佛奴尔、丫啶黄、普鲁黄、复红（碱性品红）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71680" y="1500120"/>
            <a:ext cx="8154720" cy="1657440"/>
          </a:xfrm>
          <a:prstGeom prst="rect">
            <a:avLst/>
          </a:prstGeom>
          <a:noFill/>
          <a:ln w="0">
            <a:noFill/>
          </a:ln>
        </p:spPr>
        <p:txBody>
          <a:bodyPr anchor="t">
            <a:normAutofit fontScale="87000"/>
          </a:bodyPr>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消毒药是指能迅速杀灭病原微生物的药物。</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防腐药是指能抑制微生物生长繁殖的药物。</a:t>
            </a:r>
            <a:endParaRPr b="1" lang="en-US" sz="2400" spc="-1" strike="noStrike">
              <a:solidFill>
                <a:srgbClr val="8ac8de"/>
              </a:solidFill>
              <a:latin typeface="Verdana"/>
            </a:endParaRPr>
          </a:p>
        </p:txBody>
      </p:sp>
      <p:sp>
        <p:nvSpPr>
          <p:cNvPr id="111" name="Text Box 5"/>
          <p:cNvSpPr/>
          <p:nvPr/>
        </p:nvSpPr>
        <p:spPr>
          <a:xfrm>
            <a:off x="2643120" y="1000080"/>
            <a:ext cx="38577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2" name="Rectangle 6"/>
          <p:cNvSpPr/>
          <p:nvPr/>
        </p:nvSpPr>
        <p:spPr>
          <a:xfrm>
            <a:off x="357120" y="3357720"/>
            <a:ext cx="8572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杀菌或抑菌作用方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①</a:t>
            </a:r>
            <a:r>
              <a:rPr b="1" lang="zh-CN" sz="2400" spc="-1" strike="noStrike">
                <a:solidFill>
                  <a:srgbClr val="000066"/>
                </a:solidFill>
                <a:latin typeface="楷体_GB2312"/>
                <a:ea typeface="楷体_GB2312"/>
              </a:rPr>
              <a:t>一般原浆毒，可使细菌蛋白质凝固变性</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②</a:t>
            </a:r>
            <a:r>
              <a:rPr b="1" lang="zh-CN" sz="2400" spc="-1" strike="noStrike">
                <a:solidFill>
                  <a:srgbClr val="000066"/>
                </a:solidFill>
                <a:latin typeface="楷体_GB2312"/>
                <a:ea typeface="楷体_GB2312"/>
              </a:rPr>
              <a:t>干扰酶系统，药物在较低浓度下能与微生物体内的巯基酶等相结合影响其代谢功能，呈现杀灭作用</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③</a:t>
            </a:r>
            <a:r>
              <a:rPr b="1" lang="zh-CN" sz="2400" spc="-1" strike="noStrike">
                <a:solidFill>
                  <a:srgbClr val="000066"/>
                </a:solidFill>
                <a:latin typeface="楷体_GB2312"/>
                <a:ea typeface="楷体_GB2312"/>
              </a:rPr>
              <a:t>氧化作用、水解作用或脱水作用。④破坏细胞膜或改变膜通透性，使细胞内物质外渗或药液浸入胞内，呈现抑菌或杀菌作用。</a:t>
            </a:r>
            <a:endParaRPr b="0" lang="en-US" sz="2400" spc="-1" strike="noStrike">
              <a:solidFill>
                <a:srgbClr val="046ca6"/>
              </a:solidFill>
              <a:latin typeface="Arial"/>
            </a:endParaRPr>
          </a:p>
        </p:txBody>
      </p:sp>
      <p:sp>
        <p:nvSpPr>
          <p:cNvPr id="11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428760" y="1571760"/>
            <a:ext cx="87152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消毒防腐药的选择应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影响药物作用的因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药物浓度和作用时间</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溶媒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环境的影响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机物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PH</a:t>
            </a:r>
            <a:r>
              <a:rPr b="1" lang="zh-CN" sz="2400" spc="-1" strike="noStrike">
                <a:solidFill>
                  <a:srgbClr val="000066"/>
                </a:solidFill>
                <a:latin typeface="楷体_GB2312"/>
                <a:ea typeface="楷体_GB2312"/>
              </a:rPr>
              <a:t>值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物理因素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温度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微生物的敏感性：</a:t>
            </a:r>
            <a:endParaRPr b="0" lang="en-US" sz="2400" spc="-1" strike="noStrike">
              <a:solidFill>
                <a:srgbClr val="046ca6"/>
              </a:solidFill>
              <a:latin typeface="Arial"/>
            </a:endParaRPr>
          </a:p>
        </p:txBody>
      </p:sp>
      <p:sp>
        <p:nvSpPr>
          <p:cNvPr id="115"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6" name="Text Box 5"/>
          <p:cNvSpPr/>
          <p:nvPr/>
        </p:nvSpPr>
        <p:spPr>
          <a:xfrm>
            <a:off x="2571840" y="1000080"/>
            <a:ext cx="385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9" name="Rectangle 2"/>
          <p:cNvSpPr/>
          <p:nvPr/>
        </p:nvSpPr>
        <p:spPr>
          <a:xfrm>
            <a:off x="500040" y="2221200"/>
            <a:ext cx="80726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正确选择适应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用于皮肤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用于创面及黏膜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用于环境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用于器械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其他  除非它有特殊指征，一般避免用酚、硼酸及醛等化合物作防腐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1"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2" name="Rectangle 1"/>
          <p:cNvSpPr/>
          <p:nvPr/>
        </p:nvSpPr>
        <p:spPr>
          <a:xfrm>
            <a:off x="428760" y="1314360"/>
            <a:ext cx="8429400" cy="5043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酚及其衍生物具有消毒防腐作用，常用的药物包括苯酚、甲酚、麝香草酚、木榴油酚、丁香酚、愈创木酚、对氯酚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此类药物能与微生物原生质中蛋白质结合，使之沉淀、变性，呈现抗菌、局部麻痹、腐蚀等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此类药易氧化变质，宜避光保存。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5" name="Rectangle 1"/>
          <p:cNvSpPr/>
          <p:nvPr/>
        </p:nvSpPr>
        <p:spPr>
          <a:xfrm>
            <a:off x="214200" y="671400"/>
            <a:ext cx="8715600" cy="6186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0.2%</a:t>
            </a:r>
            <a:r>
              <a:rPr b="1" lang="zh-CN" sz="2400" spc="-1" strike="noStrike">
                <a:solidFill>
                  <a:srgbClr val="000066"/>
                </a:solidFill>
                <a:latin typeface="楷体_GB2312"/>
                <a:ea typeface="楷体_GB2312"/>
              </a:rPr>
              <a:t>为抑菌作用，</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杀菌作用，对革兰阳性和革兰阴性菌有效，</a:t>
            </a:r>
            <a:r>
              <a:rPr b="1" lang="en-US" sz="2400" spc="-1" strike="noStrike">
                <a:solidFill>
                  <a:srgbClr val="000066"/>
                </a:solidFill>
                <a:latin typeface="楷体_GB2312"/>
                <a:ea typeface="楷体_GB2312"/>
              </a:rPr>
              <a:t>1.3%</a:t>
            </a:r>
            <a:r>
              <a:rPr b="1" lang="zh-CN" sz="2400" spc="-1" strike="noStrike">
                <a:solidFill>
                  <a:srgbClr val="000066"/>
                </a:solidFill>
                <a:latin typeface="楷体_GB2312"/>
                <a:ea typeface="楷体_GB2312"/>
              </a:rPr>
              <a:t>杀灭真菌，</a:t>
            </a:r>
            <a:r>
              <a:rPr b="1" lang="en-US" sz="2400" spc="-1" strike="noStrike">
                <a:solidFill>
                  <a:srgbClr val="000066"/>
                </a:solidFill>
                <a:latin typeface="楷体_GB2312"/>
                <a:ea typeface="楷体_GB2312"/>
              </a:rPr>
              <a:t>5%24</a:t>
            </a:r>
            <a:r>
              <a:rPr b="1" lang="zh-CN" sz="2400" spc="-1" strike="noStrike">
                <a:solidFill>
                  <a:srgbClr val="000066"/>
                </a:solidFill>
                <a:latin typeface="楷体_GB2312"/>
                <a:ea typeface="楷体_GB2312"/>
              </a:rPr>
              <a:t>小时杀灭结核杆菌，对芽孢、病毒无效。对皮肤、粘膜随浓度增高呈止痒、刺激和腐蚀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皮肤杀菌和止痒或局部镇痛，以及消毒外科器械的处理。酚甘油滴耳消炎止痛，用于治疗外耳炎与中耳炎</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苯酚软膏用于神经性皮炎、慢性湿疹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牙科用樟脑酚于龋窝，牙周脓肿消毒及牙髓的镇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8" name="Rectangle 1"/>
          <p:cNvSpPr/>
          <p:nvPr/>
        </p:nvSpPr>
        <p:spPr>
          <a:xfrm>
            <a:off x="214200" y="1785960"/>
            <a:ext cx="8715600" cy="454356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以上苯酚水溶液有较强腐蚀性，对局部组织呈现非致炎性坏死。误服本品可引起广泛的局部组织腐蚀，出现短暂的兴奋，随之知觉丧失、中枢神经系统抑制、循环和呼吸衰竭、肺水肿、肝、肾坏死和功能衰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对皮肤与粘膜有腐蚀性，避免应用于损伤的皮肤和伤口，尿布皮炎患儿及</a:t>
            </a:r>
            <a:r>
              <a:rPr b="1" lang="en-US" sz="2400" spc="-1" strike="noStrike">
                <a:solidFill>
                  <a:srgbClr val="000066"/>
                </a:solidFill>
                <a:latin typeface="楷体_GB2312"/>
                <a:ea typeface="楷体_GB2312"/>
              </a:rPr>
              <a:t>6</a:t>
            </a:r>
            <a:r>
              <a:rPr b="1" lang="zh-CN" sz="2400" spc="-1" strike="noStrike">
                <a:solidFill>
                  <a:srgbClr val="000066"/>
                </a:solidFill>
                <a:latin typeface="楷体_GB2312"/>
                <a:ea typeface="楷体_GB2312"/>
              </a:rPr>
              <a:t>个月以下婴儿禁用。苯酚对组织穿透力强，仅限于小面积皮肤上使用，水溶液用于体表，浓度不宜超过</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外用后不加封包。本品禁忌与生物碱盐、铁盐、铝凝胶、火棉胶等配伍。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8:59:34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