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E6CE1-DFF3-4A61-A499-E190D8C564E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9B2AE-5BC5-4D19-A6ED-7C12E8464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ECFC6-A54E-4920-981E-694544B03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C762E-2374-44EE-BA63-FA3F8C3011F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BE7C3-9CD8-4EDE-94E4-AD18FAFD8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CF9F3-CE77-4F9E-9FB0-55546ED47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5E779-257C-4ECD-8048-B8B64F2CB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B1E82-BE0E-42A1-963A-12F7CF28A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B53FC-BAC5-4AD6-8ABA-196FBECEB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CCD3C-CBAC-46FD-A77B-872120CD6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D1EB7-E3C3-4878-824C-E19F595C5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D0864-DCD1-452C-8AC7-4D54F85A8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AA8BB-28DC-4920-AA36-02C12E74E2F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4560" y="2276640"/>
            <a:ext cx="5832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药物效应动力学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46ca6"/>
                </a:solidFill>
                <a:latin typeface="Times New Roman"/>
                <a:ea typeface="宋体"/>
              </a:rPr>
              <a:t>谢谢大家</a:t>
            </a:r>
            <a:endParaRPr b="1" lang="en-US" sz="9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Rectangle 1"/>
          <p:cNvSpPr/>
          <p:nvPr/>
        </p:nvSpPr>
        <p:spPr>
          <a:xfrm>
            <a:off x="0" y="442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物作用的基本规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药物的基本作用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兴奋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抑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药物作用的选择性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在治疗剂量时，药物通常只选择性地对某一个或几个器官组织产生明显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药物的适应证取决于药物作用的选择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药物的作用方式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（一）局部作用和吸收作用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（二）直接作用和间接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药物作用的临床效果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一）治疗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二）不良反应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副作用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毒性反应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变态反应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后遗效应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继发反应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致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个体差异：个体之间对同一药物的反应可有明显差异称为药物作用的个体差异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。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（一）高敏性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（二）耐受性（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tolerance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（三）抗药性（耐药性、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resistance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4888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药物的量效关系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一、剂量的概念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治疗量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极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二、量反应和质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量反应：药物效应凡能用具体数量来表示的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质反应：药物效应不能用数量表示，需用阴性或阳性、有或无来表示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治疗指数：是用来估计一个药物安全性的指标，常以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LD</a:t>
            </a:r>
            <a:r>
              <a:rPr b="1" lang="en-US" sz="2400" spc="-1" strike="noStrike" baseline="-25000">
                <a:solidFill>
                  <a:srgbClr val="3582a3"/>
                </a:solidFill>
                <a:latin typeface="Arial"/>
                <a:ea typeface="宋体"/>
              </a:rPr>
              <a:t>50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/ED</a:t>
            </a:r>
            <a:r>
              <a:rPr b="1" lang="en-US" sz="2400" spc="-1" strike="noStrike" baseline="-25000">
                <a:solidFill>
                  <a:srgbClr val="3582a3"/>
                </a:solidFill>
                <a:latin typeface="Arial"/>
                <a:ea typeface="宋体"/>
              </a:rPr>
              <a:t>50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的比值表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4888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三节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物作用机制和受体学说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一、从构效关系归纳作用机制的方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改变细胞周围环境的理化条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参与或干扰细胞物质代谢过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通过抑制或促进体内某些酶而起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对细胞膜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改变体内生理递质激素的释放或分泌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二、药物和受体学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完全激动剂：药物与受体有较强的亲和力，并有较强的内在活性，能兴奋受体产生明显效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拮抗剂：药物与受体有较强的亲和力，没有内在活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部分激动剂：药物与受体有亲和力，但只有弱的内在活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三、联合用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（一）相加作用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（二）增强作用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（三）对抗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7T05:06:27Z</dcterms:modified>
  <cp:revision>25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