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438C4-1B89-4BA4-9293-B096427CE1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243BD-EC42-4B22-B824-C4B0F21C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1DB83-80CE-48D5-83E7-D5AA8D28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70DD7-465C-49A4-B38B-032713D1B6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A631F-2F8F-4B34-939A-E64A9FBB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1AC6E-E21B-4EF2-83E9-878B5E59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F42CF-9BCE-4FBE-B359-D7A8BA3B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77F0B-6EB7-4220-822F-D6FE9610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00CC2-AC0E-432C-8883-855E28E0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5F52E-B42E-425E-9415-F4ED833B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4048E-564A-4028-BC44-ECCF5FC0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9547F-2852-40E1-8F7A-3D4B7FEC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FAE0-7074-4244-9409-7AF1CD96FD9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物代谢动力学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的转运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被动转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定义：指药物依赖生物膜两侧的浓度差，药物从高浓度一侧向低浓度一侧扩散性转运，当膜两侧药物浓度达到平衡时转运即停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特点：不消耗能量，不需要载体，无竞争性抑制，无饱和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影响因素：药物理化性质，凡分子量小，极性小解离度小及脂溶性大的药物极易通过生物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体液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值的改变影响药物转运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B                A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+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+ B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-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弱酸性药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解离度小（通过膜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弱酸性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解离度大（不通过膜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2" name="组合 12"/>
          <p:cNvGrpSpPr/>
          <p:nvPr/>
        </p:nvGrpSpPr>
        <p:grpSpPr>
          <a:xfrm>
            <a:off x="1402920" y="2060640"/>
            <a:ext cx="1656720" cy="740160"/>
            <a:chOff x="1402920" y="2060640"/>
            <a:chExt cx="1656720" cy="740160"/>
          </a:xfrm>
        </p:grpSpPr>
        <p:cxnSp>
          <p:nvCxnSpPr>
            <p:cNvPr id="113" name="直接箭头连接符 5"/>
            <p:cNvCxnSpPr/>
            <p:nvPr/>
          </p:nvCxnSpPr>
          <p:spPr>
            <a:xfrm>
              <a:off x="1403280" y="2584080"/>
              <a:ext cx="1656720" cy="1080"/>
            </a:xfrm>
            <a:prstGeom prst="straightConnector1">
              <a:avLst/>
            </a:prstGeom>
            <a:ln w="25560">
              <a:solidFill>
                <a:srgbClr val="88598a"/>
              </a:solidFill>
              <a:miter/>
              <a:tailEnd len="med" type="arrow" w="med"/>
            </a:ln>
          </p:spPr>
        </p:cxnSp>
        <p:cxnSp>
          <p:nvCxnSpPr>
            <p:cNvPr id="114" name="直接箭头连接符 7"/>
            <p:cNvCxnSpPr/>
            <p:nvPr/>
          </p:nvCxnSpPr>
          <p:spPr>
            <a:xfrm flipH="1">
              <a:off x="1402920" y="2800080"/>
              <a:ext cx="1656720" cy="1080"/>
            </a:xfrm>
            <a:prstGeom prst="straightConnector1">
              <a:avLst/>
            </a:prstGeom>
            <a:ln w="25560">
              <a:solidFill>
                <a:srgbClr val="88598a"/>
              </a:solidFill>
              <a:miter/>
              <a:tailEnd len="med" type="arrow" w="med"/>
            </a:ln>
          </p:spPr>
        </p:cxnSp>
        <p:sp>
          <p:nvSpPr>
            <p:cNvPr id="115" name="矩形 9"/>
            <p:cNvSpPr/>
            <p:nvPr/>
          </p:nvSpPr>
          <p:spPr>
            <a:xfrm>
              <a:off x="1763640" y="2060640"/>
              <a:ext cx="93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ac8de"/>
                  </a:solidFill>
                  <a:latin typeface="Verdana"/>
                  <a:ea typeface="宋体"/>
                </a:rPr>
                <a:t>解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6" name="组合 14"/>
          <p:cNvGrpSpPr/>
          <p:nvPr/>
        </p:nvGrpSpPr>
        <p:grpSpPr>
          <a:xfrm>
            <a:off x="2290320" y="3274920"/>
            <a:ext cx="1367280" cy="810000"/>
            <a:chOff x="2290320" y="3274920"/>
            <a:chExt cx="1367280" cy="810000"/>
          </a:xfrm>
        </p:grpSpPr>
        <p:grpSp>
          <p:nvGrpSpPr>
            <p:cNvPr id="117" name="组合 16"/>
            <p:cNvGrpSpPr/>
            <p:nvPr/>
          </p:nvGrpSpPr>
          <p:grpSpPr>
            <a:xfrm>
              <a:off x="2290320" y="3274920"/>
              <a:ext cx="1367280" cy="416520"/>
              <a:chOff x="2290320" y="3274920"/>
              <a:chExt cx="1367280" cy="416520"/>
            </a:xfrm>
          </p:grpSpPr>
          <p:cxnSp>
            <p:nvCxnSpPr>
              <p:cNvPr id="118" name="直接箭头连接符 18"/>
              <p:cNvCxnSpPr/>
              <p:nvPr/>
            </p:nvCxnSpPr>
            <p:spPr>
              <a:xfrm>
                <a:off x="2290320" y="3690720"/>
                <a:ext cx="1367640" cy="1080"/>
              </a:xfrm>
              <a:prstGeom prst="straightConnector1">
                <a:avLst/>
              </a:prstGeom>
              <a:ln w="25560">
                <a:solidFill>
                  <a:srgbClr val="88598a"/>
                </a:solidFill>
                <a:miter/>
                <a:tailEnd len="med" type="arrow" w="med"/>
              </a:ln>
            </p:spPr>
          </p:cxnSp>
          <p:sp>
            <p:nvSpPr>
              <p:cNvPr id="119" name="矩形 19"/>
              <p:cNvSpPr/>
              <p:nvPr/>
            </p:nvSpPr>
            <p:spPr>
              <a:xfrm>
                <a:off x="2506320" y="3274920"/>
                <a:ext cx="93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pH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低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0" name="矩形 21"/>
            <p:cNvSpPr/>
            <p:nvPr/>
          </p:nvSpPr>
          <p:spPr>
            <a:xfrm>
              <a:off x="2340360" y="371664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（胃液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组合 23"/>
          <p:cNvGrpSpPr/>
          <p:nvPr/>
        </p:nvGrpSpPr>
        <p:grpSpPr>
          <a:xfrm>
            <a:off x="2290320" y="4370400"/>
            <a:ext cx="1367280" cy="810000"/>
            <a:chOff x="2290320" y="4370400"/>
            <a:chExt cx="1367280" cy="810000"/>
          </a:xfrm>
        </p:grpSpPr>
        <p:grpSp>
          <p:nvGrpSpPr>
            <p:cNvPr id="122" name="组合 24"/>
            <p:cNvGrpSpPr/>
            <p:nvPr/>
          </p:nvGrpSpPr>
          <p:grpSpPr>
            <a:xfrm>
              <a:off x="2290320" y="4370400"/>
              <a:ext cx="1367280" cy="416160"/>
              <a:chOff x="2290320" y="4370400"/>
              <a:chExt cx="1367280" cy="416160"/>
            </a:xfrm>
          </p:grpSpPr>
          <p:cxnSp>
            <p:nvCxnSpPr>
              <p:cNvPr id="123" name="直接箭头连接符 26"/>
              <p:cNvCxnSpPr/>
              <p:nvPr/>
            </p:nvCxnSpPr>
            <p:spPr>
              <a:xfrm>
                <a:off x="2290320" y="4785840"/>
                <a:ext cx="1367640" cy="1080"/>
              </a:xfrm>
              <a:prstGeom prst="straightConnector1">
                <a:avLst/>
              </a:prstGeom>
              <a:ln w="25560">
                <a:solidFill>
                  <a:srgbClr val="88598a"/>
                </a:solidFill>
                <a:miter/>
                <a:tailEnd len="med" type="arrow" w="med"/>
              </a:ln>
            </p:spPr>
          </p:cxnSp>
          <p:sp>
            <p:nvSpPr>
              <p:cNvPr id="124" name="矩形 27"/>
              <p:cNvSpPr/>
              <p:nvPr/>
            </p:nvSpPr>
            <p:spPr>
              <a:xfrm>
                <a:off x="2506320" y="4370400"/>
                <a:ext cx="93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pH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高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5" name="矩形 25"/>
            <p:cNvSpPr/>
            <p:nvPr/>
          </p:nvSpPr>
          <p:spPr>
            <a:xfrm>
              <a:off x="2340360" y="481212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（尿碱化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主动转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是药物从生物膜低浓度一侧向高浓度一侧转运，需要耗能量、需载体有饱和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药物的体内过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药物的吸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物以给药部位进入血液循环的转运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影响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方面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Verdana"/>
                <a:ea typeface="宋体"/>
              </a:rPr>
              <a:t>药物的理化性质，剂量和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标题 1"/>
          <p:cNvSpPr/>
          <p:nvPr/>
        </p:nvSpPr>
        <p:spPr>
          <a:xfrm>
            <a:off x="1403280" y="321300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吸收的因素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内容占位符 2" descr=""/>
          <p:cNvPicPr/>
          <p:nvPr/>
        </p:nvPicPr>
        <p:blipFill>
          <a:blip r:embed="rId1"/>
          <a:stretch/>
        </p:blipFill>
        <p:spPr>
          <a:xfrm>
            <a:off x="341280" y="1125360"/>
            <a:ext cx="8802720" cy="4950000"/>
          </a:xfrm>
          <a:prstGeom prst="rect">
            <a:avLst/>
          </a:prstGeom>
          <a:ln w="0">
            <a:noFill/>
          </a:ln>
        </p:spPr>
      </p:pic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5" name="组合 7"/>
          <p:cNvGrpSpPr/>
          <p:nvPr/>
        </p:nvGrpSpPr>
        <p:grpSpPr>
          <a:xfrm>
            <a:off x="1387440" y="3608280"/>
            <a:ext cx="3405240" cy="1096560"/>
            <a:chOff x="1387440" y="3608280"/>
            <a:chExt cx="3405240" cy="1096560"/>
          </a:xfrm>
        </p:grpSpPr>
        <p:grpSp>
          <p:nvGrpSpPr>
            <p:cNvPr id="136" name="组合 4"/>
            <p:cNvGrpSpPr/>
            <p:nvPr/>
          </p:nvGrpSpPr>
          <p:grpSpPr>
            <a:xfrm>
              <a:off x="1588320" y="3608280"/>
              <a:ext cx="3204360" cy="1096560"/>
              <a:chOff x="1588320" y="3608280"/>
              <a:chExt cx="3204360" cy="1096560"/>
            </a:xfrm>
          </p:grpSpPr>
          <p:sp>
            <p:nvSpPr>
              <p:cNvPr id="137" name="矩形 8"/>
              <p:cNvSpPr/>
              <p:nvPr/>
            </p:nvSpPr>
            <p:spPr>
              <a:xfrm>
                <a:off x="1596600" y="3608280"/>
                <a:ext cx="3103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A(</a:t>
                </a:r>
                <a:r>
                  <a:rPr b="1" lang="zh-CN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入血循环的药量</a:t>
                </a: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)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8" name="矩形 6"/>
              <p:cNvSpPr/>
              <p:nvPr/>
            </p:nvSpPr>
            <p:spPr>
              <a:xfrm>
                <a:off x="1588320" y="4245120"/>
                <a:ext cx="32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D(</a:t>
                </a:r>
                <a:r>
                  <a:rPr b="1" lang="zh-CN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给予总药量</a:t>
                </a: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) 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9" name="直接连接符 9"/>
            <p:cNvSpPr/>
            <p:nvPr/>
          </p:nvSpPr>
          <p:spPr>
            <a:xfrm>
              <a:off x="1387440" y="4206960"/>
              <a:ext cx="2879640" cy="0"/>
            </a:xfrm>
            <a:prstGeom prst="line">
              <a:avLst/>
            </a:prstGeom>
            <a:ln w="25560">
              <a:solidFill>
                <a:srgbClr val="885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药物与血浆蛋白结合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结合型药物：分子量大，不能进行被动转运暂时失去活性，也不能代谢和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游离型药物：具有药理活性，可进行转运蛋白结合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蛋白结合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药物的分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四、药物的代谢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肝药酶：细胞色素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-450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促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抑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五、药物的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经肾脏排泄：与尿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值密切相关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经胆道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肝肠循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56016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血浆半衰期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1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/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血浆药物浓度下降一半所需的时间反映药物的消除速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稳态血药浓度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10:44Z</dcterms:modified>
  <cp:revision>4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