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1.wmf" ContentType="image/x-wmf"/>
  <Override PartName="/ppt/media/image12.png" ContentType="image/png"/>
  <Override PartName="/ppt/media/image9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46678-9044-485D-92C3-375D15DA87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BB717-5A74-4A96-A38F-3ED3EB1E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0B9998-99D0-4887-8FBC-D7F5F3BF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1EB8BE-C511-4994-BE40-1C26D9109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FB90FE-B495-4F54-8D28-5036944F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0CE2CB-4F2D-4824-B31F-E49A9D1C2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01D379-EC81-4BB4-80D1-9CE0A30E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57DF03-1781-4892-A1ED-C12F00E1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052CA-E1B0-44D3-B42F-ECB861A0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421E9F-70F0-483D-AB25-6B5ECF91A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FF57CC-2C0A-44F1-A32A-9697C7D3EF5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ECE34B-8F5F-4713-9F6E-5FCFDA933E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308C7-4B40-455C-8B77-8B35A07BE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DDC69C-D37A-45F1-B015-475B7DECE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E3E910A-4985-4948-81D2-89CD2C7A9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64CC234-418C-4966-958B-EC1F52750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18825B-037A-43D4-A001-62D51064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69D8EF0-BACF-4BB7-B421-ADD880AA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220D2E-C64F-4D57-BB78-E0690637C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0BC1EAC-6949-4BBA-AF74-BE136DB5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3A8CAF4-71EC-4BC7-9C52-3B1C4716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E655BB-ACC6-40EB-BA4F-DD585EC7F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5CB1C9E-F42A-4761-9123-DB7A3BA9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9AC87-AB42-4324-83D7-42CDFF8D22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C6BF17F-0065-412D-AC31-FC72329B5B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4C0F1-1F1F-4390-8F95-3315E1AA23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751AFD-8C93-4FBE-98DF-EAB8D9E12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CD5BD9-7AA9-4D93-9E21-5F4679A6C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D19A9C-AA63-48F0-BF44-7194B86F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A960BF-54A8-43E2-8F7C-14D067F59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D7871-E7BC-44A4-87F8-0FF2AB28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E2C4B-9D52-455D-904A-6CBBAFCFA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53DFEA-0734-4B66-9B6B-3B9F7AFE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CE7B0-2273-4DB7-94E9-DD141BA4F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0D76-E9B1-4A78-8FCD-6B6F5C3911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E5D09-9891-426F-BA32-A6E7B23FD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C2F57-54B9-48F9-9FB6-4DFB8BDB7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FB9777-E817-4335-AC09-13F85739E0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A32B974-8541-4C12-B2C8-E6A40FDE7D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6890682-45DB-4A06-90B0-7546A522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CE52C0-754C-459C-8BD4-DE9BA3D28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4F7509B-E796-4391-BFC4-4D26B800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7A4E4C-3FFC-430D-BFB4-4113AFE16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8440F32-9A74-4179-9034-6A2CBE279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BF99424-7751-4801-853A-5DB614520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487B-E849-4CFD-A346-F97F50614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E5E8E78-F192-4A2C-BC35-8206B152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224249C-25F0-446E-8B39-D557C7E42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F7EECCF-6D1E-494C-9FD5-16F7A66C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F5B3B7-CDC6-4ADD-86DB-707634A0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396B9AF-CEB2-4D2A-91A3-EEFA59A18C2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87B81C-8674-4860-8914-8D99299E37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122BBF-3079-43F9-B31D-55790612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2EC5F6-1F04-4A42-89AF-C0D72ECC7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4014E9-671C-4AD4-9EF8-A828DB54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4A1CFF3-19D0-477A-A5C1-4063BED3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1EDF-DC01-4748-AA10-8687B3C6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488E51-E233-4356-BB21-58F2A39C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45BFFA-6349-4671-9C5D-921C2345C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3C72FA-D3A8-44D9-B11C-CF6FE0BC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EFF6B1-1A82-4C63-A597-75201C4C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95B4F0-F8E7-41A1-B689-150116A5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664317-72AB-4EBE-A4E0-28E73E11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F8D7D-F131-4E52-A435-4E0361524B6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EE1-37FE-43DF-8734-6E712E3DC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9F3-6ADE-44F1-9D92-47F974E84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B2E6-308B-4BC7-A780-9329343D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800A-DFD5-43C7-B9B6-833FE085D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FF5F5-EE42-45CC-AA99-3B016D03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A93A-1092-48DE-A0B9-41476116E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E05-112C-4F84-BC90-48B3FD3B1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9124-7433-4487-924B-73318504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EAE5-D1DE-47DF-A4EE-3D5B70B9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FEC-9180-417B-9310-683464BE57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3D0AF-5E8E-48CC-810B-0693711CDC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3978A-7EB7-47FC-ACBC-4E6E64E94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3384A7-A26D-4061-9A15-9D848A29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50C66-4606-435D-9F80-12AC9C100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F03DD-A464-4735-9EFD-7140CC2C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0B337-89E2-427A-9E18-57937D09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6FB130-9CD5-4A86-8369-27434119D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91316-82DD-4A39-8207-D7D18BA99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20044-C3CA-4602-9A4D-FB52DC28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DF045-8524-4A26-8EC7-FB3F3BC06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30C84-D570-455D-98E1-DF98D954D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5B79DC-9B76-4F30-A0DE-492BAAA3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16E67-C5F1-4B27-B502-72B4114CE55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F24520-7DC1-4124-A841-6EED03402D7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AFBBAB-2086-4DB7-9E1D-D2603BE6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387AE0-7971-4917-AEE6-C86FEBA57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9C1AD-6B9F-4ECC-84E6-CC91C8A80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8D5D7B-A6AE-4A00-AC70-BAFD221E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1799C9-3F43-4D33-A1ED-CC05CB5A6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C4480D-756B-4AED-B927-9E902FFE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145FF5-DC70-420F-92D9-8BEB9B65A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153FE23-42E2-41DF-9D87-CF42DD23F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9F1D74-7EDA-4EB0-857D-306382FD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396A26-2139-4622-87EE-0B78E025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D240F3-9A60-4ADB-990C-1CB318E1A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EF3904-0246-47F0-A4D3-8631F2CD83C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AD8D1-4820-4550-8454-AB855ADBB2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7B6A6-A9A5-4F0B-9EEE-397473620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78930-3085-4478-A880-B288D1BC9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6D7A2-0B6E-4901-B33C-B86CE37B4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2EEF9-752B-48F6-9116-7ABC89E9B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70653-3FD7-4D39-AB16-CF3EB105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63EB9-9E12-4D3D-B75F-CCAE283B8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956493-37DB-4256-9733-A624E1E2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96813-0A55-44CB-85E6-302EA5E41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9469B-A4F8-45B7-8E83-86725058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788CB-33DC-43F1-9175-82C70F66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3A7D7-6FE7-4185-BD70-B29F527F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2AA4A-46FD-4F46-8404-CE208B30F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3D639-CA25-4293-B8E0-A0165BC3379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5153BC-3785-4844-89DD-4E8030C57F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53C74-3BF9-4228-B06F-FAF2AEBC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86226F-08A9-4956-AA30-2A7B49CAE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38B27C-69CE-42D2-85F1-361F95A72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552F1A-49B1-4F3D-9780-33F2311D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646061-7394-449D-90AF-1CBCCBA24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DE5D50-99E2-49A3-BF35-D23B03BEC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C8EDEC-5FA6-4A6E-AE91-26ACE872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3D1CBF-0A4A-4C9B-B219-2BF3B31E8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23B73-7324-4090-B0A1-9E16107EB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92306E-5107-4C6E-B33B-FB586F27B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55E64B-4620-4A92-8E72-66490FA4C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A79BBD-11BF-41E9-AE9C-61EC23336CE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B07A2E-C450-4B1C-B377-EABEABBDC4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10CB8F-EB5D-4394-9977-4129A78D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58370F-F8EB-42DD-BB08-8422730D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693483-89A2-4F53-AE9D-424B0902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70C634-F7A0-4A8A-BBD7-4C3EE724E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E28153-5E6F-406F-9A34-93C1979FD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1C93F9-02C6-48CF-99A8-489BD8AD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B62BD-2266-4E7E-88C4-A358942E3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9F2A51-53D8-4A1F-AFAF-76A2A3A84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47CCC28-67BF-429C-89E7-D9FB8F11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0240656-65EF-488C-BF6B-423C87E0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57E034-6C47-41F2-98A5-C608DC633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7F0E63-A4EF-4288-919F-BD44ABD995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829E5-8FC2-4D48-9078-9707FF32F4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7F74C-1628-4D3D-93CD-7B5795BEB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E7D87-0BC4-4CB8-82F6-64721E0D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CB7A6-C160-4716-BE86-555481DC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5029A-64F2-4CD0-8F3C-3F7C60C9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D10A-939E-4C60-9DEE-043BB3E1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5DE8B-6A20-4087-954C-DC450862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13169-9678-44D1-A395-43DCD00B1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54466C-1485-4CB1-9F79-406E65875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A64CB-4110-4AD9-BF26-78310FDC2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178920" y="3854520"/>
            <a:ext cx="8736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2CA59-0405-403C-A2B7-0E33C853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55520" y="123660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789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55520" y="3854520"/>
            <a:ext cx="426312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9197A7-5F9D-4B5A-B2E7-E735548F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13272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86160" y="123660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1789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13272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86160" y="3854520"/>
            <a:ext cx="2812680" cy="23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33296-17CC-4523-B87D-D157D8C93F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A7E324-0CD3-4107-8C72-A58031ACAB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AD247E1-B047-4965-8F1B-6D53547B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buNone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751E2E-7831-4808-8A70-1D7E0A46D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7E0A-E6AD-483F-B80E-18B6A112FFD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0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1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5F8AB-0A29-4C33-81EB-8BA403CCCA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dt" idx="2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5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5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5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Num" idx="2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6D7B-F2AB-406D-B0E0-DCDCC784C06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dt" idx="2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9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 type="sldNum" idx="2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4601-EEDB-4457-BE82-24075AA110E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 type="dt" idx="2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54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sldNum" idx="2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C6EC8-38D8-4E43-8765-D1F37734F1A7}" type="slidenum">
              <a:rPr b="0" lang="zh-CN" sz="14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dt" idx="2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F45B-AEE0-4FA9-9A35-4C73D462F3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dt" idx="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Num" idx="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F9182-158B-435C-B80F-FA3239B8F65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dt" idx="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sldNum" idx="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CC71-FB2C-4571-92AE-C7FE60F633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dt" idx="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sldNum" idx="9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9C67F-DC03-49AB-BBFA-4063437C00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dt" idx="10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1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67B8-831A-482F-AEE9-8C30CA71BB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dt" idx="1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27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13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96E5-B67E-488F-A0FE-FEC4AA40342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 type="dt" idx="14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9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15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09E2-2D04-451E-B5EF-6D254ABA29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dt" idx="16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3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64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body"/>
          </p:nvPr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13160" indent="-27432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2" marL="109728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3" marL="153612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4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5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6" marL="1974960" indent="-219240">
              <a:lnSpc>
                <a:spcPct val="150000"/>
              </a:lnSpc>
              <a:buClr>
                <a:srgbClr val="046ca6"/>
              </a:buClr>
              <a:buFont typeface="Wingdings" charset="2"/>
              <a:buChar char="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sldNum" idx="17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EFFA-ADCF-4150-8495-507F626AA8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dt" idx="18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4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4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1"/>
          <p:cNvPicPr/>
          <p:nvPr/>
        </p:nvPicPr>
        <p:blipFill>
          <a:blip r:embed="rId1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58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58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58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58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9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9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9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9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05" name="Picture 24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8000" y="2276640"/>
            <a:ext cx="4968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以社区为中心的护理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1600200" y="5311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endParaRPr b="1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59280" y="333000"/>
            <a:ext cx="5843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94920" y="123660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资料整理与分析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复核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资料分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报告评估结果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123640" y="304560"/>
            <a:ext cx="6791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诊断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对于个人、家庭、群体或社区现存的或潜在的不健康和（或）健康问题，以及与其相关原因的陈述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北美护理诊断协会护理诊断系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  <a:ea typeface="宋体"/>
              </a:rPr>
              <a:t>PSE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陈述公式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问题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症状或体征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ign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symptoms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原因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etiolog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78920" y="1268280"/>
            <a:ext cx="873612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（问题）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干预分类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2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结果评量系统（表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-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324000" y="2171880"/>
          <a:ext cx="8496000" cy="4213080"/>
        </p:xfrm>
        <a:graphic>
          <a:graphicData uri="http://schemas.openxmlformats.org/drawingml/2006/table">
            <a:tbl>
              <a:tblPr/>
              <a:tblGrid>
                <a:gridCol w="1742760"/>
                <a:gridCol w="6753240"/>
              </a:tblGrid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领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护理诊断（问题）分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48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环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收入，卫生，住宅，邻居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工作场所的安全，其他心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10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心理社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与社区资源的联系，社会接触，角色改变，人际关系，精神压力，哀伤，情绪稳定性，照顾，忽略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虐待儿童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成人，生长与发育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792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听觉，视觉，说话与语言，咀嚼，认知，疼痛，意识，皮肤，神经运动（肌肉、骨骼）系统与功能，呼吸，循环，消化，排便功能，生殖泌尿功能，产前产后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063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健康相关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营养，睡眠与休息形态，身体活动，个人卫生，物质滥用（酒精或药品），家庭计划，健康指导，处方用药，特殊护理技术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651" name="矩形 5"/>
          <p:cNvSpPr/>
          <p:nvPr/>
        </p:nvSpPr>
        <p:spPr>
          <a:xfrm>
            <a:off x="1867320" y="1484280"/>
            <a:ext cx="546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诊断（问题）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4" name="矩形 5"/>
          <p:cNvSpPr/>
          <p:nvPr/>
        </p:nvSpPr>
        <p:spPr>
          <a:xfrm>
            <a:off x="233640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干预分类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395280" y="1989000"/>
          <a:ext cx="8209080" cy="4518000"/>
        </p:xfrm>
        <a:graphic>
          <a:graphicData uri="http://schemas.openxmlformats.org/drawingml/2006/table">
            <a:tbl>
              <a:tblPr/>
              <a:tblGrid>
                <a:gridCol w="1101600"/>
                <a:gridCol w="7107480"/>
              </a:tblGrid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项目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内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380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类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指导、指引和咨询，处理和程序，个案管理，监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841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目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解剖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生理，行为修正，膀胱功能护理，与他人感情，肠道功能护理，维持呼吸道的通畅，心脏功能护理，照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为人父母，长期卧床护理，沟通，应对技巧，日间护理，管教，伤口护理，医疗设备，教育，职业，环境，运动，家庭计划，喂养方法，财务，食物，行走训练与康复，生长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发育，家务管理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居住环境，人际关系，检验结果，相关法规，医疗照顾，药物作用及副作用，用药管理，协助用药安排，身体活动，辅助性护理活动，营养，营养咨询，造瘘口护理，其他社区资源，个人照护，体位，康复，放松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呼吸技巧，休息</a:t>
                      </a:r>
                      <a:r>
                        <a:rPr b="0" lang="en-US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/</a:t>
                      </a: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睡眠，安全，筛选，受伤护理，精神及情绪的症状，体征，皮肤护理，社会福利与咨询，化验标本收集，精神护理，促进身心发展的活动，压力管理，物质滥用，医疗器材，支持团体，交通运送，促进健康，其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2842920" y="304560"/>
            <a:ext cx="6072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诊断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8" name="矩形 5"/>
          <p:cNvSpPr/>
          <p:nvPr/>
        </p:nvSpPr>
        <p:spPr>
          <a:xfrm>
            <a:off x="2310840" y="1341360"/>
            <a:ext cx="461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2-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Verdana"/>
              </a:rPr>
              <a:t>Omah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Verdana"/>
              </a:rPr>
              <a:t>护理结果评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324000" y="1989000"/>
          <a:ext cx="8424720" cy="4175280"/>
        </p:xfrm>
        <a:graphic>
          <a:graphicData uri="http://schemas.openxmlformats.org/drawingml/2006/table">
            <a:tbl>
              <a:tblPr/>
              <a:tblGrid>
                <a:gridCol w="787320"/>
                <a:gridCol w="1884240"/>
                <a:gridCol w="1027080"/>
                <a:gridCol w="1198800"/>
                <a:gridCol w="1198440"/>
                <a:gridCol w="1123920"/>
                <a:gridCol w="1204920"/>
              </a:tblGrid>
              <a:tr h="5968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概念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含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6600"/>
                          </a:solidFill>
                          <a:latin typeface="Verdana"/>
                        </a:rPr>
                        <a:t>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27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记忆与解释信息的能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没有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一点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具有基本知识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程度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认知良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260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出的可被观察的反应或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完全不适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有一些适当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不是非常一致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通常是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一致且合适的行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90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个案表现的主、客观症状、体征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非常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严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普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很少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46ca6"/>
                          </a:solidFill>
                          <a:latin typeface="Verdana"/>
                        </a:rPr>
                        <a:t>没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62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二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计划的制订与实施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护理活动的指南，其目的是明确护理目标、确定护理要点、提供评价标准、设计实施方案。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护理计划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一种合作性的、有顺序的、循环的程序，以达到预期的目标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78920" y="1052280"/>
            <a:ext cx="9001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的排序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Mueck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与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Stanhope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＆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Lancaster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优先顺序确定方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问题的了解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对解决问题的动机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问题的严重程度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利用资源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0" name="文本框 5"/>
          <p:cNvSpPr/>
          <p:nvPr/>
        </p:nvSpPr>
        <p:spPr>
          <a:xfrm>
            <a:off x="3780000" y="3068640"/>
            <a:ext cx="518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预防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士解决问题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政策与目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解决问题的迅速性与持续的效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52360" y="1052640"/>
            <a:ext cx="8639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0000"/>
                </a:solidFill>
                <a:latin typeface="Verdana"/>
                <a:ea typeface="宋体"/>
              </a:rPr>
              <a:t>掌握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估的内容、方法；社区居民健康档案的主要内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692aa2"/>
                </a:solidFill>
                <a:latin typeface="Verdana"/>
                <a:ea typeface="宋体"/>
              </a:rPr>
              <a:t>熟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maha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诊断系统；社区护理中护理诊断排列顺序的原则；实施护理措施时的注意事项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i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了解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社区护理评价的步骤与内容；社区健康档案的管理与使用要求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2" name=""/>
          <p:cNvGraphicFramePr/>
          <p:nvPr/>
        </p:nvGraphicFramePr>
        <p:xfrm>
          <a:off x="395280" y="1844640"/>
          <a:ext cx="8353440" cy="4146480"/>
        </p:xfrm>
        <a:graphic>
          <a:graphicData uri="http://schemas.openxmlformats.org/drawingml/2006/table">
            <a:tbl>
              <a:tblPr/>
              <a:tblGrid>
                <a:gridCol w="1079640"/>
                <a:gridCol w="1025280"/>
                <a:gridCol w="808200"/>
                <a:gridCol w="809640"/>
                <a:gridCol w="809640"/>
                <a:gridCol w="809640"/>
                <a:gridCol w="777960"/>
                <a:gridCol w="841320"/>
                <a:gridCol w="807840"/>
                <a:gridCol w="584280"/>
              </a:tblGrid>
              <a:tr h="10796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及持续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636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022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80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3" name="Rectangle 1"/>
          <p:cNvSpPr/>
          <p:nvPr/>
        </p:nvSpPr>
        <p:spPr>
          <a:xfrm>
            <a:off x="684360" y="119772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-4    Mueck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75" name=""/>
          <p:cNvGraphicFramePr/>
          <p:nvPr/>
        </p:nvGraphicFramePr>
        <p:xfrm>
          <a:off x="130320" y="1773360"/>
          <a:ext cx="8864280" cy="4406760"/>
        </p:xfrm>
        <a:graphic>
          <a:graphicData uri="http://schemas.openxmlformats.org/drawingml/2006/table">
            <a:tbl>
              <a:tblPr/>
              <a:tblGrid>
                <a:gridCol w="1017360"/>
                <a:gridCol w="615960"/>
                <a:gridCol w="328680"/>
                <a:gridCol w="463680"/>
                <a:gridCol w="287280"/>
                <a:gridCol w="628560"/>
                <a:gridCol w="436680"/>
                <a:gridCol w="436320"/>
                <a:gridCol w="508320"/>
                <a:gridCol w="507960"/>
                <a:gridCol w="436320"/>
                <a:gridCol w="436680"/>
                <a:gridCol w="434880"/>
                <a:gridCol w="412920"/>
                <a:gridCol w="436320"/>
                <a:gridCol w="524160"/>
                <a:gridCol w="417240"/>
                <a:gridCol w="534960"/>
              </a:tblGrid>
              <a:tr h="95868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诊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对问题的了解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社区动机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问题的严重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可利用的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护理人员能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政策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快速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及持续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总和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1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资源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964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预防性的行为不足（乳腺癌筛检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8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5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9200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儿童龋齿预防知识缺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9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0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351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发生火灾的可能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6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3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285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6" name="Rectangle 1"/>
          <p:cNvSpPr/>
          <p:nvPr/>
        </p:nvSpPr>
        <p:spPr>
          <a:xfrm>
            <a:off x="1191240" y="1198080"/>
            <a:ext cx="67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-5   Stanhope &amp; Lancaster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护理诊断优先顺序确定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78920" y="1196640"/>
            <a:ext cx="87361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预期目标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期望服务对象在接受护理干预后所能达到的结果，包括功能、认知、情感及行为等方面的改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目标的制订应做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特定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测量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达到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的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有时间期限的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108000" y="1196640"/>
            <a:ext cx="892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目标可分为长期目标和短期目标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例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护理问题：婴儿营养不良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相关因素：社区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6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母亲对婴儿喂养方法的认识不足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长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营养状况得到改善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短期目标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8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正确演示。婴儿食品的制作；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内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00%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营养不良婴儿的母亲能按照营养师的建议为婴儿正确添加辅食。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制订目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书写目标时应注意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简单明了，使用可测量或可观察得到的词汇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一个护理诊断可制订多个目标，但是一个目标只针对一个护理诊断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目标陈述中要包括具体的评价日期和时间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可以使用长期目标与短期目标相结合的方法，实施起来更有针对性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179280" y="105264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拟定护理措施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原则：合理性和可行性 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分类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社区护理措施以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和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为主）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依赖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在医生指示下进行，如“遵医嘱给药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协作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与其他卫生专业人员商讨完成，如“协助理疗师共同为服务对象进行康复评定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ff6600"/>
                </a:solidFill>
                <a:latin typeface="Verdana"/>
                <a:ea typeface="宋体"/>
              </a:rPr>
              <a:t>独立性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护理措施：指护士独立完成，如“为服务对象提供健康教育和咨询”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护理计划的制定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计划成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表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-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　社区护理计划表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395280" y="2781360"/>
          <a:ext cx="8353440" cy="3014640"/>
        </p:xfrm>
        <a:graphic>
          <a:graphicData uri="http://schemas.openxmlformats.org/drawingml/2006/table">
            <a:tbl>
              <a:tblPr/>
              <a:tblGrid>
                <a:gridCol w="1392120"/>
                <a:gridCol w="1392480"/>
                <a:gridCol w="1392120"/>
                <a:gridCol w="1392120"/>
                <a:gridCol w="1392480"/>
                <a:gridCol w="1392120"/>
              </a:tblGrid>
              <a:tr h="64764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相关因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具体目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计划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92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实施内容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执行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时间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Verdana"/>
                          <a:ea typeface="Verdana"/>
                        </a:rPr>
                        <a:t>场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社区护理计划的实施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179280" y="1125360"/>
            <a:ext cx="8640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将所制订计划付诸实践，是针对护理目标而采取的行动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前的准备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计划行动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实施后的记录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方式：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IO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problem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intervention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，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outcome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格式，即问题、措施、结果的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记录要求及时、准确、真实、重点突出，为下一步的评价工作奠定基础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98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99" name="TextBox 6"/>
          <p:cNvSpPr/>
          <p:nvPr/>
        </p:nvSpPr>
        <p:spPr>
          <a:xfrm>
            <a:off x="2400480" y="2205000"/>
            <a:ext cx="6337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三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护理的效果评价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评价形式</a:t>
            </a: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	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过程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形成性评价，是在护理程序的各个阶段进行评价，一直到护理活动不断完善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	</a:t>
            </a: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结果评价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：也称终结性评价，是在服务对象经过各项计划执行后，针对护理活动的近期和远期效果进行评价，判断实施计划后的效果是否与预期目标相一致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3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位于某城市高校区附件的宏宇小区是一个新兴的居民住宅小区。该小区内住户大部分为高级知识分子，少部分为在该小区旁菜市场、商店里工作的民工。该小区内的人群年龄分布以中年人和老年人为主。大部分仍然工作在教学科研一线，工作压力较大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均为高层楼房，由于是新建小区，因此楼梯走廊比较明亮、少堆积物，但有部分楼道内的灭火器缺失。多数住户数值火警电话，但不会使用防火器械。小区内绿化好，水泥路面平整通畅。地下车库还没有建成使用，因此小区内停车比较拥堵，机动车占用了一半的人行道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704" name="内容占位符 6" descr=""/>
          <p:cNvPicPr/>
          <p:nvPr/>
        </p:nvPicPr>
        <p:blipFill>
          <a:blip r:embed="rId1"/>
          <a:stretch/>
        </p:blipFill>
        <p:spPr>
          <a:xfrm>
            <a:off x="665280" y="1395360"/>
            <a:ext cx="7740360" cy="4462560"/>
          </a:xfrm>
          <a:prstGeom prst="rect">
            <a:avLst/>
          </a:prstGeom>
          <a:ln w="0">
            <a:noFill/>
          </a:ln>
        </p:spPr>
      </p:pic>
      <p:sp>
        <p:nvSpPr>
          <p:cNvPr id="7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常用社区护理相关评价指标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数量和质量的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资源投入评价指标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服务满意度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影响力评价指标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711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712" name="TextBox 6"/>
          <p:cNvSpPr/>
          <p:nvPr/>
        </p:nvSpPr>
        <p:spPr>
          <a:xfrm>
            <a:off x="2340000" y="1628640"/>
            <a:ext cx="64087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四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居民健康档案的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建立与管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社区居民健康档案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是记录与社区居民健康有关信息的系统性文件，是社区卫生技术人员全面掌握居民健康状况的基本工具，是居民提供连续性、综合性、协调性的社区卫生服务的重要依据，同时还是社区护理教学、社区护理研究和司法工作的重要参考资料。 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类型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档案主体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8" name=""/>
          <p:cNvSpPr txBox="1"/>
          <p:nvPr/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根据记录材质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纸质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1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主要针对社区卫生服务中心管辖范围内常住居民，包括居住半年以上的户籍及非户籍居民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以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0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岁儿童、孕产妇、老年人、慢性病患者和重性精神疾病患者等人群为重点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178920" y="1236600"/>
            <a:ext cx="873612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个人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问题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个人基本信息、健康体检、重点人群健康管理记录和其他医疗卫生服务记录。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  <a:ea typeface="宋体"/>
              </a:rPr>
              <a:t>以预防为导向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的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周期性健康检查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免疫接种记录表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3" marL="16002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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45760" y="1052280"/>
            <a:ext cx="80773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以“</a:t>
            </a:r>
            <a:r>
              <a:rPr b="1" lang="en-US" sz="3200" spc="-1" strike="noStrike">
                <a:solidFill>
                  <a:srgbClr val="046ca6"/>
                </a:solidFill>
                <a:latin typeface="Verdana"/>
                <a:ea typeface="宋体"/>
              </a:rPr>
              <a:t>S-O-A-P”</a:t>
            </a:r>
            <a:r>
              <a:rPr b="1" lang="zh-CN" sz="3200" spc="-1" strike="noStrike">
                <a:solidFill>
                  <a:srgbClr val="046ca6"/>
                </a:solidFill>
                <a:latin typeface="Verdana"/>
                <a:ea typeface="宋体"/>
              </a:rPr>
              <a:t>的形式对个人健康问题描述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8" name="Text Box 2"/>
          <p:cNvSpPr/>
          <p:nvPr/>
        </p:nvSpPr>
        <p:spPr>
          <a:xfrm>
            <a:off x="395280" y="1700280"/>
            <a:ext cx="8379000" cy="4897440"/>
          </a:xfrm>
          <a:prstGeom prst="rect">
            <a:avLst/>
          </a:prstGeom>
          <a:gradFill rotWithShape="0">
            <a:gsLst>
              <a:gs pos="0">
                <a:srgbClr val="bbd5f0"/>
              </a:gs>
              <a:gs pos="100000">
                <a:srgbClr val="9cbee0"/>
              </a:gs>
            </a:gsLst>
            <a:lin ang="5400000"/>
          </a:gradFill>
          <a:ln w="15840">
            <a:solidFill>
              <a:srgbClr val="739c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S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su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个体的主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由个体提供的主诉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症状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病史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家族史等。填写时尽量用个体的语言来描述，医护人员的主观看法不可加入其中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O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objective dat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医生诊疗过程中观察到的个体资料，包括体征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实验室检查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X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线检查的资料以及个体的态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行为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A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assessment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SOAP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中最重要的部分，应包括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鉴别诊断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与其他问题的关系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问题的轻重程度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预后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--P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plan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）</a:t>
            </a:r>
            <a:r>
              <a:rPr b="1" lang="en-US" sz="2400" spc="-1" strike="noStrike">
                <a:solidFill>
                  <a:srgbClr val="ff66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ff6600"/>
                </a:solidFill>
                <a:latin typeface="Verdana"/>
              </a:rPr>
              <a:t>计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是针对问题而提出的，每一问题都有相应的计划，包括诊断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治疗计划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个体指导等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健康档案的内容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0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家庭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基本资料　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评估资料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主要健康问题目录及健康问题描述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家庭成员健康记录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"/>
          <p:cNvSpPr txBox="1"/>
          <p:nvPr/>
        </p:nvSpPr>
        <p:spPr>
          <a:xfrm>
            <a:off x="468360" y="1236600"/>
            <a:ext cx="8447040" cy="50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en-US" sz="3200" spc="-1" strike="noStrike">
                <a:solidFill>
                  <a:srgbClr val="0070c0"/>
                </a:solidFill>
                <a:latin typeface="Verdana"/>
              </a:rPr>
              <a:t>社区</a:t>
            </a: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健康档案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基本资料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资源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卫生服务状况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居民健康状况 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Wingdings" charset="2"/>
              <a:buChar char=""/>
            </a:pP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4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二、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健康档案的内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17" name="Picture 15" descr="Chalkboard3"/>
          <p:cNvPicPr/>
          <p:nvPr/>
        </p:nvPicPr>
        <p:blipFill>
          <a:blip r:embed="rId1"/>
          <a:srcRect l="0" t="2168" r="0" b="0"/>
          <a:stretch/>
        </p:blipFill>
        <p:spPr>
          <a:xfrm>
            <a:off x="-181080" y="836640"/>
            <a:ext cx="9577440" cy="612144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1260360" y="1268280"/>
            <a:ext cx="64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小区内有一所小学，但校门开放方向正好面对社区外的马路，距离马路的距离也较近。小区内有棋牌室、麻将室，但是光顾的人不多。小区内无正式宗教团体。小区内有药店，但离社区医疗服务中心距离比较远，需要换乘公交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次才能到达。社区卫生服务中心以白天门诊服务为主，夜晚无就医条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社区医护人员在建档时发现该社区居民的高血压患病率为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23.2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，相比于全国成人高血压患病率平均水平高（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8.8%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</a:rPr>
              <a:t>）。通过与居民交谈后得知多数居民喜欢吃咸食，少运动，居民们对高血压疾病的相关知识了解不够，缺乏自我保护意识和保健知识。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    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社区居民健康档案的管理与使用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7" name="内容占位符 1" descr=""/>
          <p:cNvPicPr/>
          <p:nvPr/>
        </p:nvPicPr>
        <p:blipFill>
          <a:blip r:embed="rId1"/>
          <a:stretch/>
        </p:blipFill>
        <p:spPr>
          <a:xfrm>
            <a:off x="-6480" y="1352520"/>
            <a:ext cx="940608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39" name="Object 2"/>
          <p:cNvGraphicFramePr/>
          <p:nvPr/>
        </p:nvGraphicFramePr>
        <p:xfrm>
          <a:off x="928800" y="214200"/>
          <a:ext cx="6858000" cy="636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8800" y="214200"/>
                    <a:ext cx="6858000" cy="6367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41" name="TextBox 4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1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确定建档对象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744" name="Object 1"/>
          <p:cNvGraphicFramePr/>
          <p:nvPr/>
        </p:nvGraphicFramePr>
        <p:xfrm>
          <a:off x="571680" y="214200"/>
          <a:ext cx="7362720" cy="642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5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680" y="214200"/>
                    <a:ext cx="7362720" cy="642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6" name="TextBox 5"/>
          <p:cNvSpPr/>
          <p:nvPr/>
        </p:nvSpPr>
        <p:spPr>
          <a:xfrm>
            <a:off x="7732080" y="1143000"/>
            <a:ext cx="9118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图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2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居民健康档案管理流程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 txBox="1"/>
          <p:nvPr/>
        </p:nvSpPr>
        <p:spPr>
          <a:xfrm>
            <a:off x="179280" y="1196640"/>
            <a:ext cx="885672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建档工作的考核指标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档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电子健康档案建档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建立电子健康档案人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辖区内常住居民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合格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填写合格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健康档案使用率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中有动态记录的档案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抽查档案总份数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×100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％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(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有动态记录的档案是指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70c0"/>
                </a:solidFill>
                <a:latin typeface="Verdana"/>
                <a:ea typeface="宋体"/>
              </a:rPr>
              <a:t>年内有符合各项服务规范要求的相关服务记录的健康档案</a:t>
            </a:r>
            <a:r>
              <a:rPr b="1" lang="en-US" sz="1800" spc="-1" strike="noStrike">
                <a:solidFill>
                  <a:srgbClr val="0070c0"/>
                </a:solidFill>
                <a:latin typeface="Verdana"/>
                <a:ea typeface="宋体"/>
              </a:rPr>
              <a:t>)</a:t>
            </a: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endParaRPr b="1" lang="en-US" sz="1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7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9" name="标题 1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三、社区居民健康档案的管理与使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1" name="TextBox 7"/>
          <p:cNvSpPr/>
          <p:nvPr/>
        </p:nvSpPr>
        <p:spPr>
          <a:xfrm>
            <a:off x="468360" y="1484280"/>
            <a:ext cx="7920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Verdana"/>
              </a:rPr>
              <a:t>作为一名工作在这个社区的护士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除了目前已有的评估资料外，你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需要对这个社区补充哪些评估资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本例中所得到的社区护理问题较多，你将以何种原则对这些社区护理问题进行排序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为这个社区的人群设计干预计划时，如何根据社区人群的文化程度来考虑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2" name="Picture 2" descr="http://down.tutu001.com/d/file/20120217/373dcfb4c8f401a2c8be033836_560.jpg"/>
          <p:cNvPicPr/>
          <p:nvPr/>
        </p:nvPicPr>
        <p:blipFill>
          <a:blip r:embed="rId1"/>
          <a:srcRect l="9449" t="12529" r="9550" b="12292"/>
          <a:stretch/>
        </p:blipFill>
        <p:spPr>
          <a:xfrm>
            <a:off x="6875640" y="1197000"/>
            <a:ext cx="192060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625" name="图片 6" descr="4.png"/>
          <p:cNvPicPr/>
          <p:nvPr/>
        </p:nvPicPr>
        <p:blipFill>
          <a:blip r:embed="rId1"/>
          <a:stretch/>
        </p:blipFill>
        <p:spPr>
          <a:xfrm>
            <a:off x="468360" y="1628640"/>
            <a:ext cx="8280360" cy="48704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6"/>
          <p:cNvSpPr/>
          <p:nvPr/>
        </p:nvSpPr>
        <p:spPr>
          <a:xfrm>
            <a:off x="3059280" y="2421000"/>
            <a:ext cx="54003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第一节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社区评估与诊断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定义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收集社区实际存在和潜在健康问题有关资料的过程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目的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发现社区健康问题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找出导致问题的相关因素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为社区护理诊断和计划提供依据。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2771640" y="304560"/>
            <a:ext cx="61437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1" name="内容占位符 5" descr=""/>
          <p:cNvPicPr/>
          <p:nvPr/>
        </p:nvPicPr>
        <p:blipFill>
          <a:blip r:embed="rId1"/>
          <a:stretch/>
        </p:blipFill>
        <p:spPr>
          <a:xfrm>
            <a:off x="-476280" y="974880"/>
            <a:ext cx="12760200" cy="5591160"/>
          </a:xfrm>
          <a:prstGeom prst="rect">
            <a:avLst/>
          </a:prstGeom>
          <a:ln w="0">
            <a:noFill/>
          </a:ln>
        </p:spPr>
      </p:pic>
      <p:sp>
        <p:nvSpPr>
          <p:cNvPr id="6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一、社区评估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179280" y="1125360"/>
            <a:ext cx="8856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</a:pPr>
            <a:r>
              <a:rPr b="1" lang="zh-CN" sz="3200" spc="-1" strike="noStrike">
                <a:solidFill>
                  <a:srgbClr val="0070c0"/>
                </a:solidFill>
                <a:latin typeface="Verdana"/>
                <a:ea typeface="宋体"/>
              </a:rPr>
              <a:t>社区评估的</a:t>
            </a:r>
            <a:r>
              <a:rPr b="1" lang="zh-CN" sz="3200" spc="-1" strike="noStrike">
                <a:solidFill>
                  <a:srgbClr val="ff6600"/>
                </a:solidFill>
                <a:latin typeface="Verdana"/>
                <a:ea typeface="宋体"/>
              </a:rPr>
              <a:t>方法</a:t>
            </a:r>
            <a:endParaRPr b="1" lang="en-US" sz="32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实地考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2" marL="1143000" indent="-228600">
              <a:lnSpc>
                <a:spcPct val="150000"/>
              </a:lnSpc>
              <a:buClr>
                <a:srgbClr val="046ca6"/>
              </a:buClr>
              <a:buFont typeface="Arial"/>
              <a:buChar char="•"/>
            </a:pP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挡风玻璃式调查（</a:t>
            </a:r>
            <a:r>
              <a:rPr b="1" lang="en-US" sz="2400" spc="-1" strike="noStrike">
                <a:solidFill>
                  <a:srgbClr val="0070c0"/>
                </a:solidFill>
                <a:latin typeface="Verdana"/>
                <a:ea typeface="宋体"/>
              </a:rPr>
              <a:t>windshield survey</a:t>
            </a:r>
            <a:r>
              <a:rPr b="1" lang="zh-CN" sz="2400" spc="-1" strike="noStrike">
                <a:solidFill>
                  <a:srgbClr val="0070c0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重点人物访谈（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key informants interview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问卷调查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查阅文献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参与式观察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社区讨论</a:t>
            </a: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buClr>
                <a:srgbClr val="8ac8de"/>
              </a:buClr>
              <a:buFont typeface="Wingdings" charset="2"/>
              <a:buChar char=""/>
            </a:pPr>
            <a:endParaRPr b="1" lang="en-US" sz="2800" spc="-1" strike="noStrike">
              <a:solidFill>
                <a:srgbClr val="0070c0"/>
              </a:solidFill>
              <a:latin typeface="Verdana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6-03-11T03:15:35Z</dcterms:modified>
  <cp:revision>53</cp:revision>
  <dc:subject/>
  <dc:title>第二章 以社区为中心的护理</dc:title>
</cp:coreProperties>
</file>