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2DA40-A690-47F9-BD58-2C795D38C66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F677-D06D-40C7-979E-9551FE8ACC0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F6504-DF8F-4550-8860-F2A1B6A0021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78B93-B264-4941-A7D7-89720CE7A0B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01C68210-325F-401B-8A59-B64EB023B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FA23489-15DD-4C33-9655-FBFAB504ED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5D81770-8B92-42B0-8F73-355B56C7EF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737560D2-DD2B-443A-AC7D-C8D5CD2C5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CDD621B-EF2A-4D44-8046-A58102AE4D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DA2841B-8283-4B6F-93A4-02B756EA37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F935785-0C8D-4BC4-A445-2EA5F60256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EBC2A8B3-F963-4B40-A182-B617BCBF81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CC5CE9D-80D1-43EA-99D2-8A86BBE7DF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5A6CFE4-AC83-4CF6-84BF-9F8780F827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C4826CA-E6AC-4567-9899-59C4371402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E7A03-4027-4C1F-B366-B4ACFC42D06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九章 </a:t>
            </a:r>
            <a:br>
              <a:rPr sz="4400"/>
            </a:br>
            <a:r>
              <a:rPr b="1" lang="zh-CN" sz="4400" spc="-1" strike="noStrike">
                <a:solidFill>
                  <a:srgbClr val="ffffff"/>
                </a:solidFill>
                <a:latin typeface="黑体"/>
              </a:rPr>
              <a:t>临终关怀与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临终患者的身心护理</a:t>
            </a:r>
            <a:endParaRPr b="1" lang="en-US" sz="4400" spc="-1" strike="noStrike">
              <a:solidFill>
                <a:srgbClr val="ffffff"/>
              </a:solidFill>
              <a:latin typeface="黑体"/>
            </a:endParaRPr>
          </a:p>
        </p:txBody>
      </p:sp>
      <p:sp>
        <p:nvSpPr>
          <p:cNvPr id="129" name=""/>
          <p:cNvSpPr txBox="1"/>
          <p:nvPr/>
        </p:nvSpPr>
        <p:spPr>
          <a:xfrm>
            <a:off x="375840" y="1700280"/>
            <a:ext cx="8474040" cy="394488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护理的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及护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家属的安抚及护理</a:t>
            </a:r>
            <a:endParaRPr b="1" lang="en-US" sz="32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护理的概念</a:t>
            </a:r>
            <a:endParaRPr b="1" lang="en-US" sz="4400" spc="-1" strike="noStrike">
              <a:solidFill>
                <a:srgbClr val="ffffff"/>
              </a:solidFill>
              <a:latin typeface="黑体"/>
            </a:endParaRPr>
          </a:p>
        </p:txBody>
      </p:sp>
      <p:sp>
        <p:nvSpPr>
          <p:cNvPr id="131" name=""/>
          <p:cNvSpPr txBox="1"/>
          <p:nvPr/>
        </p:nvSpPr>
        <p:spPr>
          <a:xfrm>
            <a:off x="117360" y="2060280"/>
            <a:ext cx="8786880" cy="3079800"/>
          </a:xfrm>
          <a:prstGeom prst="rect">
            <a:avLst/>
          </a:prstGeom>
          <a:noFill/>
          <a:ln w="0">
            <a:noFill/>
          </a:ln>
        </p:spPr>
        <p:txBody>
          <a:bodyPr anchor="t">
            <a:normAutofit/>
          </a:bodyPr>
          <a:p>
            <a:pPr marL="572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护理（</a:t>
            </a:r>
            <a:r>
              <a:rPr b="1" lang="en-US" sz="3200" spc="-1" strike="noStrike">
                <a:solidFill>
                  <a:srgbClr val="000000"/>
                </a:solidFill>
                <a:latin typeface="宋体"/>
              </a:rPr>
              <a:t>hospice nurse</a:t>
            </a:r>
            <a:r>
              <a:rPr b="1" lang="zh-CN" sz="3200" spc="-1" strike="noStrike">
                <a:solidFill>
                  <a:srgbClr val="000000"/>
                </a:solidFill>
                <a:latin typeface="宋体"/>
              </a:rPr>
              <a:t>）是对那些已经失去治愈希望的患者在生命即将结束时所实施的一种积极的综合护理，是临终关怀的重要组成部分。</a:t>
            </a:r>
            <a:endParaRPr b="1" lang="en-US" sz="3200" spc="-1" strike="noStrike">
              <a:solidFill>
                <a:srgbClr val="000000"/>
              </a:solidFill>
              <a:latin typeface="宋体"/>
            </a:endParaRPr>
          </a:p>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生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循环功能减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呼吸功能减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胃肠道功能紊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肉张力丧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意识改变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觉、知觉改变 </a:t>
            </a:r>
            <a:endParaRPr b="1" lang="en-US" sz="28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维持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循环与呼吸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感知觉改变的影响</a:t>
            </a:r>
            <a:endParaRPr b="1" lang="en-US" sz="28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患者的生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患者的心理变化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否认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愤怒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议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忧郁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受期 </a:t>
            </a:r>
            <a:endParaRPr b="1" lang="en-US" sz="28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患者的心理变化及护理</a:t>
            </a:r>
            <a:r>
              <a:rPr b="0" lang="zh-CN" sz="4400" spc="-1" strike="noStrike">
                <a:solidFill>
                  <a:srgbClr val="ffffff"/>
                </a:solidFill>
                <a:latin typeface="隶书"/>
                <a:ea typeface="隶书"/>
              </a:rPr>
              <a:t> </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12480" y="1989000"/>
            <a:ext cx="8474040" cy="3151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满足家属照顾患者的需要</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家属精神和心理的关心和支持愤怒期</a:t>
            </a:r>
            <a:endParaRPr b="1" lang="en-US" sz="32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患者家属的安抚及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和死亡的概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的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过程的分期</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患者家属的安抚及护理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3" name="Rectangle 2"/>
          <p:cNvSpPr/>
          <p:nvPr/>
        </p:nvSpPr>
        <p:spPr>
          <a:xfrm>
            <a:off x="324000" y="333360"/>
            <a:ext cx="8580240" cy="71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死亡相关概念和患者死后的护理</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23640" y="1017360"/>
            <a:ext cx="8474040" cy="5500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 </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濒死，是指由于疾病末期或意外事故而造成人体主要器官生理功能衰竭，患者虽已接受治疗性和姑息性的治疗，但病情加速恶化，各种迹象显示生命活动将要走向终点的状态。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a:p>
            <a:pPr lvl="1" marL="39996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死亡是机体完整性的解体，是个体生命活动和新陈代谢的永久停止。 </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濒死和死亡的概念</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死亡的标准</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统死亡标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脑死亡标准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逆的深度昏迷</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发呼吸停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干反射消失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电波消失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23640" y="1483920"/>
            <a:ext cx="8474040" cy="430524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临终关怀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协助临终患者的身心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死亡相关概念和患者死亡后的护理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死亡过程的分期</a:t>
            </a:r>
            <a:endParaRPr b="1" lang="en-US" sz="4400" spc="-1" strike="noStrike">
              <a:solidFill>
                <a:srgbClr val="ffffff"/>
              </a:solidFill>
              <a:latin typeface="黑体"/>
            </a:endParaRPr>
          </a:p>
        </p:txBody>
      </p:sp>
      <p:sp>
        <p:nvSpPr>
          <p:cNvPr id="149" name=""/>
          <p:cNvSpPr txBox="1"/>
          <p:nvPr/>
        </p:nvSpPr>
        <p:spPr>
          <a:xfrm>
            <a:off x="356760" y="1356840"/>
            <a:ext cx="8474040" cy="521676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濒死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死亡期</a:t>
            </a:r>
            <a:endParaRPr b="1" lang="en-US" sz="32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学死亡期</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冷</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斑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僵 </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尸体腐败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死亡患者的护理</a:t>
            </a:r>
            <a:endParaRPr b="1" lang="en-US" sz="4400" spc="-1" strike="noStrike">
              <a:solidFill>
                <a:srgbClr val="ffffff"/>
              </a:solidFill>
              <a:latin typeface="黑体"/>
            </a:endParaRPr>
          </a:p>
        </p:txBody>
      </p:sp>
      <p:sp>
        <p:nvSpPr>
          <p:cNvPr id="151" name=""/>
          <p:cNvSpPr txBox="1"/>
          <p:nvPr/>
        </p:nvSpPr>
        <p:spPr>
          <a:xfrm>
            <a:off x="142560" y="2060280"/>
            <a:ext cx="8474040" cy="2576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物品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死亡患者家属的安抚及护理</a:t>
            </a:r>
            <a:endParaRPr b="1" lang="en-US" sz="4400" spc="-1" strike="noStrike">
              <a:solidFill>
                <a:srgbClr val="ffffff"/>
              </a:solidFill>
              <a:latin typeface="黑体"/>
            </a:endParaRPr>
          </a:p>
        </p:txBody>
      </p:sp>
      <p:sp>
        <p:nvSpPr>
          <p:cNvPr id="153" name=""/>
          <p:cNvSpPr txBox="1"/>
          <p:nvPr/>
        </p:nvSpPr>
        <p:spPr>
          <a:xfrm>
            <a:off x="142560" y="1699920"/>
            <a:ext cx="8474040" cy="410508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好死亡患者遗体护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鼓励家属宣泄感情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精神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供生活指导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随访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单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现代医学已开始主张死亡的依据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脑死亡</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心电图平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尸斑出现的部位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头顶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面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腹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胸部</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最低部位</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5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最后消失的感觉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视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听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触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嗅觉</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味觉</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4. </a:t>
            </a:r>
            <a:r>
              <a:rPr b="1" lang="zh-CN" sz="3200" spc="-1" strike="noStrike">
                <a:solidFill>
                  <a:srgbClr val="000000"/>
                </a:solidFill>
                <a:latin typeface="宋体"/>
              </a:rPr>
              <a:t>临终患者最早出现的心理反应期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忧郁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愤怒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否认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接受期</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协议期</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 </a:t>
            </a:r>
            <a:r>
              <a:rPr b="1" lang="zh-CN" sz="3200" spc="-1" strike="noStrike">
                <a:solidFill>
                  <a:srgbClr val="000000"/>
                </a:solidFill>
                <a:latin typeface="宋体"/>
              </a:rPr>
              <a:t>对否认期患者的护理中，不妥的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根据患者对病情的认识程度进行沟通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与其他医务人员及家属保持一致</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应引导患者正视现实</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维持患者适当的希望</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经常陪伴患者</a:t>
            </a:r>
            <a:endParaRPr b="1" lang="en-US" sz="3200" spc="-1" strike="noStrike">
              <a:solidFill>
                <a:srgbClr val="000000"/>
              </a:solidFill>
              <a:latin typeface="宋体"/>
            </a:endParaRPr>
          </a:p>
          <a:p>
            <a:pPr lvl="1" marL="3999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5" name=""/>
          <p:cNvSpPr txBox="1"/>
          <p:nvPr/>
        </p:nvSpPr>
        <p:spPr>
          <a:xfrm>
            <a:off x="357120" y="1285920"/>
            <a:ext cx="878688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6. </a:t>
            </a:r>
            <a:r>
              <a:rPr b="1" lang="zh-CN" sz="3200" spc="-1" strike="noStrike">
                <a:solidFill>
                  <a:srgbClr val="000000"/>
                </a:solidFill>
                <a:latin typeface="宋体"/>
              </a:rPr>
              <a:t>护理处于愤怒期的临终患者，不妥的一项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可适当回避患者</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尽量让患者表达其愤怒，发泄内心的不快</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理解患者的痛苦</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给予安抚和疏导</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多陪伴患者</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7"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7. </a:t>
            </a:r>
            <a:r>
              <a:rPr b="1" lang="zh-CN" sz="3200" spc="-1" strike="noStrike">
                <a:solidFill>
                  <a:srgbClr val="000000"/>
                </a:solidFill>
                <a:latin typeface="宋体"/>
              </a:rPr>
              <a:t>临终关怀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以治疗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以护理为主</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以治愈为主的治疗</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以对症为主的照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关心患者生活</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509760" y="1844280"/>
            <a:ext cx="8208720" cy="309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临终、临终关怀的概念。</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描述临终患者各阶段的生理评估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脑死亡的诊断标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69"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多项选择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 </a:t>
            </a:r>
            <a:r>
              <a:rPr b="1" lang="zh-CN" sz="3200" spc="-1" strike="noStrike">
                <a:solidFill>
                  <a:srgbClr val="000000"/>
                </a:solidFill>
                <a:latin typeface="宋体"/>
              </a:rPr>
              <a:t>临床死亡期指征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呼吸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心搏停止</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各种反射消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出现尸冷</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瞳孔散大</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1"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 </a:t>
            </a:r>
            <a:r>
              <a:rPr b="1" lang="zh-CN" sz="3200" spc="-1" strike="noStrike">
                <a:solidFill>
                  <a:srgbClr val="000000"/>
                </a:solidFill>
                <a:latin typeface="宋体"/>
              </a:rPr>
              <a:t>属于临终患者的临床表现是</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肌肉震颤</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意识改变</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呼吸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循环衰竭</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各种深浅反射逐渐消失</a:t>
            </a:r>
            <a:endParaRPr b="1" lang="en-US" sz="3200" spc="-1" strike="noStrike">
              <a:solidFill>
                <a:srgbClr val="000000"/>
              </a:solidFill>
              <a:latin typeface="宋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3"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 </a:t>
            </a:r>
            <a:r>
              <a:rPr b="1" lang="zh-CN" sz="3200" spc="-1" strike="noStrike">
                <a:solidFill>
                  <a:srgbClr val="000000"/>
                </a:solidFill>
                <a:latin typeface="宋体"/>
              </a:rPr>
              <a:t>临终患者循环衰竭的表现包括</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心率出现紊乱</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脉搏细速而不规则</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血压上升</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皮肤苍白</a:t>
            </a:r>
            <a:r>
              <a:rPr b="1" lang="en-US" sz="3200" spc="-1" strike="noStrike">
                <a:solidFill>
                  <a:srgbClr val="000000"/>
                </a:solidFill>
                <a:latin typeface="宋体"/>
              </a:rPr>
              <a:t>           </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口唇指甲青紫</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测题</a:t>
            </a:r>
            <a:endParaRPr b="1" lang="en-US" sz="4400" spc="-1" strike="noStrike">
              <a:solidFill>
                <a:srgbClr val="ffffff"/>
              </a:solidFill>
              <a:latin typeface="黑体"/>
            </a:endParaRPr>
          </a:p>
        </p:txBody>
      </p:sp>
      <p:sp>
        <p:nvSpPr>
          <p:cNvPr id="175" name=""/>
          <p:cNvSpPr txBox="1"/>
          <p:nvPr/>
        </p:nvSpPr>
        <p:spPr>
          <a:xfrm>
            <a:off x="356760" y="1285920"/>
            <a:ext cx="8474040" cy="5216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案例题</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贾先生，</a:t>
            </a:r>
            <a:r>
              <a:rPr b="1" lang="en-US" sz="3200" spc="-1" strike="noStrike">
                <a:solidFill>
                  <a:srgbClr val="000000"/>
                </a:solidFill>
                <a:latin typeface="宋体"/>
              </a:rPr>
              <a:t>65</a:t>
            </a:r>
            <a:r>
              <a:rPr b="1" lang="zh-CN" sz="3200" spc="-1" strike="noStrike">
                <a:solidFill>
                  <a:srgbClr val="000000"/>
                </a:solidFill>
                <a:latin typeface="宋体"/>
              </a:rPr>
              <a:t>岁，肺癌广泛转移，病情日趋恶化，但患者对自己的病情抱有希望，积极配合医护人员治疗和护理。</a:t>
            </a:r>
            <a:endParaRPr b="1" lang="en-US" sz="3200" spc="-1" strike="noStrike">
              <a:solidFill>
                <a:srgbClr val="000000"/>
              </a:solidFill>
              <a:latin typeface="宋体"/>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问题：</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患者处于临终患者心理反应的哪个阶段？</a:t>
            </a:r>
            <a:endParaRPr b="1" lang="en-US" sz="3200" spc="-1" strike="noStrike">
              <a:solidFill>
                <a:srgbClr val="000000"/>
              </a:solidFill>
              <a:latin typeface="宋体"/>
            </a:endParaRPr>
          </a:p>
          <a:p>
            <a:pPr lvl="1" marL="399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针对患者的特殊心理反应，护士应如何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552240" y="119664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陈述临终关怀的内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明临终关怀的原则。</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临终患者各阶段的生理、心理变化及护理措施。</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比较死亡过程各期的表现和特点。</a:t>
            </a:r>
            <a:endParaRPr b="1" lang="en-US" sz="2800" spc="-1" strike="noStrike">
              <a:solidFill>
                <a:srgbClr val="000000"/>
              </a:solidFill>
              <a:latin typeface="宋体"/>
            </a:endParaRPr>
          </a:p>
          <a:p>
            <a:pPr lvl="1" marL="399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死亡患者和家属的护理内容。 </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2800" spc="-1" strike="noStrike">
                <a:solidFill>
                  <a:srgbClr val="000000"/>
                </a:solidFill>
                <a:latin typeface="宋体"/>
              </a:rPr>
              <a:t>在临床实践中，能根据临终患者和家属的情况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临终关怀</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概念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基本原则 </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终关怀的内容 </a:t>
            </a: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临终的概念</a:t>
            </a:r>
            <a:endParaRPr b="1" lang="en-US" sz="4400" spc="-1" strike="noStrike">
              <a:solidFill>
                <a:srgbClr val="ffffff"/>
              </a:solidFill>
              <a:latin typeface="黑体"/>
            </a:endParaRPr>
          </a:p>
        </p:txBody>
      </p:sp>
      <p:sp>
        <p:nvSpPr>
          <p:cNvPr id="121" name=""/>
          <p:cNvSpPr txBox="1"/>
          <p:nvPr/>
        </p:nvSpPr>
        <p:spPr>
          <a:xfrm>
            <a:off x="323640" y="2133720"/>
            <a:ext cx="8474040" cy="22874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指临近死亡的阶段。是指患者在已接受治疗性或姑息性治疗后，虽然意识清醒，但病情加速恶化，各种迹象显示生命即将终结。</a:t>
            </a:r>
            <a:endParaRPr b="1" lang="en-US" sz="32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临终关怀的概念</a:t>
            </a:r>
            <a:endParaRPr b="1" lang="en-US" sz="4400" spc="-1" strike="noStrike">
              <a:solidFill>
                <a:srgbClr val="ffffff"/>
              </a:solidFill>
              <a:latin typeface="黑体"/>
            </a:endParaRPr>
          </a:p>
        </p:txBody>
      </p:sp>
      <p:sp>
        <p:nvSpPr>
          <p:cNvPr id="123" name=""/>
          <p:cNvSpPr txBox="1"/>
          <p:nvPr/>
        </p:nvSpPr>
        <p:spPr>
          <a:xfrm>
            <a:off x="323640" y="2133360"/>
            <a:ext cx="8474040" cy="388764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临终关怀（</a:t>
            </a:r>
            <a:r>
              <a:rPr b="1" lang="en-US" sz="3200" spc="-1" strike="noStrike">
                <a:solidFill>
                  <a:srgbClr val="000000"/>
                </a:solidFill>
                <a:latin typeface="宋体"/>
              </a:rPr>
              <a:t>hospicecare</a:t>
            </a:r>
            <a:r>
              <a:rPr b="1" lang="zh-CN" sz="3200" spc="-1" strike="noStrike">
                <a:solidFill>
                  <a:srgbClr val="000000"/>
                </a:solidFill>
                <a:latin typeface="宋体"/>
              </a:rPr>
              <a:t>）是指由社会各层次人员（护士、医生、志愿者、宗教人士、社会工作者以及慈善团体和政府等）组成的团队为临终患者及其家属提供的包括生理、心理和社会等方面的一种全面的支持和照料。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3640" y="169992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照顾为主</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重心理支持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提高生命质量</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生命尊严 </a:t>
            </a:r>
            <a:endParaRPr b="1" lang="en-US" sz="32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临终关怀的基本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23640" y="2060280"/>
            <a:ext cx="8474040" cy="38005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全方位照顾，满足患者的需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尊重患者的权利，支持患者的选择</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家属提供心理安慰与支持</a:t>
            </a:r>
            <a:endParaRPr b="1" lang="en-US" sz="3200" spc="-1" strike="noStrike">
              <a:solidFill>
                <a:srgbClr val="000000"/>
              </a:solidFill>
              <a:latin typeface="宋体"/>
            </a:endParaRPr>
          </a:p>
        </p:txBody>
      </p:sp>
      <p:sp>
        <p:nvSpPr>
          <p:cNvPr id="12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临终关怀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3:18:37Z</dcterms:created>
  <dc:creator>Microsoft Office 用户</dc:creator>
  <dc:description/>
  <dc:language>en-US</dc:language>
  <cp:lastModifiedBy>赵欣</cp:lastModifiedBy>
  <dcterms:modified xsi:type="dcterms:W3CDTF">2016-01-22T08:42:04Z</dcterms:modified>
  <cp:revision>31</cp:revision>
  <dc:subject/>
  <dc:title>第十九章  临终关怀与护理 </dc:title>
</cp:coreProperties>
</file>