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C5DB-E020-4F74-9B76-1C5702F3FAB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531F-DAB7-4B10-9836-FD720A803B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0C57-CA15-4BE9-8443-3823CEF17C4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E981-ED9B-4E54-B4CE-6DFE3C37FF0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C9DD-0AAD-4E27-B977-E68B03F738E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2932-9A88-4D13-9346-0532C8C4282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1A00-96C1-4E46-8F76-3B701746C9A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9793-939A-4B4E-B34F-7A1E4406AF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224F5-5C82-4C0F-9E15-0C41C4507B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7766-C86E-4506-8A3B-98712BF480F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C6C0-CC98-41CA-BB5E-1B37AFD4083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7D38-08F3-45D1-992E-5401FA81378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69F1A-8D3B-4396-90EB-DAFDBB2DC41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19DA-514B-47F0-A21F-C08A0698D2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9613-8876-4850-A993-5C8ECF83AD2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99DC-79CE-4698-B81D-2B5BEFAEC19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B06EF-99B0-4860-A3E7-8EA5DFC1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5632-8643-47CD-94C6-1590F136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1EC09-C359-458B-8B01-5EBBD11D7E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F6EC6-5E3B-4EAD-A0AA-E0E31CF5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A0DC-C6AE-4CC6-8112-FA67E31EB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2E97-0F48-4F23-AACF-3B3C6101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846DC-CFE5-4524-A194-64AD52DF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B133-EF26-4B49-94FB-4708DB11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0AC7-9190-4C26-80ED-CAFB178F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A0C0A-43E1-4DF7-895D-A0DFD5B5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D99E-E7E7-49F2-A3A1-A6F53F90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7184-3A5F-4907-B390-CE97F52753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2050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危重患者的急救与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75840" y="1628280"/>
            <a:ext cx="847404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颤器的使用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法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通气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常用急救技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ardiopulmonary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对由于外伤、疾病、中毒、意外低温、淹溺和电击等各种原因，导致呼吸、心搏骤停，必须紧急采取重建和促进心脏、呼吸有效功能恢复的一系列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3640" y="942840"/>
            <a:ext cx="84740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脑复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rdiopulmonary cerebral resuscit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PCR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复苏可分为三个阶段：基础生命支持、高级生命支持和复苏后治疗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基础生命支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asic life suppor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LS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心搏骤停后挽救患者生命的基本急救措施，包括胸外心脏按压、开放气道、人工呼吸三个步骤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23640" y="1628280"/>
            <a:ext cx="847404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各种意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神经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循环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药物中毒或过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代谢及电解质紊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80720" y="1844640"/>
            <a:ext cx="8723160" cy="34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心搏骤停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意识突然丧失或伴有抽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呼吸断续，喘息，随后呼吸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皮肤苍白或明显发绀，瞳孔散大，二便失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颈、股动脉搏动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心音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56760" y="1356840"/>
            <a:ext cx="847404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基础生命支持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通过实施基础生命支持技术，建立患者的循环、呼吸功能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保证重要脏器的血液供应，尽快促进心搏、呼吸功能的恢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评估患者的病情、意识状态、呼吸、脉搏、有无活动义齿等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环境准备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23640" y="1700280"/>
            <a:ext cx="8474040" cy="401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步骤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患者仰卧，争分夺秒就地抢救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按压部位要准确，用力适度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清除口咽分泌物、异物，保持气道通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胸外心脏按压与人工呼吸同时进行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心肺复苏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21840" y="1916280"/>
            <a:ext cx="8474040" cy="32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电除颤仪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efibrillato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应用电击来抢救和治疗心律失常的一种医疗电子设备。临床上分为非同步电复律，又称为心脏电除颤和同步电复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267920"/>
            <a:ext cx="8474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适应证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心室颤动、心室扑动、无脉性室性心动过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了解患者病情状况、评估患者意识、颈动脉搏动及心电图情况，确认需为患者立即进行电除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39996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确掌握适应证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安全管理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监测病情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除颤器的使用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92160" y="1988640"/>
            <a:ext cx="8786880" cy="32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gastric lava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将胃管插入患者胃内，反复注入和吸出一定量的溶液，以冲洗并排除胃内容物，减轻或避免吸收中毒的胃灌洗方法。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75840" y="1844640"/>
            <a:ext cx="8474040" cy="33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危重患者的急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957240"/>
            <a:ext cx="726732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毒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轻胃黏膜水肿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患者并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83280" indent="-2628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洗胃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次灌液量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宜，每次灌入量与吸出量应基本保持一致，总洗胃量一般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00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液应悬挂于高于胃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c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处，吸引器负压应保持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3.3kP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为幽门梗阻者洗胃，宜在饭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或空腹进行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服毒者洗胃完毕后，按医嘱保留胃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，必要时反复、间断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中毒物质不明时，及时抽取胃内容物送检，应用温开水或生理盐水洗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胃后注意患者胃内毒物清除状况，中毒症状有无得到缓解或控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4760" y="1699920"/>
            <a:ext cx="878688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由于各种原因导致呼吸器官不能维持正常的气体交换，即发生呼吸衰竭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respiratory failure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者，以人工机械装置（主要是呼吸机）的通气代替、控制或辅助患者呼吸，以达到增加通气量、改善气体交换和维持呼吸功能等目的，此疗法称为机械通气（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echanical ventilation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MV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）或通气支持疗法。 </a:t>
            </a:r>
            <a:endParaRPr b="1" lang="en-US" sz="3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17360" y="1557360"/>
            <a:ext cx="8786880" cy="466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维持代谢所需的肺泡通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低氧血症和改善氧运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呼吸肌做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与解释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通气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6840" y="1844280"/>
            <a:ext cx="878688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密监测病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防院内感染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安全管理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危重患者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755640" y="1989000"/>
            <a:ext cx="746928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评估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意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为疾病的诊断、治疗和护理提供科学依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判断疾病的发展趋势和转归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及时了解治疗效果和用药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可以有助于及时发现危重症患者病情变化的征象等，以便采取有效措施及处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情评估的程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维护和颈椎保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通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功能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意识评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危重患者的病情评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病情监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系统功能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系统功能监测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神经系统功能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功能监测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5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基础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支持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的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7" name="标题 1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危重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心肺复苏、基本生命支持、洗胃法、意识障碍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呼吸心搏骤停的原因和临床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洗胃的目的、适应证和禁忌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毒物中毒的洗胃溶液和禁忌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能准确说出病情评估的内容及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发生心搏骤停时进行心脏按压，正确的方法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频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部位为胸骨中上半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胸骨下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cm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压时依靠腕部的力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在患者背部垫硬板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最后成功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脑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肺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肾复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曲膦酯中毒忌用洗胃溶液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盐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乐果中毒时禁用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患者眼睑不能闭合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敷眼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摩眼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眼药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消毒巾遮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盖凡士林纱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中毒者，当诊断不明时，应选择的洗胃液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开水或生理盐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牛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3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氧化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碳酸氢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吞服强酸、强碱类腐蚀性药物的患者，切忌进行的护理操作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昏迷深浅度的最可靠指标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反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张力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的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疼痛刺激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处于持续睡眠状态，但能被言语或轻度刺激唤醒，刺激去除后又很快入睡，此时患者处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需要密切观察血压的病情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哮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心、呕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1988640"/>
            <a:ext cx="896472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抢救工作管理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除颤器使用的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危重患者病情评估的内容、方法和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和不同程度意识障碍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糖尿病昏迷患者呼气中带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硫化氢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氨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烂苹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蒜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别臭味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除哪项外都属于中枢神经系统功能障碍的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障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烦躁不安、谵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闭目养神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体温升高伴有高血压下降常提示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源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性休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呕吐呈喷射状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幽门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低位性肠梗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肠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颅内压增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食物中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危重患者护理中，下列哪项是不必要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密观察病情变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口腔护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呼吸道通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足够的营养和水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严密隔离原则处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角膜反射消失见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嗜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昏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意识模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浅昏迷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昏迷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胸外心脏按压的频率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7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8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人工呼吸与胸外心脏按压的比例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1: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5: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2:1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15: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2:30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选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瞳孔时应注意瞳孔的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径大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称情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呕吐时，应观察的内容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随症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916280"/>
            <a:ext cx="86108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正确评估并识别心搏骤停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基本生命支持技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情况，按规程进行洗胃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肺复苏基本步骤包括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气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工呼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开放静脉通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危重患者护理可预防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疮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入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坠积性肺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泌尿系感染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病情贯穿在下列哪些护理过程中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晨间护理了解饮食和睡眠状况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时测量体温、脉搏、呼吸、血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患者交谈，了解心理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前做好三查七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药后注意药物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昏迷患者呼吸道通畅的关键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吸出呼吸道分泌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监测患者体温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平卧位时头偏向一侧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观察患者有无缺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患者有无下颌式呼吸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患者进行肢体被动运动的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肌肉萎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防止关节僵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下肢静脉血栓形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足下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坠积性肺炎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幽门梗阻患者洗胃时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液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次灌入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00ml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宜在饭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进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洗出液的颜色、气味、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胃内潴留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瞳孔的表现有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呈圆形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边缘整齐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光反应灵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侧对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自然光线下，瞳孔直径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胸外心脏按压有效指征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颜面、口唇、皮肤转红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回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主呼吸恢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扪到颈动脉搏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瞳孔扩大，血压下降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洗胃时每次灌洗的液量不可过多，是为了防止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速毒物的吸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胃扩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浓度降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胃酸分泌减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利于消化吸收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758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分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某，男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脑外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急诊入院。查体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7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110/7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等大等圆，对光反应存在，神志不清，压眶上神经有痛苦表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处于何种意识状态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次晨患者出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P 84/40mn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双侧瞳孔不等大，对光反射消失。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理应重点观察哪些内容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危重患者的急救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915920"/>
            <a:ext cx="84740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5360" indent="-3153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急救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20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工作的组织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工作的准备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抢救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建立责任明确的系统组织结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制订抢救方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做好核对工作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及时、准确、如实做好各项记录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831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安排护士参加医院组织的查房、会诊、病例讨论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床单位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车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器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抢救设备、物品管理制度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室内抢救设备、物品、药品管理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救车专人管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抢救物品的日常维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抢救工作管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14:26:20Z</dcterms:created>
  <dc:creator>Microsoft Office 用户</dc:creator>
  <dc:description/>
  <dc:language>en-US</dc:language>
  <cp:lastModifiedBy>赵欣</cp:lastModifiedBy>
  <dcterms:modified xsi:type="dcterms:W3CDTF">2016-01-22T08:39:48Z</dcterms:modified>
  <cp:revision>2</cp:revision>
  <dc:subject/>
  <dc:title>第十八章  危重患者的急救与护理 </dc:title>
</cp:coreProperties>
</file>