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6B08D-0137-4F62-A932-91FE38D3D98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668C3-F914-4F8E-8785-5665051141E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8ECD1-B431-46FA-8426-DFC1ECE0F4A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8E49C-FD7E-428F-8D03-75D89F40CA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295ED-45CA-43C1-A194-F5BEB9B33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012F1-EA2C-4084-B7CE-954C34A4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C42C2-5851-4BF7-A7BF-417F33FCA1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6ADFD-0953-4DCA-A358-0E56E4057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B7EA1-C21F-44A8-9B8D-CE001BEB0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332E0-CFF4-492C-8BCD-432A4291A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8A67D-39FE-4FEA-97D6-904D929C3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0AF3E-1B15-4B25-AAB1-38A33E9B1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473DA-13D0-4C38-8F32-187C34D45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54481-C38F-43CD-B17B-23E25852B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86D60-3704-4F26-A141-66F3CAE49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13DC5-D01A-4DFA-8612-17ED5FE34B9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六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排泄护理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324000" y="10476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尿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少尿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每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7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无尿或尿闭：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内无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324000" y="105264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膀胱刺激征：主要表现为尿频、尿急、尿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潴留：尿液大量存留于膀胱内而不能自主排出；分为机械性尿潴留、动力性尿潴留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失禁：指排尿失去意识控制或不受意识控制，尿液不自主地流出，分为真性尿失禁、假性尿失禁、压力性尿失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人习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文化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液体和饮食摄入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及检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疾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治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气候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4240" y="26028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尿异常的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失禁患者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外部引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建正常的排尿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尿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174600" y="260280"/>
            <a:ext cx="8580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潴留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供隐蔽的排尿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整体位和姿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诱导排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热敷与按摩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潴留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必要时可使用导尿术，协助患者排尿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174600" y="260280"/>
            <a:ext cx="8580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次性导尿术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theteriza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是指在严格无菌操作下，将导尿管经尿道插入膀胱引流尿液的方法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潴留患者引流尿液，减轻其痛苦；使尿失禁患者保持会阴清洁干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协助临床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盆腔内器官手术或检查前排空膀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膀胱肿瘤患者进行膀胱化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身心状况患者的年龄、病情、意识状态、心肺功能，以及心理状态和合作程度。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充盈度及会阴部情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排尿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排便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排气护理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内容占位符 2"/>
          <p:cNvSpPr/>
          <p:nvPr/>
        </p:nvSpPr>
        <p:spPr>
          <a:xfrm>
            <a:off x="32400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详见教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一次性导尿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内容占位符 2"/>
          <p:cNvSpPr/>
          <p:nvPr/>
        </p:nvSpPr>
        <p:spPr>
          <a:xfrm>
            <a:off x="301680" y="1197000"/>
            <a:ext cx="873432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“三查七对”制度，防止发生差错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严格执行无菌操作，预防感染的发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尿管如误入阴道，应更换导尿管后重新插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光滑和粗细适宜的导尿管，插管动作应轻慢，以免损伤尿道黏膜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若膀胱高度膨胀，患者又极度衰弱时，第一次放尿不应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内容占位符 2"/>
          <p:cNvSpPr/>
          <p:nvPr/>
        </p:nvSpPr>
        <p:spPr>
          <a:xfrm>
            <a:off x="30168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抢救危重、休克患者时正确记录每小时尿量、测量尿比重，以密切观察患者的病情变化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盆腔手术前应为患者排空膀胱，使膀胱保持空虚状态以避免手术中误伤膀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泌尿系统疾病手术的患者进行留置导尿，便于减轻手术切口的张力，利于手术切口的愈合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失禁或会阴部有伤口的患者引流尿液，用以保持会阴部的清洁干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尿失禁患者行膀胱功能训练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9" name="内容占位符 2"/>
          <p:cNvSpPr/>
          <p:nvPr/>
        </p:nvSpPr>
        <p:spPr>
          <a:xfrm>
            <a:off x="324000" y="161784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病情、留置导尿术的目的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的意识状态、身体状态、心理状态、对导尿的认识及配合程度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尿情况、膀胱充盈及局部皮肤情况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1" name="内容占位符 2"/>
          <p:cNvSpPr/>
          <p:nvPr/>
        </p:nvSpPr>
        <p:spPr>
          <a:xfrm>
            <a:off x="395280" y="1484280"/>
            <a:ext cx="792180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详见教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3" name="内容占位符 2"/>
          <p:cNvSpPr/>
          <p:nvPr/>
        </p:nvSpPr>
        <p:spPr>
          <a:xfrm>
            <a:off x="30168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向患者及其家属讲解留置导尿管的目的和护理方法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保持导管引流通畅，避免引流管受压、打折、堵塞等造成引流不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固定双腔气囊导尿管时应避免膨胀的气囊卡在尿道内口，以免气囊压迫膀胱壁造成黏膜的损伤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做好健康教育，防止逆行感染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导长期留置导尿的患者进行膀胱功能和骨盆底肌肉的训练，帮助其维持或重建排尿功能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5" name="内容占位符 2"/>
          <p:cNvSpPr/>
          <p:nvPr/>
        </p:nvSpPr>
        <p:spPr>
          <a:xfrm>
            <a:off x="324000" y="1844640"/>
            <a:ext cx="84740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留置导尿管患者的护理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持尿道口清洁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时更换导尿管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及时倾倒集尿袋内尿液并做好记录，避免引流管末端触及集尿袋内尿液；每日定时更换集尿袋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导尿管留置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内容占位符 2"/>
          <p:cNvSpPr/>
          <p:nvPr/>
        </p:nvSpPr>
        <p:spPr>
          <a:xfrm>
            <a:off x="324000" y="1484280"/>
            <a:ext cx="847404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留置导尿管患者的护理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鼓励患者多饮水，每日饮水量应不少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500m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训练膀胱反射功能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观察尿液情况，及时倾听患者主诉，每周检查尿常规一次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离床活动或作检查时，可携集尿袋前往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粪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排便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异常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33336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排便护理 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次数：正常情况下，成人排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日，婴幼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日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量：正常情况下，成人每日粪便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0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颜色和性状：一般粪便呈黄褐色或棕黄色、成形、软便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解释多尿、少尿、无尿、尿潴留、尿失禁、导尿术、便秘、粪便嵌塞、排便失禁、灌肠法、肠胀气等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排尿、排便观察的要点和正常值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见排尿异常的类型、原因和特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不同类型尿失禁的特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影响排尿、排便的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便内容物：主要由食物残渣、脱落的大量上皮细胞、细菌以及代谢废物等组成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气味：一般情况下，食肉者粪便气味较重，素食者粪便气味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便秘：指正常的排便型态改变或排便次数减少，排出过于干硬的粪便且排便不畅或困难排便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粪便嵌塞：指粪便持久滞留于直肠内，变得坚硬且不能自行排出，常见于不能缓解的慢性便秘者便内容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排便的观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腹泻：指正常排便型态改变，频繁排出松散稀薄的粪便甚至呈水样便，是消化道消化、吸收和分泌功能紊乱的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失禁：指肛门括约肌不受意识控制而出现不自主排便，可由神经系统病变、胃肠疾病、心理因素引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粪便的观察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因素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习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文化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物和液体摄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活动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疾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和检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影响排便的因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便秘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去除病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膳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当活动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隐蔽的排便环境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宜的排便姿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环形按摩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便秘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建正常的排便习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遵医嘱口服缓泻药物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简易通便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方法均无效时，遵医嘱使用灌肠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粪便嵌塞患者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早期使用口服缓泻剂、栓剂等，达到通便目的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必要时先行油剂保留灌肠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再行清洁灌肠使用简易通便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清洁灌肠仍无效时，遵医嘱执行人工取便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泻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去除病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卧床休息，注意腹部保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膳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水、电解质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皮肤完整性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泻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常见排尿异常和排便异常的护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肠胀气患者的护理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实施女性导尿、男性导尿和留置导尿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实施小量不保留灌肠、大量不保留灌肠和保留灌肠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便失禁患者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护皮肤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帮助患者重建控制排便的能力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饮食护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持环境整洁，空气清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排便异常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法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nem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是指将一定量液体由肛门经直肠灌入结肠，帮助患者清洁肠道、排便、排气或经肠道给药或营养，以达到诊断和治疗目的的方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灌肠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灌肠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量不保留灌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量不保留灌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留灌肠（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简易通便法（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灌肠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清洁肠道，为手术、检查和分娩作准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便秘和肠胀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稀释或清除肠道内有毒物质，减轻中毒症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入低温溶液可为高热患者降低体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324000" y="47628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身心状况患者的年龄、病情、意识状态、心肺功能、心理状态及合作程度等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肛门周围皮肤情况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800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入肛管前应评估肛门有无痔疮、肛裂及其他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肛管前排净导管内气体，避免将气体灌入肠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管时动作宜轻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肠中观察溶液流入情况；灌肠过程中患者如有便意，鼓励患者张口呼吸，同时降低灌肠筒高度；灌肠完毕不宜立即排便，使灌肠液保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患者反应，如发现患者出现面色苍白、出冷汗、剧烈腹痛时应立即停止灌肠并采取相应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入灌肠液时，不可将灌肠液全部流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拔出肛管前，灌肠筒不可低于臀部，以免液体回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降温灌肠时灌肠液应保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再排便并监测体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肝性脑病患者禁用肥皂水灌肠，减少氨的产生和吸收；充血性心力衰竭和水钠潴留者禁用生理盐水灌肠，由于生理盐水是等渗溶液，易从肠道吸收而加重已有的水钠潴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大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便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出肠内积气，减轻腹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用于腹部或盆腔手术后肠胀气，为危重症患者、年老体弱者、小儿和孕妇解除便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324000" y="47628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3300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排尿护理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尿液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排尿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异常的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次性导尿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1680" indent="-3016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导尿管留置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53760" indent="-2512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心状况：①患者的年龄、病情、意识状态、心肺功能等。②心理状态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肛门皮肤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09120" indent="-234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281160" indent="-28116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管前评估肛门有无痔疮、肛裂及其他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插管动作宜轻柔，注意观察患者的反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灌肠液的温度和灌肠速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小容量灌肠筒时，灌肠液液面距肛门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23640" y="1413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肠完毕不宜立即排便，应嘱患者保留灌肠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腹症、消化道出血、妊娠、严重心血管疾病等患者禁忌灌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，若灌肠中患者感觉腹胀或便意，应嘱患者做深呼吸；若患者面色苍白、出汗，应立即停止灌肠并给予相应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小量不保留灌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3300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排气护理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肠胀气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肛管排气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肠胀气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概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胀气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flatulenc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指胃肠道内积聚过多气体且不能排出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肠胀气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去除病因  如积极治疗肠道疾患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  指导患者养成良好饮食习惯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肠胀气患者的护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内容占位符 2"/>
          <p:cNvSpPr/>
          <p:nvPr/>
        </p:nvSpPr>
        <p:spPr>
          <a:xfrm>
            <a:off x="357120" y="135720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肠胀气患者的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鼓励患者适当活动如散步、做体操、打太极拳等；卧床患者可适当进行床上活动或定时更换体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他 酌情可进行腹部热敷或腹部按摩、针刺疗法。严重者可遵医嘱给予药物治疗或行肛管排气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肛管排气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内容占位符 2"/>
          <p:cNvSpPr/>
          <p:nvPr/>
        </p:nvSpPr>
        <p:spPr>
          <a:xfrm>
            <a:off x="312840" y="126828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目的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出肠腔内积气，缓解腹胀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评估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身心状况：患者的年龄、病情、意识状态、心肺功能等；心理状态及合作程度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肛门皮肤情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肛管排气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内容占位符 2"/>
          <p:cNvSpPr/>
          <p:nvPr/>
        </p:nvSpPr>
        <p:spPr>
          <a:xfrm>
            <a:off x="312840" y="1268280"/>
            <a:ext cx="8474040" cy="52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前准备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物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患者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士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环境准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操作要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详见教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肛管排气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内容占位符 2"/>
          <p:cNvSpPr/>
          <p:nvPr/>
        </p:nvSpPr>
        <p:spPr>
          <a:xfrm>
            <a:off x="324000" y="1641600"/>
            <a:ext cx="8474040" cy="43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注意事项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气过程中注意观察瓶液面下气泡逸出情况，若排气不畅，应及时变换体位或对腹部进行按摩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肛管保留时间不宜超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分钟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尿量和次数：成人白天排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，夜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。每次排尿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尿量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平均尿量约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昏迷患者排出的尿液有酮味提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性肾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 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膀胱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           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机磷农药中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 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毒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9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糖尿病酮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成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尿量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少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尿困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潴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无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极度衰竭膀胱高度膨胀的患者，导尿首次排完膀胱会引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剧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尿、虚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膀胱炎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肝性脑病患者灌肠时禁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盐水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肥皂水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蛋白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醋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留灌肠仅适用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早期妊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便失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慢性痢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腹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便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尿失禁患者的护理包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尊重患者，给予安慰和鼓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皮肤护理，保持床单位清洁、干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外部引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导患者训练膀胱功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必要时每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插导尿管一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女患者行一次性导尿术，下列步骤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无菌技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取屈膝仰卧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初次消毒首先消毒大阴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导尿管插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cm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见尿后再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误入阴道，应立即拔出原管重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用灌肠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溶液是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5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酸镁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ml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m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开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0ml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甘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ml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盐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ml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尿潴留的护理措施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热敷、按摩下腹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让患者听流水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温水冲洗会阴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双氢克尿噻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导尿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陈女士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行子宫切除术，术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仍未排尿，主诉下腹胀痛难忍，有尿意，但排尿困难，患者烦躁不安。检查：耻骨联合上方膨隆，可触及一囊性包快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该患者病情发生了什么变化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如何护理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7120" y="1212840"/>
            <a:ext cx="860760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颜色：正常新鲜尿液为淡黄色或深黄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理状态下：血尿；血红蛋白尿；胆红素尿；乳糜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透明度：正常新鲜尿液为清澈透明，放置后可出现微量絮状沉淀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气味：尿液久置后尿素分解产生氨，有氨臭味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新鲜尿液有氨臭味，疑有泌尿道感染。糖尿病酮症酸中毒时，尿液中因含有丙酮，故有烂苹果味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尿液的观察 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尿的观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酸碱反应：正常尿液呈弱酸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平均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比重：尿液比重是尿液与纯水的重量之比。一般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0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0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与尿量成反比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27T03:07:06Z</dcterms:created>
  <dc:creator>Microsoft Office 用户</dc:creator>
  <dc:description/>
  <dc:language>en-US</dc:language>
  <cp:lastModifiedBy>赵欣</cp:lastModifiedBy>
  <dcterms:modified xsi:type="dcterms:W3CDTF">2016-01-22T08:30:57Z</dcterms:modified>
  <cp:revision>76</cp:revision>
  <dc:subject/>
  <dc:title>第十六章  排泄护理 </dc:title>
</cp:coreProperties>
</file>