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550B-D92B-410C-B3D8-1A65EAC9058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4596-C661-49B8-A238-91C68C4D2E5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7ED6-43FE-42E7-8F98-BE55FD1F04A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C1A1-F4C3-4C9E-9C1A-D2DCCC193D1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D83E-1771-459A-960C-A4CA4C45B1A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B3CD-FECA-4AD7-B0B4-F17B52D7FA3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3EEF-C4B0-4C5A-8F1A-059C2095EAB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6BD2-CC2F-484F-BD12-9D63EDA254C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802A-4954-4B48-8302-E09213582F4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4896-990E-4437-8963-8F8A72D156F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3A41D-405D-409A-A685-D9A7DC1D15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9AC0A-2E9B-49DB-92CF-E40003D0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4FE09-AC7C-434D-9FB2-F68EEC7B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D0A2C-74F3-4C9A-AAEC-7560DB23F1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82E94-5D1E-4395-9719-EF05523A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6DD94-7CD4-460F-886D-C403D7F3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EEE72-A013-4F71-848C-DDB14764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3A63B-80A4-40AB-90D4-4ED9AD5E6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8828A-6642-4310-9F38-289CDA5F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64D6B-2C98-44D6-9B1A-B1F699A6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CD0BE-55C1-4736-819A-6BE36B42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261B2-9303-41A8-9549-79C24C95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FEA7-4501-43D3-B8D0-1192ED1A93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五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护理程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125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5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理学家赫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al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首先提出了“护理程序”的概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翰逊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ohns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奥兰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rland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威登贝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iedenba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对护理程序作了进一步的理论阐述，试图将护理程序分为三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尤拉和沃尔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Yora &amp; Wals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将护理程序确定为四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盖比和拉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ebbie &amp; Lav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在护理程序中加入了护理诊断，使护理程序分为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士协会将护理程序规定为评估、诊断、计划、实施、评价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代初，美籍学者李式莺博士将护理程序引入我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经美籍华裔学者吴袁剑云介绍，国内部分医院开始试点建设以护理程序为核心的系统化整体护理“模式病房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卫生部发文要求各医院积极推行整体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吴袁剑云又向我国介绍以护理程序为基本框架的临床路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护理程序的作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解决服务对象的健康问题更具目标性和个体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现代护理学更具科学性和系统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保证了整体护理的实施和护理质量的提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护理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和分析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内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资料、健康体检、生活状况及自理程度、心理社会状况、近期的实验室及其他检查结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观资料、客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来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本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家属及关系密切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医务人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的健康记录或病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和护理的有关文献资料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的方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查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整理和分析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实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实主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确内容含糊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aslo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需要层次论进行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戈登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种功能性健康型态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概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组成部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类型与陈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书写的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护理诊断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关于个人、家庭、社区对现存或潜在的健康问题及生命过程反应的一种临床判断，是护士为达到预期的结果选择护理措施的基础，这些预期结果应能通过护理职能达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诊断的概念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 概  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 护理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 护理诊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  护理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五节  实  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六节  评  价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称：是对服务对象健康状况的概括性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义：是对名称的一种清晰的、正确的表达，并以此与其他诊断相鉴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诊断依据：是患者所具有的一组症状和体征，以及有关病史，也可以是危险因素，是做出诊断时的临床判断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关因素：指影响个体健康状况，导致健康问题的直接因素、促成因素或危险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理生理方面、心理方面、治疗方面、情境方面、年龄方面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诊断的组成部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或体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护理诊断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综合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与合作性问题及医疗诊断的关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并发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与医疗诊断的区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0880" y="3573360"/>
          <a:ext cx="8523360" cy="2941920"/>
        </p:xfrm>
        <a:graphic>
          <a:graphicData uri="http://schemas.openxmlformats.org/drawingml/2006/table">
            <a:tbl>
              <a:tblPr/>
              <a:tblGrid>
                <a:gridCol w="1562400"/>
                <a:gridCol w="3781080"/>
                <a:gridCol w="31798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区别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护理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医疗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诊断对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人、家庭、社区的健康问题或生命过程反应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病理生理改变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描述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问题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稳定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对健康问题的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现存或潜在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随患者健康状况的变化而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的疾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多是现存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相对稳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决策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护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医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护理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医疗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所列名称应明确、书写规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简单易懂，尽量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AND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认可的护理诊断名称，这样有利于护士直接的交流和探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用症状或体征代替护理诊断，避免与护理目标、护理措施、医疗诊断相混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项护理诊断针对患者的一个健康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患者可有多个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是由护理措施能够解决的问题，应指出护理的方向，有利于制订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明确相关因素，潜在的护理诊断应列出危险因素，因为护理计划制订的护理措施多是针对相关因素的，相同的护理诊断如果相关因素不同，护理措施也不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不应有引起法律纠纷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价值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护理计划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护理诊断的顺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确定预期目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制订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成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优先顺序分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优问题：是指那些对生命威胁最大，需要立即采取行动予以解决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优问题：是指那些虽然不直接威胁生命，但对服务对象的身心造成痛苦，严重影响服务对象健康或情绪上变化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优问题：是指那些个人在应对发展和生活变化时所遇到的问题，这些问题虽然不如生理需要和安全需要问题迫切，但并非不重要，同样需要护士给予帮助，使问题得到解决，以便服务对象达到最佳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的人类基本需要层次论进行排序，优先解决生理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无原则冲突的情况下，可考虑患者认为最重要的问题予以优先解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问题优先处理，但不要忽视潜在的和合作性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序不是固定不变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谓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标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条件状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护理程序、护理诊断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资料收集的内容、来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护理诊断的组成、类型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护理目标的种类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主观资料和客观资料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诊断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护理诊断与合作性问题及医疗诊断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364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以服务对象为中心，即目标的主语一定是患者或患者的一部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明确的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陈述应简单明了，切实可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具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时间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潜在并发症的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的类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独立性的护理措施：指不依赖医生的医嘱，护士能够独立提出并完成的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的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护士与其他健康保健人员相互合作采取的行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依赖性的护理措施：是指护士执行医嘱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必须具有一定的科学依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有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切实可行、因人而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保证服务对象的安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要具体细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服务对象参与制订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计划成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记录计算机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评估资料输入计算机，计算机将会显示相应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定护理诊断后，计算机即可显示与护理诊断相对应的原因、预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预期目标后，计算机即提示可行的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择护理措施后，制订出一份个体化的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打印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五节  实  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中护士应具备的技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内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过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实施中护士应具备的技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认知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际交往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操作技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实施的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计划所制订的活动加以组织、任务落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执行医嘱，保持医疗和护理有机结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答服务对象及家属的咨询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实施的质量、效果，观察病情，处理突发急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收集资料，及时、准确地完成护理记录，不断补充和修正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其他医务人员保持良好关系，做好交班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咨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教育和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沟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报告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实施的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思考整理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o how when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准备过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重新评估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和修改护理计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备实施护理措施所需要的知识和技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测可能发生的并发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组织资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执行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运用操作技术、沟通技巧、观察能力、合作能力和应变能力执行护理措施的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实施的动态记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内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问题为中心的记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SOA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要点记录表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干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价系统记录表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496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书写护理诊断和护理诊断排序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制订护理目标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措施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护理措施制订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临床实践中，运用护理程序为患者制订护理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目的和形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的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六节  评 价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评价目的和形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了解服务对象对健康问题的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验证护理效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控护理质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累护理经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过程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效果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目标实现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评价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建立评价标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确定评价阶段所需收集资料的类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判断服务对象健康资料的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预期目标是否实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审护理计划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修订或增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有不同的方法和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应贯穿在整个护理计划执行过程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、阶段评价、最终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除评价个体目标是否达到外，还应评价并改善群体护理质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、过程和结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评价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关于预期目标的描述，以下错误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可分近期目标和远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护理人员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患者的行为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期望患者达到的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定目标是计划阶段的第二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订护理计划的主要依据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      　　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诊断    　　　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报告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查体资料   　　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病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下资料中属于主观资料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晕        　　　　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色苍白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肢冰冷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压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。因高热＼呼吸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入院。体检：精神萎靡，体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呼吸困难，咳铁锈色痰，诊断为肺炎。以下对患者护理诊断的描述，正确的是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炎球菌性肺炎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　与高热有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　与致病菌引起肺部感染有关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肺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 概  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与相关理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发展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程序的概念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是一种有计划、系统而科学的护理工作方法，目的是确认和解决服务对象对现存或潜在健康问题的反应。它是一个综合的、动态的、具有决策和反馈功能的护理工作过程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估：是护理程序的最初阶段。是有目的、有计划、系统地收集服务对象的生理、心理、社会、精神、文化等方面的健康资料并进行整理，以发现和确认其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：是对护理评估阶段所收集的资料进行分析并确定护理问题，从护理的角度描述服务对象的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计划：是针对护理诊断制订的具体护理措施，包括根据护理问题的轻重缓急将护理诊断排序、确定护理目标、制订护理措施和书写护理计划等内容，是护理行动的指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实施：是为达到护理目标，而将计划中的内容付诸行动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价：将服务对象的健康状态与预定目标进行比较并做出判断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程序与相关理论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系统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控制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6:58:40Z</dcterms:modified>
  <cp:revision>226</cp:revision>
  <dc:subject/>
  <dc:title>内科护理学</dc:title>
</cp:coreProperties>
</file>