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5B9F7-47D9-43EA-B065-F112C15D8F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86083-6181-43DE-B87E-8C27B6A7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B364A-E096-458D-8E70-430E010C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0FCE0-198A-4737-8D4C-FF6CD6DB4B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918F5-0671-4E2C-92A8-1F7617FA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25100-972B-4FAC-BCF0-5939D58C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08BB4-58EF-451F-AD68-8FD245BD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F8B50-EA0A-4FCE-ABAA-9CB58BAE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945C4-F43F-4228-97FD-88CEBF88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B864A-1D04-4F57-8F7F-A31D6447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E7989-D49B-4935-8E8F-49CD1370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117D0-D520-4280-8A87-FA79F6E6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7031-83C6-4B9B-ADE9-9CB19B2FF23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十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的家庭护理及社区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制作人   陶筱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家庭治疗的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护理是以家庭系统为单位，对需要连续照顾的患者及其家庭，能在自己居家环境中得到连续性（定期）、综合性、专业性的健康照护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对精神障碍患者实施家庭护理是以家庭为照顾单位，以精神障碍患者为护理对象进行整体的、连续的及动态的护理，使患者和家庭达到最好的功能状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与家属共同合作照顾帮助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通过沟通等方法对患者的生存空间进行调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使患者在较舒适的环境中接受治疗和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为患者及家庭成员提供医疗信息和帮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直接处理家庭危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精神障碍患者家庭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600"/>
            <a:ext cx="86104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患者的评估：患者的成长经历、人格及行为特征、家庭角色、与家庭其他成员的关系、在家庭结构中的位置，总体状况，精神症状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的评估：家庭基本功能，家庭基本情况，家庭对患者疾病的认知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常见心理及行为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交、职业能力、家庭功能等方面的退化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外显行为异于正常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自己缺乏信心，产生无力无望无助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容易出现自杀企图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、礼仪与社交的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断服药或受到其他刺激后促使疾病复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暴力行为危害家庭及社会公共安全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.....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能提供适宜的生活环境及情感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照顾者掌握疾病及用药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成员能协助患者制订和执行康复计划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护理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宣传、保管、观察、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护理：认识、包容、理解、应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技能训练：生活、社会、学习、职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教育：讲座、巩固、识别、咨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安全护理：识别先兆、意外处理、求助方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内容占位符 1" descr=""/>
          <p:cNvPicPr/>
          <p:nvPr/>
        </p:nvPicPr>
        <p:blipFill>
          <a:blip r:embed="rId1"/>
          <a:stretch/>
        </p:blipFill>
        <p:spPr>
          <a:xfrm>
            <a:off x="466560" y="1197000"/>
            <a:ext cx="8017200" cy="465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611280" y="1130400"/>
            <a:ext cx="1833480" cy="173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18129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408720" y="1125360"/>
            <a:ext cx="172728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节  社区精神卫生工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6408720" y="4365720"/>
            <a:ext cx="18003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社区精神卫生工作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面向全社区提供精神卫生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连续而全面的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多种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多部门的协调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争取社会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社区精神卫生护理有关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护理是将公共卫生学及护理学理论相结合，用以促进和维护社区人群健康的一门综合学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精神卫生护理是应用社会精神病学、护理学和其他行为科学的理论、技术和方法，在社区范围内开展精神障碍的预防护理，促进患者的康复，提高患者的社会适应能力，并维护该社区人群的心理健康，减少心理及行为问题的发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前状况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各类精神障碍者达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亿以上，疾病总负担中列第一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专科医院床位数及精神科医务人员缺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卫生服务资源短缺且分布不均，发展不平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三级防治网不健全，预防和康复服务不足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长期住院造成患者的精神衰退和家庭负担等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者肇事对公众财产及生命的威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出院的后延伸护理有待发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描述社区精神卫生的相关概念及发展趋势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说出家庭治疗的目标及家庭干预的方法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家庭护理的评估方法及护理措施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指导家属对精神障碍患者进行家庭管理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并发挥护士在社区精神卫生三级预防保健中的作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268280"/>
            <a:ext cx="8591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管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中国精神卫生工作规划》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02-201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2-2015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6-202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： 预防为主、防治结合、重点干预、广泛覆盖、依法管理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华人民共和国精神卫生法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：规范了社区精神卫生服务的内容，为社区精神障碍患者的康复提供了法律保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片 21508" descr="t01bea5dc2b4a30b5c7"/>
          <p:cNvPicPr/>
          <p:nvPr/>
        </p:nvPicPr>
        <p:blipFill>
          <a:blip r:embed="rId1"/>
          <a:stretch/>
        </p:blipFill>
        <p:spPr>
          <a:xfrm>
            <a:off x="4788000" y="41497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趋势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进一步建立健全精神卫生防治体系和服务网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社区居民精神卫生知识知晓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完善精神障碍者社区康复管理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常见精神障碍识别和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重点人群心理行为问题干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社区精神卫生护理工作的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级预防（病因学预防）即防发病：精神健康保健、健康教育及心理咨询、特殊防护和预防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级预防（发病前期或发病期）即三早行动（早发现、早诊断、早处理）：精神健康调查、照护患者、家庭指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级预防（残障期）即促康复防残障：防止疾病恶化、防止病残、社区管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护理人员在社区精神卫生护理中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角色与功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照顾者与卫生保健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咨询者与教育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调者与合作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组织者与管理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观察者与研究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本章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的家庭治疗是以家庭系统为单位进行治疗的一种方法，家庭治疗的目标在于让患者逐步恢复家庭和功能。家庭干预的方法包括心理健康教育、训练应对能力、改善交流及减少应激等。家庭护理评估包括患者自身和家庭系统两个方面，其主要措施是药物维持治疗的护理、心理护理、安全护理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精神卫生服务是以社区居民精神健康管理为主导的综合服务，其主要任务是预防精神障碍和减轻精神残疾。护士在社区精神卫生三级预防保健中发挥其角色和功能作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120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ac8de"/>
                </a:solidFill>
                <a:latin typeface="华文隶书"/>
                <a:ea typeface="华文隶书"/>
              </a:rPr>
              <a:t>谢 谢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：社区是若干个社会群体（家族、氏族）或社会组织（机关、团体）聚集在某一地域里形成的一个生活上相互关联的大集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：家庭是由两个或两个以上人员通过婚姻、血缘或收养关系组成的社会基本单位。家庭是社区的基本单位，也是社区护理的基本单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关于幸福家庭的两种说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都是一样的，不幸的家庭各有各的不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托尔斯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多少会有不同，不幸的家庭却总是类似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 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纳波科夫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患者的家庭处境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一节   精神障碍患者家庭的治疗与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原则与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干预的目标及方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17" name="图片 7171" descr="5100161_091050220168_2"/>
          <p:cNvPicPr/>
          <p:nvPr/>
        </p:nvPicPr>
        <p:blipFill>
          <a:blip r:embed="rId1"/>
          <a:stretch/>
        </p:blipFill>
        <p:spPr>
          <a:xfrm>
            <a:off x="3348000" y="393372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172" descr="2029588_141042071334_2"/>
          <p:cNvPicPr/>
          <p:nvPr/>
        </p:nvPicPr>
        <p:blipFill>
          <a:blip r:embed="rId2"/>
          <a:stretch/>
        </p:blipFill>
        <p:spPr>
          <a:xfrm>
            <a:off x="5435640" y="1773360"/>
            <a:ext cx="3348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对象：恢复期的精神障碍患者，以家庭系统为单位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涉及内容：包括维持治疗、健康教育、婚姻家庭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目的：促使出院后的精神障碍患者尽早康复并减少复发，尽快恢复家庭与社会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家庭成员共有的心理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了解家庭的病态情感结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持良好的医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患者家庭支持系统的效应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注意避免家庭成员间不和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的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适家庭宜情感氛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对疾病知识有所了解并配合医护人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了解药物治疗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逐步恢复自我照顾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的精神状态稳定，社会功能趋向正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家庭干预目标和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6200" y="1412640"/>
            <a:ext cx="792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家庭负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降低患者复发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患者的生活质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家庭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疾病及治疗知识教育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的社交技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和家庭成员的应对能力及化解问题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6-01-04T02:54:42Z</dcterms:modified>
  <cp:revision>6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