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CAMERA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980C5-4D1B-434B-A4F5-8B32FBBCD3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97D2B-B482-45DB-B845-9371723A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D3B35-08F5-4F26-9766-C5ED281F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F894E-B7DD-4D30-8123-8A966081A9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0144E-F8CC-4837-9990-480095E2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767AC-9FDF-40C5-A456-9A8F980A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BD1D4-F026-4947-BAF6-3D394D47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10902-3D24-448D-9BB7-FD855C0C9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31703-C955-4180-B970-0B2889011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23F82-F637-4F9C-A6DE-7F00B90A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DCC5B-59B1-4591-A010-21D6BDAE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D7A51-1ABB-4238-9D49-A5D9633C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1E38-0F4B-4171-8E7A-AD700B4B1F5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0920" y="2565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d1496"/>
                </a:solidFill>
                <a:latin typeface="Verdana"/>
                <a:ea typeface="宋体"/>
              </a:rPr>
              <a:t>第六节  周围血管评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9640" y="304560"/>
            <a:ext cx="6767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第六节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周围血管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周围血管评估包括动脉、静脉和毛细血管的评估，是心血管评估的重要组成部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本节主要讲述脉搏、血压、血管杂音和周围血管征的评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95280" y="1324080"/>
            <a:ext cx="8064360" cy="37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Arial"/>
                <a:ea typeface="宋体"/>
              </a:rPr>
              <a:t>一、视诊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一）肝颈静脉回流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见于右心衰竭、心包积液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毛细血管搏动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主要见于脉压增大的疾病，如主动脉瓣关闭不全、甲状腺功能亢进、重症贫血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二、触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脉搏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的触诊一般多选择桡动脉。触诊时评估者将示指、中指和环指并拢，用指腹进行触诊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脉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脉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强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脉搏波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水冲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water-hammer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交替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alternating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奇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paradoxical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三、听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正常人血管杂音很少闻及，若闻及多有病理意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静脉杂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动脉杂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755640" y="1052640"/>
            <a:ext cx="792000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三）枪击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枪击音（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pistol shot sound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     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Duroziez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双重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枪击音、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Duroziez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双重音、毛细血管搏动征、水冲脉统称为周围血管征。主要见于脉压增大的疾病，如主动脉瓣关闭不全、甲状腺功能亢进和严重贫血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一）血压标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547640" y="159120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成人血压水平的定义和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71640" y="2349360"/>
          <a:ext cx="7561080" cy="3475080"/>
        </p:xfrm>
        <a:graphic>
          <a:graphicData uri="http://schemas.openxmlformats.org/drawingml/2006/table">
            <a:tbl>
              <a:tblPr/>
              <a:tblGrid>
                <a:gridCol w="2674800"/>
                <a:gridCol w="2438280"/>
                <a:gridCol w="2448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类    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收缩压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mmHg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舒张压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mmHg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正常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12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8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正常高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~13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0~8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高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轻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~15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~9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中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60~17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0~10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重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1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单纯收缩期高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9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Rectangle 35"/>
          <p:cNvSpPr/>
          <p:nvPr/>
        </p:nvSpPr>
        <p:spPr>
          <a:xfrm>
            <a:off x="0" y="475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二）血压变动的临床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高血压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hypertension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：血压高于正常标准称为高血压。高血压原因不明称原发性高血压。高血压可为某些疾病的临床表现之一，称继发性高血压或症状性高血压。如肾动脉狭窄、肾实质病变、嗜铬细胞瘤、原发性醛固酮增多症、皮质醇增多症、妊娠中毒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低血压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hypotension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：指血压低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90/60mmH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常见于休克、急性心肌梗死、心力衰竭、心脏压塞等，也可见于极度衰弱者及少数正常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脉压增大或减小：脉压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0mmH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为脉压增大，多见于主动脉瓣关闭不全、甲状腺功能亢进、动脉导管未闭、严重贫血和主动脉硬化等。脉压小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mmH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称脉压减小，多见于主动脉瓣狭窄、低血压、心力衰竭、心包积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56:06Z</dcterms:modified>
  <cp:revision>145</cp:revision>
  <dc:subject/>
  <dc:title>内科护理学</dc:title>
</cp:coreProperties>
</file>