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E5F4-F056-407A-89A0-482FA18C47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969B-D8F1-46B8-97CD-0AC16988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6687-E8DE-4E81-A95F-0E4DD160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A55D-2F62-4C38-BAF9-0CB7186108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51F8-44F3-4781-B958-AB0792E4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B880-090E-43D8-A94B-ECC84BDE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8E28-E811-49D8-A5FD-7441E1C3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5435-D79F-48B8-87DF-536EED0C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B9F10-5DA3-41BA-BC08-BD2F61FB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2792-3974-4CC1-A844-2CB42155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15B1-D57A-46A1-BC6A-88FE75AB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C4E6-31EF-4D72-BC7C-22BEDCB4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7CF4-5AD1-4E20-91C6-3DFC429803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SimHei"/>
                <a:ea typeface="SimHei"/>
              </a:rPr>
              <a:t>第七节 呼吸困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呼吸困难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低效性呼吸型态  与上呼吸道梗阻有关，与心肺功能不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气体交换受损  与心肺功能不全、肺部感染等引起有效肺组织减少、肺弹性减退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 与呼吸困难所致能量消耗增加和缺氧有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语言沟通障碍  与严重喘息有关；与辅助呼吸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自理能力缺陷  与严重呼吸困难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定义  呼吸困难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病因  包括呼吸系统疾病、循环系统疾病、中毒、血液系统疾病、神经精神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临床表现  肺源性呼吸困难常见有三种类型：吸气性呼吸困难、呼气性呼吸困难、混合性呼吸困难。吸气性呼吸困难表现为吸气时间明显延长，吸气显著困难，主要表现为“三凹征”；呼气性呼吸困难表现为呼气时间延长或缓慢，呼气费力，可伴哮鸣音；混合性呼吸困难表现为吸气与呼气均感费力。左心衰竭主要表现劳力性呼吸困难、夜间阵发性呼吸困难、端坐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护理评估要点  呼吸困难的特点、伴随症状、呼吸困难对患者的影响、有无呼吸困难相关的疾病史或诱发因素、诊断、治疗与护理经过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呼吸困难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呼吸困难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呼吸困难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困难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yspne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 由于呼吸系统疾病引起的通气和（或）换气功能障碍，导致缺氧和（或）二氧化碳潴留而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  主要因左心衰竭和（或）右心衰竭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源性呼吸困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有三种类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吸气性呼吸困难：表现为吸气时间明显延长，吸气显著困难，重者由于呼吸肌极度用力，胸腔负压增大，吸气时胸骨上窝、锁骨上窝和肋间隙明显凹陷，称为“三凹征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呼气性呼吸困难：主要表现为呼气时间延长或缓慢，呼气费力，可伴哮鸣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混合性呼吸困难：表现为吸气与呼气均感费力，呼吸频率增快、变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1010238"/>
          <p:cNvPicPr/>
          <p:nvPr/>
        </p:nvPicPr>
        <p:blipFill>
          <a:blip r:embed="rId1"/>
          <a:stretch/>
        </p:blipFill>
        <p:spPr>
          <a:xfrm>
            <a:off x="2411280" y="1197000"/>
            <a:ext cx="4042080" cy="41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5" name="Line 5"/>
          <p:cNvSpPr/>
          <p:nvPr/>
        </p:nvSpPr>
        <p:spPr>
          <a:xfrm>
            <a:off x="1897200" y="2362320"/>
            <a:ext cx="1595160" cy="193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4284720" y="2060640"/>
            <a:ext cx="2735280" cy="267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835280" y="5157720"/>
            <a:ext cx="20952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340000" y="5300640"/>
            <a:ext cx="4518000" cy="60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气性呼吸困难  三 凹 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98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锁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341480" y="172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胸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7120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肋间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820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心源性呼吸困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左心衰竭：劳力性呼吸困难、夜间阵发性呼吸困难 、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端坐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右心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性呼吸困难：在尿毒症、糖尿病酮症酸中毒时，出现深而规则的呼吸，可伴有鼾声，称为酸中毒大呼吸。急性感染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增快。吗啡、巴比妥类药物、有机磷农药中毒时，呼吸浅慢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神经、精神性呼吸困难：重症颅脑疾病呼吸慢而深，常伴有呼吸节律的改变。精神因素引起者呼吸频速浅表，发生呼吸性碱中毒，出现口周、肢体麻木或手足抽搐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血液源性呼吸困难：重度贫血、高铁血红蛋白血症等，呼吸急促、心率增快。急性大出血或休克时呼吸增快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3:36Z</dcterms:modified>
  <cp:revision>223</cp:revision>
  <dc:subject/>
  <dc:title>内科护理学</dc:title>
</cp:coreProperties>
</file>