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029D1-B7E9-463A-9FC2-669B4AC968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234AA-24D8-45A0-A802-92B60D5F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E0622-BEEC-4EE8-9C3B-18B5DE49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D8857-CCFD-4835-8F61-ACC0C5D37F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4BF55-8FDC-4217-BA9C-68CFADED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807B5-A8F8-47C0-8DCD-54A68510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55FD8-F32C-4B23-9E9F-88F3146B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192D1-1300-4DFC-AE34-264E1371A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A051C-B1AC-467A-83D9-FD73F7AB7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9BCF0-0A65-4278-9306-4EBB95C4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36169-2364-4A84-8795-78074504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A98AE-B816-4AB1-85C9-BFBEC962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AF1A-1C54-4BC5-A6CF-66CB52DA11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组胺与抗组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组胺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组胺药在人体内与相应的组胺受体结合起抗组胺作用，根据药物选择性的不同，抗组胺药可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作用  选择性阻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完全对抗组胺的平滑肌兴奋、血管扩张和通透性增加作用，防止因毛细血管通透性增加所致水肿、瘙痒和支气管平滑肌收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枢抑制作用  可通过血脑屏障，具有不同程度的中枢抑制作用，以苯海拉明和异丙嗪为甚，表现有镇静、嗜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胆碱作用  大多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具有抗胆碱作用，以苯海拉明、异丙嗪等表现明显，故可用于抗晕动病及止吐，但特那非定和氯雷他定无此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对子宫、膀胱平滑肌有直接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840" y="999720"/>
            <a:ext cx="8572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变态反应性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皮肤黏膜的变态反应性疾病疗效好，如荨麻疹、过敏性鼻炎、对昆虫咬伤致皮肤瘙痒有良效，对药疹、接触性皮炎有效，对哮喘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晕动症及呕吐  苯海拉明、异丙嗪等对晕动症，妊娠呕吐及放射病呕吐等均有止吐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用于血管神经性水肿、输血反应、美尼尔综合征、血清病等。对帕金森病、药物所致锥体外系反应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过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和注射均易吸收，大部分在肝内代谢，代谢物经肾排出。口服后多数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~3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钟起效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作用达高峰，一般持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，咪唑斯汀的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。阿司咪唑口服后其代谢产物仍具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活性，存在肝肠循环，故其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长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天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642960" y="1643040"/>
            <a:ext cx="7745400" cy="48578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5"/>
          <p:cNvSpPr/>
          <p:nvPr/>
        </p:nvSpPr>
        <p:spPr>
          <a:xfrm>
            <a:off x="500040" y="12859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用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①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枢神经系统反应  第一代药物多见镇静、嗜睡等中枢抑制作用。第二代多无中枢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胃肠道反应  口干、厌食、恶心、呕吐、上腹不适、腹泻、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血管系统  胸闷、心悸、高血压或低血压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视物模糊、耳鸣、皮疹、排尿困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光眼、前列腺肥大、溃疡病患者及孕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560" y="1371240"/>
            <a:ext cx="819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代药物易产生嗜睡、乏力等中枢抑制作用，应告知驾驶员、高空作业、机器操纵员等在工作期间不宜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减少胃肠道反应，告知患者可在进餐时服药或与牛奶同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肌注者应作深部肌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宜给儿童、孕妇、哺乳患者服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560" y="1371240"/>
            <a:ext cx="85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：西咪替丁、雷尼替丁、法莫替丁、尼扎替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具有高度选择性，通过阻断胃粘膜壁细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对抗组胺刺激胃酸分泌作用，此外还有对抗组胺扩张血管和降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560" y="1371240"/>
            <a:ext cx="85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广泛分布于中枢和外周神经末梢。它是一种突触前受体，在突触后也有分布，既能调节组胺的合成和释放，又能调节其他神经递质的释放，进而调节中枢和外周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与阿尔茨海默病、注意力缺陷多动症、帕金森病等神经行为失调有关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激动剂能够损害大鼠目标认识能力及被动避免反应能力，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则能改善大鼠的学习与记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的药理作用、临床应用、不良反应和药疗监护须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组胺药物的分类及作用机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的药理作用、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istam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（速发型）过敏反应的重要介质，广泛分布于体内各组织。外周组胺主要存在于肥大细胞内，以无活性的形式（结合型）存在。在组织损伤、炎症、神经刺激或一些抗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体反应条件下，以活性的形式（游离型）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通过与体内组胺受体结合产生效应。组胺受体主要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种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血管的作用：组胺激动血管平滑肌细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均能使小动脉、小静脉血管扩张，回心血量减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心脏作用：在人体及某些种属动物，组胺可直接作用于心脏，激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产生正性肌力作用，但在豚鼠则表现为负性肌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腺体的作用：作用于胃壁细胞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使胃壁细胞分泌胃液显著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血管以外平滑肌的作用： 组胺使多种平滑肌表现为兴奋收缩，很少松弛。收缩时由于激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而大部分松弛是由于激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于胃液分泌功能的检查，以鉴别恶性贫血的绝对胃酸缺乏和胃癌的相对缺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图片 4" descr="u=225852429,1426577765&amp;fm=21&amp;gp=0.jpg"/>
          <p:cNvPicPr/>
          <p:nvPr/>
        </p:nvPicPr>
        <p:blipFill>
          <a:blip r:embed="rId1"/>
          <a:stretch/>
        </p:blipFill>
        <p:spPr>
          <a:xfrm>
            <a:off x="2571840" y="3143160"/>
            <a:ext cx="61434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过程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无效，易被肠内细菌和胃肠黏膜内组胺酶所破坏。皮下、肌内或静脉注射给药，产生作用快速、短暂。在体内主要经甲基化和氧化被代谢，由尿中排出的原形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% ~ 3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晨起空腹皮内注射磷酸组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25 ~ 0.5mg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若无胃酸分泌，即为恶性贫血导致的绝对胃酸缺乏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量注射后可能出现面色潮红、心率加快、血压下降、支气管收缩、呼吸困难、视觉障碍、呕吐和腹泻等副作用，还可出现过敏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用于支气管哮喘、溃疡病、胃肠出血患者及孕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前一定要询问患者有无支气管哮喘、溃疡病、胃肠出血、妊娠及有关过敏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时必须严格按医嘱的正确用量，因剂量过大或高敏感性者可引起休克，此时用肾上腺素解救，反应轻者可用抗组胺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前应作皮内过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05:37Z</dcterms:modified>
  <cp:revision>116</cp:revision>
  <dc:subject/>
  <dc:title>内科护理学</dc:title>
</cp:coreProperties>
</file>