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F1336-F5F9-40C1-9BE9-0ACF9DFA42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5F1FA-36A7-486F-91E4-56398195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900DD-264A-48A8-AD94-F2BF9D90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E798C-A5E9-4BE1-94A4-E7159B3FBD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361DF-DB78-4E27-BDEA-07A7A804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1425F-86AE-4031-B3AA-C2B9BC5D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C89B-A0E8-4B78-9359-C92B827B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1B05F-AA6D-4C02-9339-4B981E76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58E0D-E067-44B5-8F3E-0FDDDB82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05E6-66EE-4405-9DA4-34864EBE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C73CE-B444-4378-A34E-A5EC8AB2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C9A8F-B71A-41E7-93F0-913A6FAD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7EDE-8817-4AE6-9E36-33406EF9055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 绪  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5040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1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2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9324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7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8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示 3" descr=""/>
          <p:cNvPicPr/>
          <p:nvPr/>
        </p:nvPicPr>
        <p:blipFill>
          <a:blip r:embed="rId1"/>
          <a:stretch/>
        </p:blipFill>
        <p:spPr>
          <a:xfrm>
            <a:off x="506520" y="1285920"/>
            <a:ext cx="8405640" cy="4998960"/>
          </a:xfrm>
          <a:prstGeom prst="rect">
            <a:avLst/>
          </a:prstGeom>
          <a:ln w="0">
            <a:noFill/>
          </a:ln>
        </p:spPr>
      </p:pic>
      <p:grpSp>
        <p:nvGrpSpPr>
          <p:cNvPr id="163" name=" 3"/>
          <p:cNvGrpSpPr/>
          <p:nvPr/>
        </p:nvGrpSpPr>
        <p:grpSpPr>
          <a:xfrm>
            <a:off x="3187800" y="4321080"/>
            <a:ext cx="3421080" cy="2103120"/>
            <a:chOff x="3187800" y="4321080"/>
            <a:chExt cx="3421080" cy="2103120"/>
          </a:xfrm>
        </p:grpSpPr>
        <p:pic>
          <p:nvPicPr>
            <p:cNvPr id="164" name=" 3" descr=""/>
            <p:cNvPicPr/>
            <p:nvPr/>
          </p:nvPicPr>
          <p:blipFill>
            <a:blip r:embed="rId2"/>
            <a:stretch/>
          </p:blipFill>
          <p:spPr>
            <a:xfrm>
              <a:off x="3187800" y="5474520"/>
              <a:ext cx="3421080" cy="9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20832600">
              <a:off x="3403080" y="4595400"/>
              <a:ext cx="2632320" cy="13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图示 3" descr=""/>
          <p:cNvPicPr/>
          <p:nvPr/>
        </p:nvPicPr>
        <p:blipFill>
          <a:blip r:embed="rId1"/>
          <a:stretch/>
        </p:blipFill>
        <p:spPr>
          <a:xfrm>
            <a:off x="426960" y="974880"/>
            <a:ext cx="8236080" cy="5359320"/>
          </a:xfrm>
          <a:prstGeom prst="rect">
            <a:avLst/>
          </a:prstGeom>
          <a:ln w="0">
            <a:noFill/>
          </a:ln>
        </p:spPr>
      </p:pic>
      <p:grpSp>
        <p:nvGrpSpPr>
          <p:cNvPr id="169" name=" 3"/>
          <p:cNvGrpSpPr/>
          <p:nvPr/>
        </p:nvGrpSpPr>
        <p:grpSpPr>
          <a:xfrm>
            <a:off x="4260960" y="4771080"/>
            <a:ext cx="2566800" cy="1782000"/>
            <a:chOff x="4260960" y="4771080"/>
            <a:chExt cx="2566800" cy="1782000"/>
          </a:xfrm>
        </p:grpSpPr>
        <p:pic>
          <p:nvPicPr>
            <p:cNvPr id="170" name=" 3" descr=""/>
            <p:cNvPicPr/>
            <p:nvPr/>
          </p:nvPicPr>
          <p:blipFill>
            <a:blip r:embed="rId2"/>
            <a:stretch/>
          </p:blipFill>
          <p:spPr>
            <a:xfrm>
              <a:off x="4370400" y="5485680"/>
              <a:ext cx="2457360" cy="10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20704200">
              <a:off x="4387680" y="4962240"/>
              <a:ext cx="1643400" cy="11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个体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4" name="组合 14"/>
          <p:cNvGrpSpPr/>
          <p:nvPr/>
        </p:nvGrpSpPr>
        <p:grpSpPr>
          <a:xfrm>
            <a:off x="500040" y="1397160"/>
            <a:ext cx="8072640" cy="4765680"/>
            <a:chOff x="500040" y="1397160"/>
            <a:chExt cx="8072640" cy="4765680"/>
          </a:xfrm>
        </p:grpSpPr>
        <p:pic>
          <p:nvPicPr>
            <p:cNvPr id="175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1397160"/>
              <a:ext cx="8072640" cy="47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同侧圆角矩形 4"/>
            <p:cNvSpPr/>
            <p:nvPr/>
          </p:nvSpPr>
          <p:spPr>
            <a:xfrm>
              <a:off x="1738800" y="5214960"/>
              <a:ext cx="6761880" cy="941400"/>
            </a:xfrm>
            <a:prstGeom prst="rect">
              <a:avLst/>
            </a:prstGeom>
            <a:noFill/>
            <a:ln w="2844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0160" tIns="20160" bIns="2016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教育为人的终身发展奠定基础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5720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是为护理学科培养具有宽厚的医学、人文学、护理学等知识，并能为人类健康服务的护理专业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立足于人的范畴，运用培养人、造就人的教育原理探讨护理教育的特殊活动，从而达到输送护理技术人才，传播护理成果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图示 4" descr=""/>
          <p:cNvPicPr/>
          <p:nvPr/>
        </p:nvPicPr>
        <p:blipFill>
          <a:blip r:embed="rId1"/>
          <a:stretch/>
        </p:blipFill>
        <p:spPr>
          <a:xfrm>
            <a:off x="554040" y="1384200"/>
            <a:ext cx="81025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学与教育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内容占位符 4" descr=""/>
          <p:cNvPicPr/>
          <p:nvPr/>
        </p:nvPicPr>
        <p:blipFill>
          <a:blip r:embed="rId1"/>
          <a:stretch/>
        </p:blipFill>
        <p:spPr>
          <a:xfrm>
            <a:off x="291960" y="1371600"/>
            <a:ext cx="8639280" cy="4876920"/>
          </a:xfrm>
          <a:prstGeom prst="rect">
            <a:avLst/>
          </a:prstGeom>
          <a:ln w="0">
            <a:noFill/>
          </a:ln>
        </p:spPr>
      </p:pic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专业性质和任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于国家医药卫生事业的发展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培养各层次护理专门人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年期受教育者占一定的比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综合性和整体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组织与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践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具有层次多、部门多、参与管理人员多的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14680" y="1928520"/>
            <a:ext cx="65721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教育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历史、现状与未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教学内容、研究任务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组合 21"/>
          <p:cNvGrpSpPr/>
          <p:nvPr/>
        </p:nvGrpSpPr>
        <p:grpSpPr>
          <a:xfrm>
            <a:off x="714240" y="2428920"/>
            <a:ext cx="7572600" cy="2714400"/>
            <a:chOff x="714240" y="2428920"/>
            <a:chExt cx="7572600" cy="2714400"/>
          </a:xfrm>
        </p:grpSpPr>
        <p:grpSp>
          <p:nvGrpSpPr>
            <p:cNvPr id="108" name="Group 4"/>
            <p:cNvGrpSpPr/>
            <p:nvPr/>
          </p:nvGrpSpPr>
          <p:grpSpPr>
            <a:xfrm>
              <a:off x="732600" y="2428920"/>
              <a:ext cx="800640" cy="750600"/>
              <a:chOff x="732600" y="2428920"/>
              <a:chExt cx="800640" cy="750600"/>
            </a:xfrm>
          </p:grpSpPr>
          <p:sp>
            <p:nvSpPr>
              <p:cNvPr id="109" name="AutoShape 5"/>
              <p:cNvSpPr/>
              <p:nvPr/>
            </p:nvSpPr>
            <p:spPr>
              <a:xfrm>
                <a:off x="739080" y="24415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6"/>
              <p:cNvSpPr/>
              <p:nvPr/>
            </p:nvSpPr>
            <p:spPr>
              <a:xfrm>
                <a:off x="732600" y="24289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" name="AutoShape 7"/>
              <p:cNvSpPr/>
              <p:nvPr/>
            </p:nvSpPr>
            <p:spPr>
              <a:xfrm>
                <a:off x="779040" y="2473200"/>
                <a:ext cx="698040" cy="649440"/>
              </a:xfrm>
              <a:prstGeom prst="hexagon">
                <a:avLst>
                  <a:gd name="adj" fmla="val 26871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2" name="Text Box 8"/>
            <p:cNvSpPr/>
            <p:nvPr/>
          </p:nvSpPr>
          <p:spPr>
            <a:xfrm>
              <a:off x="905400" y="2500920"/>
              <a:ext cx="366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>
              <a:off x="732960" y="3392640"/>
              <a:ext cx="798480" cy="750960"/>
            </a:xfrm>
            <a:prstGeom prst="hexagon">
              <a:avLst>
                <a:gd name="adj" fmla="val 26586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889200" y="3497040"/>
              <a:ext cx="411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5" name="Group 11"/>
            <p:cNvGrpSpPr/>
            <p:nvPr/>
          </p:nvGrpSpPr>
          <p:grpSpPr>
            <a:xfrm>
              <a:off x="714240" y="4364640"/>
              <a:ext cx="798480" cy="750600"/>
              <a:chOff x="714240" y="4364640"/>
              <a:chExt cx="798480" cy="750600"/>
            </a:xfrm>
          </p:grpSpPr>
          <p:sp>
            <p:nvSpPr>
              <p:cNvPr id="116" name="AutoShape 12"/>
              <p:cNvSpPr/>
              <p:nvPr/>
            </p:nvSpPr>
            <p:spPr>
              <a:xfrm>
                <a:off x="720720" y="43772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AutoShape 13"/>
              <p:cNvSpPr/>
              <p:nvPr/>
            </p:nvSpPr>
            <p:spPr>
              <a:xfrm>
                <a:off x="714240" y="43646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4"/>
              <p:cNvSpPr/>
              <p:nvPr/>
            </p:nvSpPr>
            <p:spPr>
              <a:xfrm>
                <a:off x="760320" y="4408920"/>
                <a:ext cx="695880" cy="649440"/>
              </a:xfrm>
              <a:prstGeom prst="hexagon">
                <a:avLst>
                  <a:gd name="adj" fmla="val 26788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5"/>
            <p:cNvSpPr/>
            <p:nvPr/>
          </p:nvSpPr>
          <p:spPr>
            <a:xfrm>
              <a:off x="909720" y="4461120"/>
              <a:ext cx="409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1588320" y="3139560"/>
              <a:ext cx="6698520" cy="1188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1588320" y="414180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V="1">
              <a:off x="1588320" y="513936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A503-8122-4989-BC2D-A2516A8715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99680" y="142848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  护理教育的历史、现状与未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一、国外护理教育的历史与现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、中国护理教育的历史与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三、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国外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内容占位符 4" descr=""/>
          <p:cNvPicPr/>
          <p:nvPr/>
        </p:nvPicPr>
        <p:blipFill>
          <a:blip r:embed="rId1"/>
          <a:stretch/>
        </p:blipFill>
        <p:spPr>
          <a:xfrm>
            <a:off x="12600" y="1359000"/>
            <a:ext cx="8906040" cy="4902120"/>
          </a:xfrm>
          <a:prstGeom prst="rect">
            <a:avLst/>
          </a:prstGeom>
          <a:ln w="0">
            <a:noFill/>
          </a:ln>
        </p:spPr>
      </p:pic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中国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内容占位符 4" descr=""/>
          <p:cNvPicPr/>
          <p:nvPr/>
        </p:nvPicPr>
        <p:blipFill>
          <a:blip r:embed="rId1"/>
          <a:stretch/>
        </p:blipFill>
        <p:spPr>
          <a:xfrm>
            <a:off x="-12600" y="1347840"/>
            <a:ext cx="8931240" cy="4900680"/>
          </a:xfrm>
          <a:prstGeom prst="rect">
            <a:avLst/>
          </a:prstGeom>
          <a:ln w="0">
            <a:noFill/>
          </a:ln>
        </p:spPr>
      </p:pic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71680" y="1285560"/>
            <a:ext cx="7696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国外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完善护理教育体系，提高护理教育层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培养目标，进行课程改革，促护理人才全面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广泛采用高科技教育手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护理教师队伍建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护理教育国际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我国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时俱进，调整护理学专业培养方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理教育教学方法的创新与探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展护理教育渠道，加速护理人才培养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革评估方法，健全完善国家护士执业资格考试制度，构建科学的评价体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建立适应时代需求的护理人才培养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构建具有专业特色的人才培养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速护理教育国际化，开放护理教育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拓展教育渠道、建立教育质量标准，提高护理教育的产出效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5AE8-0542-4031-A908-E3902CA284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99680" y="1212480"/>
            <a:ext cx="812484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第三节  护理教育学的教学内容、研究任务和研究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学习护理教育学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学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护理教育学的研究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护理教育的研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学习护理教育学的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内容占位符 4" descr=""/>
          <p:cNvPicPr/>
          <p:nvPr/>
        </p:nvPicPr>
        <p:blipFill>
          <a:blip r:embed="rId1"/>
          <a:stretch/>
        </p:blipFill>
        <p:spPr>
          <a:xfrm>
            <a:off x="1274760" y="1500120"/>
            <a:ext cx="6308640" cy="4430880"/>
          </a:xfrm>
          <a:prstGeom prst="rect">
            <a:avLst/>
          </a:prstGeom>
          <a:ln w="0">
            <a:noFill/>
          </a:ln>
        </p:spPr>
      </p:pic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2714760" y="4857840"/>
            <a:ext cx="37144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理教育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代教育学理论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9" name="图示 5" descr=""/>
          <p:cNvPicPr/>
          <p:nvPr/>
        </p:nvPicPr>
        <p:blipFill>
          <a:blip r:embed="rId1"/>
          <a:stretch/>
        </p:blipFill>
        <p:spPr>
          <a:xfrm>
            <a:off x="426960" y="1987560"/>
            <a:ext cx="4071960" cy="4084560"/>
          </a:xfrm>
          <a:prstGeom prst="rect">
            <a:avLst/>
          </a:prstGeom>
          <a:ln w="0">
            <a:noFill/>
          </a:ln>
        </p:spPr>
      </p:pic>
      <p:pic>
        <p:nvPicPr>
          <p:cNvPr id="220" name="图示 6" descr=""/>
          <p:cNvPicPr/>
          <p:nvPr/>
        </p:nvPicPr>
        <p:blipFill>
          <a:blip r:embed="rId2"/>
          <a:stretch/>
        </p:blipFill>
        <p:spPr>
          <a:xfrm>
            <a:off x="4432320" y="1994040"/>
            <a:ext cx="4425840" cy="4082760"/>
          </a:xfrm>
          <a:prstGeom prst="rect">
            <a:avLst/>
          </a:prstGeom>
          <a:ln w="0">
            <a:noFill/>
          </a:ln>
        </p:spPr>
      </p:pic>
      <p:sp>
        <p:nvSpPr>
          <p:cNvPr id="221" name="右箭头 7"/>
          <p:cNvSpPr/>
          <p:nvPr/>
        </p:nvSpPr>
        <p:spPr>
          <a:xfrm>
            <a:off x="4071960" y="371484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目的、培养目标和教学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图示 5" descr=""/>
          <p:cNvPicPr/>
          <p:nvPr/>
        </p:nvPicPr>
        <p:blipFill>
          <a:blip r:embed="rId1"/>
          <a:stretch/>
        </p:blipFill>
        <p:spPr>
          <a:xfrm>
            <a:off x="122400" y="2286000"/>
            <a:ext cx="2779560" cy="4065480"/>
          </a:xfrm>
          <a:prstGeom prst="rect">
            <a:avLst/>
          </a:prstGeom>
          <a:ln w="0">
            <a:noFill/>
          </a:ln>
        </p:spPr>
      </p:pic>
      <p:pic>
        <p:nvPicPr>
          <p:cNvPr id="226" name="图示 9" descr=""/>
          <p:cNvPicPr/>
          <p:nvPr/>
        </p:nvPicPr>
        <p:blipFill>
          <a:blip r:embed="rId2"/>
          <a:stretch/>
        </p:blipFill>
        <p:spPr>
          <a:xfrm>
            <a:off x="2908440" y="2146320"/>
            <a:ext cx="3071520" cy="4071960"/>
          </a:xfrm>
          <a:prstGeom prst="rect">
            <a:avLst/>
          </a:prstGeom>
          <a:ln w="0">
            <a:noFill/>
          </a:ln>
        </p:spPr>
      </p:pic>
      <p:pic>
        <p:nvPicPr>
          <p:cNvPr id="227" name="图示 10" descr=""/>
          <p:cNvPicPr/>
          <p:nvPr/>
        </p:nvPicPr>
        <p:blipFill>
          <a:blip r:embed="rId3"/>
          <a:stretch/>
        </p:blipFill>
        <p:spPr>
          <a:xfrm>
            <a:off x="5638680" y="1792440"/>
            <a:ext cx="33591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护理教育的特殊性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国内外护理教育发展的趋势及特点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教育、教育学、护理教育学的概念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运用：护理教育学的教学内容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学习护理教育学的必要性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B2A4-8609-4F5B-9834-CC7C60976C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学专业的教师与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图示 5" descr=""/>
          <p:cNvPicPr/>
          <p:nvPr/>
        </p:nvPicPr>
        <p:blipFill>
          <a:blip r:embed="rId1"/>
          <a:stretch/>
        </p:blipFill>
        <p:spPr>
          <a:xfrm>
            <a:off x="500040" y="1925640"/>
            <a:ext cx="3498840" cy="4511520"/>
          </a:xfrm>
          <a:prstGeom prst="rect">
            <a:avLst/>
          </a:prstGeom>
          <a:ln w="0">
            <a:noFill/>
          </a:ln>
        </p:spPr>
      </p:pic>
      <p:pic>
        <p:nvPicPr>
          <p:cNvPr id="232" name="图示 11" descr=""/>
          <p:cNvPicPr/>
          <p:nvPr/>
        </p:nvPicPr>
        <p:blipFill>
          <a:blip r:embed="rId2"/>
          <a:stretch/>
        </p:blipFill>
        <p:spPr>
          <a:xfrm>
            <a:off x="4370400" y="1914480"/>
            <a:ext cx="39258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图示 7" descr=""/>
          <p:cNvPicPr/>
          <p:nvPr/>
        </p:nvPicPr>
        <p:blipFill>
          <a:blip r:embed="rId1"/>
          <a:stretch/>
        </p:blipFill>
        <p:spPr>
          <a:xfrm>
            <a:off x="712800" y="1657440"/>
            <a:ext cx="7645320" cy="4773600"/>
          </a:xfrm>
          <a:prstGeom prst="rect">
            <a:avLst/>
          </a:prstGeom>
          <a:ln w="0">
            <a:noFill/>
          </a:ln>
        </p:spPr>
      </p:pic>
      <p:sp>
        <p:nvSpPr>
          <p:cNvPr id="237" name="矩形 8"/>
          <p:cNvSpPr/>
          <p:nvPr/>
        </p:nvSpPr>
        <p:spPr>
          <a:xfrm>
            <a:off x="6858000" y="5929200"/>
            <a:ext cx="2071800" cy="571680"/>
          </a:xfrm>
          <a:prstGeom prst="rect">
            <a:avLst/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教学基本阶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85840" y="12664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的基本规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" name="图示 4" descr=""/>
          <p:cNvPicPr/>
          <p:nvPr/>
        </p:nvPicPr>
        <p:blipFill>
          <a:blip r:embed="rId1"/>
          <a:stretch/>
        </p:blipFill>
        <p:spPr>
          <a:xfrm>
            <a:off x="517680" y="1925640"/>
            <a:ext cx="8175600" cy="4146480"/>
          </a:xfrm>
          <a:prstGeom prst="rect">
            <a:avLst/>
          </a:prstGeom>
          <a:ln w="0">
            <a:noFill/>
          </a:ln>
        </p:spPr>
      </p:pic>
      <p:sp>
        <p:nvSpPr>
          <p:cNvPr id="242" name="上箭头标注 5"/>
          <p:cNvSpPr/>
          <p:nvPr/>
        </p:nvSpPr>
        <p:spPr>
          <a:xfrm>
            <a:off x="2428920" y="4929120"/>
            <a:ext cx="4000320" cy="1214640"/>
          </a:xfrm>
          <a:prstGeom prst="upArrowCallout">
            <a:avLst>
              <a:gd name="adj1" fmla="val 25008"/>
              <a:gd name="adj2" fmla="val 24990"/>
              <a:gd name="adj3" fmla="val 25000"/>
              <a:gd name="adj4" fmla="val 70041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课外教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下箭头标注 6"/>
          <p:cNvSpPr/>
          <p:nvPr/>
        </p:nvSpPr>
        <p:spPr>
          <a:xfrm>
            <a:off x="1643040" y="2071800"/>
            <a:ext cx="5572080" cy="1000080"/>
          </a:xfrm>
          <a:prstGeom prst="downArrowCallout">
            <a:avLst>
              <a:gd name="adj1" fmla="val 25023"/>
              <a:gd name="adj2" fmla="val 24995"/>
              <a:gd name="adj3" fmla="val 25000"/>
              <a:gd name="adj4" fmla="val 64977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知识与发展能力的关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7" name="图示 4" descr=""/>
          <p:cNvPicPr/>
          <p:nvPr/>
        </p:nvPicPr>
        <p:blipFill>
          <a:blip r:embed="rId1"/>
          <a:stretch/>
        </p:blipFill>
        <p:spPr>
          <a:xfrm>
            <a:off x="360360" y="1914480"/>
            <a:ext cx="4443480" cy="4784760"/>
          </a:xfrm>
          <a:prstGeom prst="rect">
            <a:avLst/>
          </a:prstGeom>
          <a:ln w="0">
            <a:noFill/>
          </a:ln>
        </p:spPr>
      </p:pic>
      <p:pic>
        <p:nvPicPr>
          <p:cNvPr id="248" name="图示 5" descr=""/>
          <p:cNvPicPr/>
          <p:nvPr/>
        </p:nvPicPr>
        <p:blipFill>
          <a:blip r:embed="rId2"/>
          <a:stretch/>
        </p:blipFill>
        <p:spPr>
          <a:xfrm>
            <a:off x="4863960" y="1700280"/>
            <a:ext cx="40053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1428480"/>
            <a:ext cx="8143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概念：教学理论应用于教学实践的中间环节，是教学理论的具体化，也是教学实践经验的系统概括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的教学模式包括程序教学模式、范例教学模式、发现学习教育模式、“掌握学习”教学模式、自主探究教学模式、“非指导性”教学模式、合作教学模式、暗示教学模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策略：在特定的教学任务中，为了提高教学效果，在一定的教学理论、教育观念和教育思想的指导下，根据教学条件的特点，对教学任务的诸要素进行系统的谋划，以及根据谋划在执行过程中所采用的具体措施，包括教学内容、教学方法、教学手段和组织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评价是护理教学过程的重要组成部分，并贯穿整个教学过程的始终，它通过不断的为教学活动提供反馈信息而促进教学活动的改进，提升教育教学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护理实践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571680" y="2500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职业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1" name="Group 16"/>
          <p:cNvGrpSpPr/>
          <p:nvPr/>
        </p:nvGrpSpPr>
        <p:grpSpPr>
          <a:xfrm>
            <a:off x="2741760" y="1285920"/>
            <a:ext cx="6116040" cy="5052600"/>
            <a:chOff x="2741760" y="1285920"/>
            <a:chExt cx="6116040" cy="5052600"/>
          </a:xfrm>
        </p:grpSpPr>
        <p:sp>
          <p:nvSpPr>
            <p:cNvPr id="262" name="Freeform 19"/>
            <p:cNvSpPr/>
            <p:nvPr/>
          </p:nvSpPr>
          <p:spPr>
            <a:xfrm>
              <a:off x="8025120" y="2349720"/>
              <a:ext cx="825480" cy="108864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65410"/>
                </a:gs>
                <a:gs pos="50000">
                  <a:srgbClr val="ddb523"/>
                </a:gs>
                <a:gs pos="100000">
                  <a:srgbClr val="6654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4667040" y="2349720"/>
              <a:ext cx="4190760" cy="640080"/>
            </a:xfrm>
            <a:custGeom>
              <a:avLst/>
              <a:gdLst>
                <a:gd name="textAreaLeft" fmla="*/ 0 w 4190760"/>
                <a:gd name="textAreaRight" fmla="*/ 4191120 w 419076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7417800" y="3655440"/>
              <a:ext cx="751320" cy="11282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6786360" y="4928400"/>
              <a:ext cx="688320" cy="1076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2324d"/>
                </a:gs>
                <a:gs pos="50000">
                  <a:srgbClr val="046ca6"/>
                </a:gs>
                <a:gs pos="100000">
                  <a:srgbClr val="0232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2786040" y="4928400"/>
              <a:ext cx="4714920" cy="745200"/>
            </a:xfrm>
            <a:custGeom>
              <a:avLst/>
              <a:gdLst>
                <a:gd name="textAreaLeft" fmla="*/ 0 w 4714920"/>
                <a:gd name="textAreaRight" fmla="*/ 4715280 w 471492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3432240" y="1285920"/>
              <a:ext cx="2143440" cy="4272840"/>
            </a:xfrm>
            <a:custGeom>
              <a:avLst/>
              <a:gdLst>
                <a:gd name="textAreaLeft" fmla="*/ 0 w 2143440"/>
                <a:gd name="textAreaRight" fmla="*/ 2143800 w 2143440"/>
                <a:gd name="textAreaTop" fmla="*/ 0 h 4272840"/>
                <a:gd name="textAreaBottom" fmla="*/ 4273200 h 427284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Rectangle 26"/>
            <p:cNvSpPr/>
            <p:nvPr/>
          </p:nvSpPr>
          <p:spPr>
            <a:xfrm>
              <a:off x="4668480" y="2989800"/>
              <a:ext cx="3517560" cy="675000"/>
            </a:xfrm>
            <a:prstGeom prst="rect">
              <a:avLst/>
            </a:prstGeom>
            <a:gradFill rotWithShape="0">
              <a:gsLst>
                <a:gs pos="0">
                  <a:srgbClr val="a08319"/>
                </a:gs>
                <a:gs pos="50000">
                  <a:srgbClr val="ddb523"/>
                </a:gs>
                <a:gs pos="100000">
                  <a:srgbClr val="a083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认知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3628080" y="3655440"/>
              <a:ext cx="4548600" cy="680040"/>
            </a:xfrm>
            <a:custGeom>
              <a:avLst/>
              <a:gdLst>
                <a:gd name="textAreaLeft" fmla="*/ 0 w 4548600"/>
                <a:gd name="textAreaRight" fmla="*/ 4548960 w 454860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Rectangle 28"/>
            <p:cNvSpPr/>
            <p:nvPr/>
          </p:nvSpPr>
          <p:spPr>
            <a:xfrm>
              <a:off x="3709800" y="4335480"/>
              <a:ext cx="3805920" cy="64008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情感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Rectangle 29"/>
            <p:cNvSpPr/>
            <p:nvPr/>
          </p:nvSpPr>
          <p:spPr>
            <a:xfrm>
              <a:off x="2741760" y="5643720"/>
              <a:ext cx="4096440" cy="694800"/>
            </a:xfrm>
            <a:prstGeom prst="rect">
              <a:avLst/>
            </a:prstGeom>
            <a:gradFill rotWithShape="0">
              <a:gsLst>
                <a:gs pos="0">
                  <a:srgbClr val="034e78"/>
                </a:gs>
                <a:gs pos="50000">
                  <a:srgbClr val="046ca6"/>
                </a:gs>
                <a:gs pos="100000">
                  <a:srgbClr val="034e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技能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571680" y="3643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析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500040" y="4786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护理临床教学的组织领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带教管理领导小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拟订教学计划，负责教学安排，加强日常管理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完善教学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严格过程管理提高教学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好带教队伍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教学秩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检查考核促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营造良好临床教学氛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8AAF-CB5F-46AA-B517-BBC9E7C83F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教育与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一、教  育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实习生应掌握或熟悉的专科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科护理技术             外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妇产科护理技术         儿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五官科护理技术          手术室护理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救与重症监护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标本采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现代教学对护理教师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图示 4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356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总结护理教育经验、探索护理教育规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育理论、护理教育历史的研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人才培养方案修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教育教学基本规律，坚持知识、能力、素质协调发展和综合提高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现整体优化的原则，科学地处理好各教学环节之间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坚持统一性与多样性相结合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护理教育课程设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减少公共基础课和医学基础课学时，增加人文和社会科学课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淡化学科界限，建立综合性课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实践课时，早期接触临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会人文课程，注重培养学生的人文素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教学方法和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化教学手段，注重素质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改革教学手段，提高现代化教学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增加护理实践机会，提高学生综合能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重护理理论与护理实践相结合，减少课堂讲授时数，增加小组讨论专题讲座和实际训练，激发学生学习热情，积极主动的探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测量和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页脚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1066680" y="3657600"/>
            <a:ext cx="1828800" cy="277164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771640"/>
              <a:gd name="textAreaBottom" fmla="*/ 2698200 h 2771640"/>
            </a:gdLst>
            <a:ahLst/>
            <a:rect l="textAreaLeft" t="textAreaTop" r="textAreaRight" b="textAreaBottom"/>
            <a:pathLst>
              <a:path w="21600" h="32734">
                <a:moveTo>
                  <a:pt x="2969" y="0"/>
                </a:moveTo>
                <a:arcTo wR="2969" hR="2969" stAng="16200000" swAng="-5400000"/>
                <a:lnTo>
                  <a:pt x="0" y="29765"/>
                </a:lnTo>
                <a:arcTo wR="2969" hR="2969" stAng="10800000" swAng="-5400000"/>
                <a:lnTo>
                  <a:pt x="18631" y="3273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322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6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332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337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1" name="Text Box 38"/>
          <p:cNvSpPr/>
          <p:nvPr/>
        </p:nvSpPr>
        <p:spPr>
          <a:xfrm>
            <a:off x="166968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9"/>
          <p:cNvSpPr/>
          <p:nvPr/>
        </p:nvSpPr>
        <p:spPr>
          <a:xfrm>
            <a:off x="417024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40"/>
          <p:cNvSpPr/>
          <p:nvPr/>
        </p:nvSpPr>
        <p:spPr>
          <a:xfrm>
            <a:off x="6597360" y="2428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控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335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实证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图示 6" descr=""/>
          <p:cNvPicPr/>
          <p:nvPr/>
        </p:nvPicPr>
        <p:blipFill>
          <a:blip r:embed="rId1"/>
          <a:stretch/>
        </p:blipFill>
        <p:spPr>
          <a:xfrm>
            <a:off x="1274760" y="1773360"/>
            <a:ext cx="65469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71320" y="128592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论及系统思维的特点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晰性和开放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统方法论提供了新的思维原则、模式、路线及多学科综合研究的方法范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802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：培养人、促进人身心发展的一种社会活动，是有目的、有计划、有组织地传递社会经验，以培养社会所需要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FEE6-E0F3-4251-ABFD-49FFAE56FA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6"/>
          <p:cNvGrpSpPr/>
          <p:nvPr/>
        </p:nvGrpSpPr>
        <p:grpSpPr>
          <a:xfrm>
            <a:off x="500040" y="3214800"/>
            <a:ext cx="8215200" cy="3286080"/>
            <a:chOff x="500040" y="3214800"/>
            <a:chExt cx="8215200" cy="3286080"/>
          </a:xfrm>
        </p:grpSpPr>
        <p:pic>
          <p:nvPicPr>
            <p:cNvPr id="132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3214800"/>
              <a:ext cx="821520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流程图: 决策 5"/>
            <p:cNvSpPr/>
            <p:nvPr/>
          </p:nvSpPr>
          <p:spPr>
            <a:xfrm>
              <a:off x="4383360" y="3431160"/>
              <a:ext cx="495360" cy="357120"/>
            </a:xfrm>
            <a:prstGeom prst="flowChartDecision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1280" y="12682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复杂思维方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系统的复杂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组成因素的多样性和可变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结构与功能、系统与部分之间的非线性相互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过程的动态生成性和教育结果的不确定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行动研究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教师为研究主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学生参与、合作与交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实践反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文献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全面掌握所要研究问题的情况、现状，帮助研究人员选定研究课题和确定研究方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教育科研提供科学的论证依据和研究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重复劳动，提高研究效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提高课题研究的创新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00040" y="1371240"/>
            <a:ext cx="7858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护理教育实际，谈谈护理专业教师为什么要学习护理教育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者如何依据教学规律有效地开展教育教学工作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列举常用的教育研究方法，各有什么特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7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学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学：是研究人类教育现象及一般规律的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A767-2F74-4457-9C42-92713BC806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示 6" descr=""/>
          <p:cNvPicPr/>
          <p:nvPr/>
        </p:nvPicPr>
        <p:blipFill>
          <a:blip r:embed="rId1"/>
          <a:stretch/>
        </p:blipFill>
        <p:spPr>
          <a:xfrm>
            <a:off x="444600" y="1785960"/>
            <a:ext cx="84978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示 7" descr=""/>
          <p:cNvPicPr/>
          <p:nvPr/>
        </p:nvPicPr>
        <p:blipFill>
          <a:blip r:embed="rId1"/>
          <a:stretch/>
        </p:blipFill>
        <p:spPr>
          <a:xfrm>
            <a:off x="1085760" y="1463760"/>
            <a:ext cx="72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示 3" descr=""/>
          <p:cNvPicPr/>
          <p:nvPr/>
        </p:nvPicPr>
        <p:blipFill>
          <a:blip r:embed="rId1"/>
          <a:stretch/>
        </p:blipFill>
        <p:spPr>
          <a:xfrm>
            <a:off x="920880" y="1395360"/>
            <a:ext cx="793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本质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示 3" descr=""/>
          <p:cNvPicPr/>
          <p:nvPr/>
        </p:nvPicPr>
        <p:blipFill>
          <a:blip r:embed="rId1"/>
          <a:stretch/>
        </p:blipFill>
        <p:spPr>
          <a:xfrm>
            <a:off x="585720" y="1663560"/>
            <a:ext cx="755172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上下箭头 4"/>
          <p:cNvSpPr/>
          <p:nvPr/>
        </p:nvSpPr>
        <p:spPr>
          <a:xfrm>
            <a:off x="1785960" y="3357720"/>
            <a:ext cx="428760" cy="1071360"/>
          </a:xfrm>
          <a:prstGeom prst="upDownArrow">
            <a:avLst>
              <a:gd name="adj1" fmla="val 50000"/>
              <a:gd name="adj2" fmla="val 497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8:26:10Z</dcterms:modified>
  <cp:revision>15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