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D560-7098-4C78-BD34-5FD8727A7D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788A-2122-4A32-AA0B-0E0B5FF1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1E63-43FD-4625-AC72-3EDC2E12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6DD9-AEF1-4299-BD82-3DD5A32DA1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9507-E938-4781-B679-42B80366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1681-B101-4E9D-BF9F-002293D7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4FB2-D2EF-4ADB-ABBF-2A70E414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2A1F-0DF7-4085-9886-27BB7CB8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9FA8-41CB-4D69-863E-34E88043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C61E-291D-45A5-9D5D-4CE140F4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A1103-2489-4231-AC49-253D9BA3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0DC0-AD3C-4592-ACD2-4FEF1794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B90C-B34B-4E24-8A88-BB1CBCD3CE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539640" y="4438800"/>
            <a:ext cx="820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ahoma"/>
                <a:ea typeface="宋体"/>
              </a:rPr>
              <a:t>第七节  日常生活活动能力和生存质量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260360" y="1054080"/>
            <a:ext cx="7128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356000" y="333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指数评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55640" y="1270080"/>
            <a:ext cx="74534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该方法主要用于慢性＞疾患、老年人和住院患者的评定。评定内容包括六项：①躯体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hysical Condition, 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②上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Upper Limb Function,U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③下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Lower Limb Function, 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④感觉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nsory Component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包括视、听、言语；⑤排泄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xcretory Functions, 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患者情况，包括精神和情感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tatus of Patient-Mental and Emotional Statu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总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（功能最佳）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功能最差。每项分四个等级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常，无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轻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重度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功能独立性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独立性评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independentce measur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美国物理医学与康复学会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的，能够全面、客观地反映残疾者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。有学者认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描述残疾水平和功能独立程度上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等评定方法会更敏感、更精确，并且适用于所有残疾者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内容为六个方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功能，即自理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括约肌控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转移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行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交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和社会认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。每项功能被分为七级，最高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最低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总积分最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得分越高提示独立水平越好，反之越差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6863" b="1735"/>
          <a:stretch/>
        </p:blipFill>
        <p:spPr>
          <a:xfrm>
            <a:off x="1547640" y="1054080"/>
            <a:ext cx="586764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690600" y="3333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FIM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2700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标准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完全独立，即所有活动都可规范地、安全地在合理的时间内完成，不用辅助设备和帮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有条件的独立，即能独立完成所有活动，但活动中需要辅助设施，或者需要的时间比正常长，或有安全方面的顾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监护或示范，即在没有身体接触帮助的前提下，能完成活动，但需要他人监护、提示或规劝；或者需要他人准备或传递必要的物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小亮身体接触的帮助，提供给患者的帮助限于辅助，或患者在活动中用力程度大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中等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需要大量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完全依赖，患者在活动中的用力程度小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级标准：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者为及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中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8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轻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极轻度依赖或有条件的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基本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独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360" y="26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存质量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280" y="1700280"/>
            <a:ext cx="784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存质量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lif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O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个人根据自身所处的文化和价值体系，对于自身生存状态的主观感受，这种感受充分考虑了其目标、期望、标准及所关心的各种事物，同时受到个人身体健康、心理状态、个人信仰、社会关系和所处环境的综合影响。包括生活者自身的质量和生活者对周围环境质量的认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988640"/>
            <a:ext cx="84978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社会学与经济学领域的生存质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医学领域的健康相关生存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4000" y="2133360"/>
            <a:ext cx="8135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活满意度的量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世界卫生组织生存质量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良好状态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（二）生存质量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生活满意度的量表目前对生活满意度的整体评价一般都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Diene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atisfaction with Life Scale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)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Neugarten 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①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有生活接近理想，生活条件好，生活满意，得到重要东西，肯定人生道路等五个问题组成。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评分，适用于不同年龄段的群体，其信度效度指标较好，应用十分广泛。②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包括三个独立的分量表，其一是他评量表，即生活满意度评定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Life Satisfac-tion Rating Soales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另两个分量表是自评量表，分别为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A(Life Sat-isfaction Index A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B(Life Satisfaction lndex B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A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7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日常生活活动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生存质量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989440" y="137520"/>
            <a:ext cx="60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HOQOL-BREF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的结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928800"/>
          <a:ext cx="8638920" cy="5678280"/>
        </p:xfrm>
        <a:graphic>
          <a:graphicData uri="http://schemas.openxmlformats.org/drawingml/2006/table">
            <a:tbl>
              <a:tblPr/>
              <a:tblGrid>
                <a:gridCol w="3373200"/>
                <a:gridCol w="526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关系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疼痛与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人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力与疲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需社会支持的满意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睡眠与休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性生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走动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日常生活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安全保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药物及医疗手段的依赖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住房环境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工作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经济来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心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医疗服务于社会保障：获取途径与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积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获取新信息、知识、技能的机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思想、学习、记忆和注意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休闲娱乐活动的参与机会与参与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自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条件（污染，噪声，交通，气候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身材和相貌的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交通条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消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神支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总的健康状况与生存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 36-item short form health surve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F-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美国医学结局研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medical outcomes stud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组开发的国际上以健康作为重点的综合评定表。被广泛应用于普通人群的生存质量测定、临床试验效果评价以及卫生政策评估等领域。量表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维度①体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physical function,P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②精神影响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role emotional,RE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③社会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ocial function,S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④心理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ental health,M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⑤体能影响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le physical,R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精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vitality,V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⑦身体疼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odily pain,B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⑧一般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general health, G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共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living index cancer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LI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加拿大世界卫生组织生存质量课题合作单位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.Schipper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研制的专用于癌症患者生存质量评价的疾病特异性量表。包括躯体良好和能力，心理良好，因癌造成的艰难，社会良好，恶心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领域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比较全面地描述了患者的活动能力、执行角色功能的能力、社会交往能力、情绪状态、症状和主观感受等，较适宜预后较好的癌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健康良好状态指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well-being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dex of well-be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.M.Kaplan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于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7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包含主观生命质量指标的良好适应状态指数。第一部分是有关患者日常生活活动方面的内容，包括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、生理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和社会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三方面。第二部分包括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症状及健康问题综合描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CPX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5921-AD40-476E-A566-9907ABD87B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、分类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QO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的评定标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SF-3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和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对脑卒中患者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活动能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ctivities of Daily Liv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是指人们为了维持生存以及适应生存环境而每天必须反复进行的、最基本的、最具有共同性的活动。即进行衣、食、住、行、个人卫生等的基本动作和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基本或躯体的日常生活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sic or physical ADL, BADL or P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每日生活中与穿衣、进食、保持个人卫生等自理活动和坐、站、行走等身体活动有关的基本活动。无需利用工具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工具性日常生活活动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strumental ADL, I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人们在社区中独立生活所需的关键性的较高级的技能，如家务杂事、炊事、采购、骑车或驾车、处理个人事务等，大多需借助工具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能力包括  运动、自理、交流、家务活动及娱乐活动等。①运动方面有：床上运动、轮椅上运动和转移、室内或室外行走、公共或私人交通工具的使用。②自理方面有：更衣、进食、入厕、洗漱、修饰（梳头、刮脸、化妆）等。③交流方面有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打电话、阅读、书写、使用电脑、识别环境标志等。④家务劳动方面有：购物、备餐、洗衣、使用家具及环境控制器（电源开关、水龙头、钥匙等）。⑤娱乐活动有：打扑克、下棋、摄影、旅游、社交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确定在日常生活活动方面是否能够独立及独立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拟定合适的治疗目标，确定适当的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价治疗效果，修正治疗方案或重新制订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较治疗方案的优劣，促进训练成果的交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判断预后。增强患者和治疗师的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84360" y="2204640"/>
            <a:ext cx="41752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直接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间接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测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问卷调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000" y="2133720"/>
            <a:ext cx="6264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良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量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AD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常用量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00:02Z</dcterms:modified>
  <cp:revision>1</cp:revision>
  <dc:subject/>
  <dc:title>  第三章  康复护理评价</dc:title>
</cp:coreProperties>
</file>