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B1595-5760-4334-AA09-A2E2DEEA22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A69F5-AE01-497F-9383-F6B8269B9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ACEA8-9B6B-4C92-9024-78333BE5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DD023-FE65-4B2A-9F79-B1CD50730C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910AE-E543-4E47-9EA0-E94BB7995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F22B1-CD2D-496F-BA5B-322906D0A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F36D7-3540-4908-93F4-9682C4E52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5A43F-8F07-4F33-A656-C2C64CE08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56CBD-4ADE-429F-8E1E-06C8559F6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EA369-4DB8-4839-A09D-B90DD8142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C2E38-B58A-461B-90FE-3129B24C1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6C1AB-5076-490D-B441-7393F705C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700C2-E8AC-4D02-9676-86B54203A65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1837080" y="2133720"/>
            <a:ext cx="9433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Verdana"/>
                <a:ea typeface="华文新魏"/>
              </a:rPr>
              <a:t>第二节  </a:t>
            </a:r>
            <a:br>
              <a:rPr sz="7200"/>
            </a:br>
            <a:r>
              <a:rPr b="1" lang="zh-CN" sz="7200" spc="-1" strike="noStrike">
                <a:solidFill>
                  <a:srgbClr val="ffff00"/>
                </a:solidFill>
                <a:latin typeface="Verdana"/>
                <a:ea typeface="华文新魏"/>
              </a:rPr>
              <a:t>颅脑损伤</a:t>
            </a: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1"/>
          <p:cNvSpPr/>
          <p:nvPr/>
        </p:nvSpPr>
        <p:spPr>
          <a:xfrm>
            <a:off x="684360" y="1484280"/>
            <a:ext cx="7920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案例</a:t>
            </a:r>
            <a:r>
              <a:rPr b="1" lang="en-US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6-2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李某，男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已婚，因头部外伤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0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入院。入院诊断：重型颅脑损伤。经积极的对症治疗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0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苏醒。查体可基本配合，但沟通困难，语速慢，认识家人，但记忆、计算、定向力等能力较差，生命体征平稳，右侧肢体瘫痪，肌张力高，左侧肢体肌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级，肌张力正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问题与思考：（</a:t>
            </a:r>
            <a:r>
              <a:rPr b="0" lang="en-US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）该患者存在哪些功能障碍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）如何对其进行护理评估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96770-D733-4A99-9795-0AFD0C52A6B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95640" y="764640"/>
            <a:ext cx="486072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80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意识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意识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consciousness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是大脑功能活动的综合表现，是机体对自身及周围环境的知觉状态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意识障碍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disorders of consciousness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是指机体对自身及周围环境缺乏反应的一种精神状态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1BF73-767F-4658-963F-C715A288C05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11280" y="1699920"/>
            <a:ext cx="8136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二）认知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认知功能障碍是颅脑损伤后的重要功能障碍之一，其原因是由于颅脑损伤时常累及大脑皮质，主要表现为不能对事物进行正确的理解、认识和反应，出现记忆障碍、注意力障碍、听力理解异常、智力障碍、沟通交流障碍、执行功能障碍、空间辨别障碍等</a:t>
            </a:r>
            <a:r>
              <a:rPr b="1" lang="zh-CN" sz="2600" spc="-1" strike="noStrike">
                <a:solidFill>
                  <a:srgbClr val="38b5fa"/>
                </a:solidFill>
                <a:latin typeface="Verdana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574200" y="83628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D524C-6E31-419E-B928-EBE25E51404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11280" y="1699920"/>
            <a:ext cx="8136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二）认知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记忆障碍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memory deficits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  是颅脑损伤后的常见症状，表现为近期记忆障碍，不能记住伤后发生的事情，但对以前的远期记忆影响不大，部分患者的记忆障碍可在颅脑损伤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年后出现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注意力障碍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attention/concentration deficits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  是指做一项工作时，不能持续注意，是颅脑损伤的常见后遗症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574200" y="83628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0E06D-76DB-4F1C-923D-6EA0E4C0D68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83628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心理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8136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二）认知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推理</a:t>
            </a: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/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判断 （</a:t>
            </a: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reasoning/judgment problems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障碍  广泛性颅脑损伤可出现高水平的思维障碍，表现为分析和综合信息困难，抽象、推理能力降低，判断和解决问题能力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执行能力障碍</a:t>
            </a: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(executive function deficits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  指进行有目标的活动时，有多个认知成分，但不能正常选择和执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沟通交流障碍（</a:t>
            </a: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communication disorders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  是颅脑损伤的常见表现，主要为语言表达和理解障碍。</a:t>
            </a:r>
            <a:r>
              <a:rPr b="1" lang="zh-CN" sz="1700" spc="-1" strike="noStrike">
                <a:solidFill>
                  <a:srgbClr val="38b5fa"/>
                </a:solidFill>
                <a:latin typeface="Verdana"/>
                <a:ea typeface="宋体"/>
              </a:rPr>
              <a:t> </a:t>
            </a:r>
            <a:endParaRPr b="1" lang="en-US" sz="17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574560" y="83664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749C-6748-4EAD-9173-47DCAE42FB4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94920" y="1988640"/>
            <a:ext cx="8248680" cy="3807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三）感知觉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感知觉功能障碍是指颅脑损伤时，大脑对感觉刺激的解释和整合发生障碍。患者可表现为躯体构图障碍、视空间关系障碍、失认症、失用症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611280" y="836640"/>
            <a:ext cx="457344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心理治疗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574560" y="83664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52177-49D0-459D-B6B8-E8C07D36049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23640" y="1773360"/>
            <a:ext cx="8497800" cy="380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四）运动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患者由于受伤原因、部位、病情严重程度等不同，运动功能障碍表现具有多样性，可因锥体束损害表现为偏瘫、单瘫、双侧瘫，也可出现帕金森综合征、共济失调、舞蹈样动作等锥体外系表现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2"/>
          <p:cNvSpPr/>
          <p:nvPr/>
        </p:nvSpPr>
        <p:spPr>
          <a:xfrm>
            <a:off x="950760" y="1123920"/>
            <a:ext cx="784872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  <a:ea typeface="楷体"/>
              </a:rPr>
              <a:t>知识链接      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颅脑损伤患者的认知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认知功能障碍是</a:t>
            </a:r>
            <a:r>
              <a:rPr b="0" lang="en-US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TBI</a:t>
            </a:r>
            <a:r>
              <a:rPr b="0" lang="zh-CN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的主要后果，常与损伤部位有关，主要表现在注意力和记忆力两个方面。当损伤网状结构、颞叶（尤其海马）、额叶和顶叶及轴索的任何部位时，都能破坏其维持注意看力集中的正常功能，典型表现为难以完成交谈、阅读、观看电视节目及进行一连串的思考。边缘系统、丘脑、脑干网状结构、前额叶等部位参与记忆活动，</a:t>
            </a:r>
            <a:r>
              <a:rPr b="0" lang="en-US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TBI</a:t>
            </a:r>
            <a:r>
              <a:rPr b="0" lang="zh-CN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患者不能对事物在集中注意力，因而不能有效的接受信息及将其储存导致日后不能回忆，所以康复护士应该根据</a:t>
            </a:r>
            <a:r>
              <a:rPr b="0" lang="en-US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TBI</a:t>
            </a:r>
            <a:r>
              <a:rPr b="0" lang="zh-CN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患者的损伤部位和严重程度进行认知功能的评估，有针对性的进行康复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66E93-1B68-46FE-A4DB-D510E17DB21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23640" y="1773360"/>
            <a:ext cx="8497800" cy="380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五）言语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可导致失语、构音障碍或言语失用等语言功能障碍，其中以失语症最为常见。失语症患者在语音的理解、形成及表达等方面的能力受限或丧失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5EE54-7DAE-4C67-AD4D-ABE36CB65FC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23640" y="1773360"/>
            <a:ext cx="8497800" cy="380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8b5fa"/>
                </a:solidFill>
                <a:latin typeface="Verdana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六）吞咽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的患者常见吞咽障碍，临床表现为液体或固体食物进入口腔，吞下过程发生障碍或吞下时发生呛咳、哽噎，伴有此类障碍的患者由于摄食困难可导致营养不良、水电解质紊乱等症状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B7929-29AD-4064-B3B5-EE43EB642B1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560" y="11253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主要内容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7031160" cy="36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主要功能障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评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措施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指导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919E5-2986-4DAA-8E10-1E40F979B65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3640" y="1773360"/>
            <a:ext cx="8497800" cy="380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8b5fa"/>
                </a:solidFill>
                <a:latin typeface="Verdana"/>
              </a:rPr>
              <a:t>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七）精神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后除产生神经功能障碍外，还可出现各种类型的精神异常、情感障碍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八）心理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患者因病情的轻重程度、不同阶段可有不同的心理表现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5336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．损伤严重程度的评估   主要根据意识障程度与持续时间、创伤后遗忘（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post traumatic amnesia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PTA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）的持续时间来确定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具体可以通过以下量表判断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）格拉斯哥昏迷量表（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Glasgow coma scale, GCS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）盖尔维斯顿定向遗忘实验（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Galveston orientation and amnesia test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GOAT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5336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认知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Rancho Los Amigos(RLA)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认知功能分级量表  是反映患者颅脑损伤后一般认知与行为状态的常用量表之一，将认知功能分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8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个等级，级别越高，认知功能越好 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50560" y="1773000"/>
            <a:ext cx="871380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认知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记忆功能评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韦氏记忆量表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Wechsler memory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WMS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Rivermead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行为记忆测试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Rivermead behayioral memory test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RBMT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5336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认知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注意力功能评定：可以通过视跟踪、形态辨认、划消字母测试、听认字母测试、背诵数字、词辨认、声音辨认、在杂音背景中辨认词等方法对患者进行测评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5336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认知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执行功能评估：执行力是注意力、记忆力和运动等多项功能的综合表现，一般可通过启动能力评定、变换能力评定、解决问题能力评定和观察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来评估，另外，还可以使用一些量表，具体如下：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5336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．认知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韦氏成人智力量表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wechsler adult intelligence scale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WAIS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简易智能状态量表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mini-mental state examination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MMSE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威斯康星卡片分类测验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Wisconsin card sorting test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WCST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感知觉功能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运动功能评估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言语功能评估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6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其他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案例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6-2B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该患者经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Rancho Los Amigos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认知功能分级评级为Ⅵ级，右侧上肢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runnstrom 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级，下肢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runnstrom 3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级肌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     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问题与思考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：请针对患者的认知功能评分和运动功能分级制订康复护理计划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2533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三）康复护理计划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颅脑损伤患者康复护理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近期目标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为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患者情绪稳定，焦虑程度减轻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患者呼吸道保持通畅，呼吸平稳，无误吸发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患者营养状态维持良好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④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患者的运动功能改善，活动能力提高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⑤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患者的言语、认知功能改善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87280" y="83664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华文新魏"/>
              </a:rPr>
              <a:t>教学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55280" y="2565360"/>
            <a:ext cx="8072280" cy="292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识记</a:t>
            </a:r>
            <a:r>
              <a:rPr b="1" lang="zh-CN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．颅脑损伤的概念、分类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．颅脑损伤患者存在的主要功能障碍及护理评估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理解</a:t>
            </a:r>
            <a:r>
              <a:rPr b="1" lang="zh-CN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：解释颅脑损伤的病因和治疗原则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运用</a:t>
            </a:r>
            <a:r>
              <a:rPr b="1" lang="zh-CN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：结合所学知识为颅脑损伤患者进行认知功能康复护理训练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1C8C0-830D-4E2F-A368-806DEB0CB07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539640" y="1915920"/>
            <a:ext cx="82533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三）康复护理计划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颅脑损伤患者康复护理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远期目标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为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预防并发症和合并症，减轻后遗症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改善患者的各项功能，提高日常生活活动能力和生存质量，重返社会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574200" y="1757160"/>
            <a:ext cx="8001000" cy="131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四）康复护理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急性期康复护理措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2894400" y="3192480"/>
            <a:ext cx="3046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保持呼吸道的通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改善营养状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定时翻身叩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早期康复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促醒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94" name="Group 15"/>
          <p:cNvGrpSpPr/>
          <p:nvPr/>
        </p:nvGrpSpPr>
        <p:grpSpPr>
          <a:xfrm>
            <a:off x="2073240" y="2887560"/>
            <a:ext cx="4535280" cy="3612240"/>
            <a:chOff x="2073240" y="2887560"/>
            <a:chExt cx="4535280" cy="3612240"/>
          </a:xfrm>
        </p:grpSpPr>
        <p:sp>
          <p:nvSpPr>
            <p:cNvPr id="195" name="AutoShape 16"/>
            <p:cNvSpPr/>
            <p:nvPr/>
          </p:nvSpPr>
          <p:spPr>
            <a:xfrm>
              <a:off x="2073240" y="3042360"/>
              <a:ext cx="4535280" cy="272484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AutoShape 17"/>
            <p:cNvSpPr/>
            <p:nvPr/>
          </p:nvSpPr>
          <p:spPr>
            <a:xfrm>
              <a:off x="2499840" y="2919240"/>
              <a:ext cx="3682080" cy="248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3a3a"/>
                </a:gs>
                <a:gs pos="50000">
                  <a:srgbClr val="969696"/>
                </a:gs>
                <a:gs pos="100000">
                  <a:srgbClr val="3a3a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AutoShape 18"/>
            <p:cNvSpPr/>
            <p:nvPr/>
          </p:nvSpPr>
          <p:spPr>
            <a:xfrm flipH="1">
              <a:off x="5826600" y="2980800"/>
              <a:ext cx="141480" cy="1249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8" name="AutoShape 19"/>
            <p:cNvSpPr/>
            <p:nvPr/>
          </p:nvSpPr>
          <p:spPr>
            <a:xfrm flipH="1">
              <a:off x="2699640" y="2980800"/>
              <a:ext cx="144360" cy="1249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Text Box 20"/>
            <p:cNvSpPr/>
            <p:nvPr/>
          </p:nvSpPr>
          <p:spPr>
            <a:xfrm>
              <a:off x="4215600" y="2887560"/>
              <a:ext cx="18180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Text Box 21"/>
            <p:cNvSpPr/>
            <p:nvPr/>
          </p:nvSpPr>
          <p:spPr>
            <a:xfrm>
              <a:off x="2223720" y="3265560"/>
              <a:ext cx="4214880" cy="32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1" name="Freeform 12"/>
          <p:cNvSpPr/>
          <p:nvPr/>
        </p:nvSpPr>
        <p:spPr>
          <a:xfrm rot="1277400">
            <a:off x="4493880" y="1760040"/>
            <a:ext cx="2521080" cy="1008360"/>
          </a:xfrm>
          <a:custGeom>
            <a:avLst/>
            <a:gdLst>
              <a:gd name="textAreaLeft" fmla="*/ 0 w 2521080"/>
              <a:gd name="textAreaRight" fmla="*/ 2521440 w 2521080"/>
              <a:gd name="textAreaTop" fmla="*/ 0 h 1008360"/>
              <a:gd name="textAreaBottom" fmla="*/ 1008720 h 1008360"/>
            </a:gdLst>
            <a:ahLst/>
            <a:rect l="textAreaLeft" t="textAreaTop" r="textAreaRight" b="textAreaBottom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4e26c">
                  <a:alpha val="32156"/>
                </a:srgbClr>
              </a:gs>
              <a:gs pos="100000">
                <a:srgbClr val="969696"/>
              </a:gs>
            </a:gsLst>
            <a:lin ang="203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539280" y="1557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四）康复护理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恢复功能训练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运动功能障碍训练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认知功能障碍训练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言语功能训练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日常生活活动能力训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3132000" y="3860640"/>
            <a:ext cx="59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记忆训练</a:t>
            </a:r>
            <a:r>
              <a:rPr b="1" lang="en-US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注意训练</a:t>
            </a:r>
            <a:r>
              <a:rPr b="1" lang="en-US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思维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AutoShape 6"/>
          <p:cNvSpPr/>
          <p:nvPr/>
        </p:nvSpPr>
        <p:spPr>
          <a:xfrm>
            <a:off x="2162160" y="3584520"/>
            <a:ext cx="6875640" cy="1295280"/>
          </a:xfrm>
          <a:prstGeom prst="cloudCallout">
            <a:avLst>
              <a:gd name="adj1" fmla="val -47000"/>
              <a:gd name="adj2" fmla="val -62009"/>
            </a:avLst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四）康复护理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并发症的预防和护理  颅脑损伤患者在损伤急性期或者长期卧床可以引起多种并发症，包括颅内压增高、脑疝、压疮、失用综合征等，护士应密切观察患者的病情变化，并采取有效措施进行预防和治疗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四）康复护理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心理护理   应与患者多沟通交流，注意安慰、开导患者，向他们解释病情，使其能面对现实，逐步消除恐惧、焦虑，稳定其心理状态和情绪，更好地取得患者的合作，促使各项功能的恢复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（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五）康复护理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对整个康复护理效果进行评价，观察康复护理目标是否实现，发现存在的问题，并制订新的护理计划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564840" y="1844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脑损伤后遗留的语言、运动或智力障碍在伤后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年内有部分恢复的可能，应提高患者的自信心，协助患者制订康复计划，指导患者利用社区和家庭康复资源，坚持康复训练，尤其是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训练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二）指导患者合理饮食、适当的运动和充足的睡眠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五、康复护理指导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539280" y="14126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三）指导出院患者正确服药，耐心向患者及家属讲解可能出现的合并症和并发症，并指导如何预防和护理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四）指导患者正确对待疾病及其残疾。多参加社会活动，争取获得有效的社会支持系统，包括家庭、朋友、同事、单位等社会支持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指导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5120" y="1341000"/>
            <a:ext cx="79977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    结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26920" y="2349000"/>
            <a:ext cx="7491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按损伤方式颅脑损伤可分为闭合性损伤和开放性损伤；按损伤病理机制颅脑损伤可分为原发性损伤和继发性损伤；根据脑损伤部位可分为局部损伤和弥漫性损伤；根据格拉斯哥昏迷量表的评定结果，按损伤程度分为轻型、中型、重型颅脑损伤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矩形 2"/>
          <p:cNvSpPr/>
          <p:nvPr/>
        </p:nvSpPr>
        <p:spPr>
          <a:xfrm>
            <a:off x="971640" y="234936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主要功能障碍意识功能障碍、认知功能障碍、感觉功能障碍、运动功能障碍、言语功能障碍、吞咽功能障碍、精神障碍、心理功能障碍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611280" y="1484280"/>
            <a:ext cx="79977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    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0E8E3-9802-47DB-8125-74D7FEC3253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49280" y="2205000"/>
            <a:ext cx="84297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traumatic brain injury, TBI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又称脑外伤或头损伤，是指头部，尤其是脑组织受各种外力作用后，引起脑组织结构及功能改变，导致较严重的神经功能缺损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2235240" y="115092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4"/>
          <p:cNvSpPr/>
          <p:nvPr/>
        </p:nvSpPr>
        <p:spPr>
          <a:xfrm>
            <a:off x="573120" y="1268280"/>
            <a:ext cx="799776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    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矩形 3"/>
          <p:cNvSpPr/>
          <p:nvPr/>
        </p:nvSpPr>
        <p:spPr>
          <a:xfrm>
            <a:off x="826920" y="2060640"/>
            <a:ext cx="749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康复护理颅脑损伤急性期康复护理措施包括：保持呼吸道的通畅、改善营养状况、定时翻身叩背、早期康复训练、促醒训练。恢复期康复护理措施包括：运动功能障碍训练的康复护理、认知功能障碍训练的康复护理、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训练、言语功能训练的康复护理。另外，还需进行并发症的预防和护理及心理护理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矩形 2"/>
          <p:cNvSpPr/>
          <p:nvPr/>
        </p:nvSpPr>
        <p:spPr>
          <a:xfrm>
            <a:off x="993600" y="227664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康复教育指导患者坚持康复训练、合理饮食、适当运动、正确服药、预防和护理并发症和合并症、正确对待疾病及其残疾、加强社会支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573120" y="1268280"/>
            <a:ext cx="799776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    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9843B-5464-4AA3-8770-8CD89640F38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79280" y="1628640"/>
            <a:ext cx="84297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二）分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按损伤方式颅脑损伤可分为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闭合性损伤和开放性损伤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按损伤病理机制颅脑损伤可分为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原发性损伤和继发性损伤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根据脑损伤部位可分为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局部损伤和弥漫性损伤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根据格拉斯哥昏迷量表的评定结果，按损伤程度分为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轻型、中型、重型颅脑损伤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5E6AA-07E2-478F-97C7-1C36BB38C85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50560" y="1773360"/>
            <a:ext cx="8713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三）流行病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是一类发病率高、病情急的疾病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占全身损伤的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5%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0%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，仅次于四肢创伤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常与身体其他部位的损伤复合存在，致残率及致死率均居首位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10BED-2301-40CA-8B75-23D77DBEDCB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50560" y="1773360"/>
            <a:ext cx="8713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四）病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主要见于交通事故、工伤事故、运动损伤、高空坠落、爆炸、跌倒和撞击、各种锐器伤、钝器伤、火器伤等，另外，分娩过程中婴儿脑损伤也偶有发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DA9A8-8322-4C84-BB20-E7D55C2A5FE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250920" y="1773360"/>
            <a:ext cx="842472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五）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因致病因素、损伤部位和就诊时间的不同，临床表现不一，但其具有共性。具体表现为：意识障碍、头痛、呕吐、神经系统局灶症状和体征、眼部征象、生命体征变化、脑疝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A96AF-0640-4005-BEFA-A546655EF80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84000" y="1916280"/>
            <a:ext cx="5833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六）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患者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5850000" y="19224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0" name="Group 15"/>
          <p:cNvGrpSpPr/>
          <p:nvPr/>
        </p:nvGrpSpPr>
        <p:grpSpPr>
          <a:xfrm>
            <a:off x="4284720" y="3716280"/>
            <a:ext cx="3814200" cy="3500280"/>
            <a:chOff x="4284720" y="3716280"/>
            <a:chExt cx="3814200" cy="3500280"/>
          </a:xfrm>
        </p:grpSpPr>
        <p:sp>
          <p:nvSpPr>
            <p:cNvPr id="131" name="AutoShape 16"/>
            <p:cNvSpPr/>
            <p:nvPr/>
          </p:nvSpPr>
          <p:spPr>
            <a:xfrm>
              <a:off x="4284720" y="3825360"/>
              <a:ext cx="3814200" cy="191808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17"/>
            <p:cNvSpPr/>
            <p:nvPr/>
          </p:nvSpPr>
          <p:spPr>
            <a:xfrm>
              <a:off x="4643640" y="3738600"/>
              <a:ext cx="3096720" cy="174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3a3a"/>
                </a:gs>
                <a:gs pos="50000">
                  <a:srgbClr val="969696"/>
                </a:gs>
                <a:gs pos="100000">
                  <a:srgbClr val="3a3a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AutoShape 18"/>
            <p:cNvSpPr/>
            <p:nvPr/>
          </p:nvSpPr>
          <p:spPr>
            <a:xfrm flipH="1">
              <a:off x="7441920" y="3781800"/>
              <a:ext cx="118800" cy="878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AutoShape 19"/>
            <p:cNvSpPr/>
            <p:nvPr/>
          </p:nvSpPr>
          <p:spPr>
            <a:xfrm flipH="1">
              <a:off x="4811400" y="3781800"/>
              <a:ext cx="121320" cy="878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Text Box 20"/>
            <p:cNvSpPr/>
            <p:nvPr/>
          </p:nvSpPr>
          <p:spPr>
            <a:xfrm>
              <a:off x="6073200" y="3716280"/>
              <a:ext cx="183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Text Box 21"/>
            <p:cNvSpPr/>
            <p:nvPr/>
          </p:nvSpPr>
          <p:spPr>
            <a:xfrm>
              <a:off x="4411440" y="3982320"/>
              <a:ext cx="3544920" cy="32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7" name="Text Box 40"/>
          <p:cNvSpPr/>
          <p:nvPr/>
        </p:nvSpPr>
        <p:spPr>
          <a:xfrm>
            <a:off x="4988520" y="4221000"/>
            <a:ext cx="231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手术治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非手术治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Freeform 12"/>
          <p:cNvSpPr/>
          <p:nvPr/>
        </p:nvSpPr>
        <p:spPr>
          <a:xfrm rot="1791000">
            <a:off x="4571640" y="2565360"/>
            <a:ext cx="2521080" cy="1008000"/>
          </a:xfrm>
          <a:custGeom>
            <a:avLst/>
            <a:gdLst>
              <a:gd name="textAreaLeft" fmla="*/ 0 w 2521080"/>
              <a:gd name="textAreaRight" fmla="*/ 2521440 w 25210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4e26c">
                  <a:alpha val="32156"/>
                </a:srgbClr>
              </a:gs>
              <a:gs pos="100000">
                <a:srgbClr val="969696"/>
              </a:gs>
            </a:gsLst>
            <a:lin ang="198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9:08:22Z</dcterms:modified>
  <cp:revision>10</cp:revision>
  <dc:subject/>
  <dc:title>第二节   颅脑损伤</dc:title>
</cp:coreProperties>
</file>