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A267C-94C2-46EA-AF5D-42B3FABBCD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B07A5-6BAF-46FB-B64A-97C608AF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39857-1D32-4C60-B085-8B767A98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A59B9-56D5-4EBC-8C12-05938EB352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3B773-D481-4846-9BC4-5BC88DFC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040F-ABA5-4008-8CE4-4CCF4BF1F7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BAAB-0D27-4A42-B4ED-F464654A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FE78-6144-4C57-BC3E-2134D2E9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B74D-3500-4F81-AD0C-F8076D2E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67CA-270E-4CEF-8D55-5C457673D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EDDA0-3507-494E-9DC8-84AEA4B6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A4A1-D609-4D68-AC91-69068EE1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56B6-8CB7-424C-83DE-5A23A8C0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604F-CDB8-42C3-AE83-CC736DD4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AC5D-A248-4069-9805-0A0F8420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50BB-2818-40AB-A516-9EA45294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20A3-D092-4097-AC67-EA227F8F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7370-AA0F-40B7-A78D-0D27EE15CB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506791-A224-42B6-AD9A-13D6FBEAA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D92EB1-E8C6-4743-A6A6-1E3D5BD5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F97DCF-4025-439B-AFC5-330EB11D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8FF66-16A2-48B1-BD35-C8645049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709950-B6EF-4230-9FC7-5A0E7F48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6F2961-C355-4610-9E96-46C4B9EE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3E5B0A-EAD0-4E4D-BD86-606E3B07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AB3519-6F2B-4F2C-9CF3-BAAA88D2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1E3575-1FE5-448C-A33F-EC5EA4FA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2AE9B7-1FBA-43EB-9111-59E30293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C9B64A-E94D-4ED0-BBF6-2231CD94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1522AB-D486-4726-9F9F-7F3748C21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FA6B73-3BFD-4037-917B-4C22CB9DE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71C22-4DE4-4814-8D00-237319B7E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9B33C-6934-4908-BD95-B4D89F03C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4AD3A-297D-4D97-A56F-C403AB37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D7814-DC0E-4092-AE85-99B8EC8F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1261A-DB18-4E1E-8719-9E48A501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D740-4870-44D6-81D7-B0D0DDEF414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977F-2651-4A20-A80A-7DF32B17FD3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691D-567B-40AC-9E9F-3C8CCE1D2AB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8803-54AA-41AD-B15F-A201DF7F771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七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老年痴呆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记忆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阶段表现为丧失近期记忆，患者不能记忆当天发生的日常琐事，记不得刚做过的事或讲过的话，忘记少用的名词、约会或贵重物件放于何处，易忘记不常用的名字，常重复发问，以前熟悉的名字易搞混，词汇减少，远事记忆可相对保留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矩形 1"/>
          <p:cNvSpPr/>
          <p:nvPr/>
        </p:nvSpPr>
        <p:spPr>
          <a:xfrm>
            <a:off x="673200" y="981000"/>
            <a:ext cx="7488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知识链接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  <a:ea typeface="宋体"/>
              </a:rPr>
              <a:t>美国前总统里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美国前总统里根是个最典型的例子。在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代初，里根就有记忆下降的征兆，比如忘记刚说过的话。有次聊天中他女儿说起里根演过一个电影角色，里根却怎么也想不起来。不出一年，里根就被诊断为老年性痴呆，可已过了疾病的早期。最后，他除了认识夫人南希外，谁也不认识了，甚至不记得自己担任过两届美国总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语言障碍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词汇量减少，谈话中因找词困难而不连贯，逐渐语无伦次，理解力差，不能参与交谈，最后只能发出别人不能理解的声音，甚至缄默，书写困难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视空间技能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失去大部分认识能力，如学习、判断及思考能力。接受新资讯有困难；对时间及方向感觉混乱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失用和失认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面容认知不能者，不认识亲人和熟悉朋友的面容。患者甚至不能认出和写出自己的名字。自我认知受损，产生镜子征，即：患者坐在镜子前与镜子中自己的影像说话，甚至问自己的影像是谁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 判断、计算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出现判断力差、概括能力丧失。简单的加减法运算困难，严重者甚至不认识数字和算术符号，也不能回答检查者伸出几个手指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精神功能性精神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表现为坐立不安、多疑、易激动，淡漠、焦虑、抑郁，可出现妄想、错觉、幻觉、伤人毁物行为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自理能力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由于老年痴呆患者记忆力、定向力和判断力障碍，日常起居生活、自我照顾能力减退。轻者可忘记服药、进食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或外出时自己不能回家；重者则不懂穿衣、如厕和洗浴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5560" y="221436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基本原则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发现、早期干预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后效果评价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784836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一）痴呆筛选量表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简易精神量表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mini -mental state examination,MMSE)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该量表最高得分为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3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分数在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3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为正常，分数＜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为认知功能障碍。痴呆严重程度分级方法：轻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≥2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中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 1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重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≤9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具体内容参见第三章康复护理评价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哈金斯基缺血指数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Huggins ischemia Index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HIS)  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可区分两种主要类型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和（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ulti-infarct dementia,MI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）的痴呆。总分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8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≥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考虑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I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≤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考虑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考虑混合型痴呆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8832-87BA-46DE-B140-C70D29EDE53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矩形 1"/>
          <p:cNvSpPr/>
          <p:nvPr/>
        </p:nvSpPr>
        <p:spPr>
          <a:xfrm>
            <a:off x="611280" y="2060640"/>
            <a:ext cx="7993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．临床痴呆评定量表</a:t>
            </a: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(clinical dementia rating, CDR)  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评估痴呆的严重程度，该量表从记忆力、定向力、判断力和解决问题能力、社会事务、家庭和爱好及个人料理等六项内容进行评级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．长谷川简易痴呆量表</a:t>
            </a: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(Hastgawa Dementia Scale, HDS)  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长谷川痴呆量表简单实用，我国学者根据我国国情，按文化程度将其评分标准化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矩形 2"/>
          <p:cNvSpPr/>
          <p:nvPr/>
        </p:nvSpPr>
        <p:spPr>
          <a:xfrm>
            <a:off x="250920" y="1773360"/>
            <a:ext cx="8715240" cy="53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二）记忆力、注意力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记忆力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韦氏记忆量表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Wechsler Memory Scale WM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词语流畅性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Verbal Fluency Test, VFT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注意力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连线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Trail Marking Test,TMT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Stroop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色词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Stroop Color Word Test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94920" y="1628280"/>
            <a:ext cx="8209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三）老年痴呆的身体功能评估量表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日常生活能力量表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(Activity of Daily Living Scale, ADL)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是较常用的评估老年痴呆患者身体功能的量表。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共有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4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，包括两部分内容：一是躯体生活自理量表，共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：上厕所、进食、穿衣、梳洗、行走和洗澡；二是工具性日常生活能力量表，共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：打电话、购物、备餐、做家务、洗衣、使用交通工具、服药和自理经济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1"/>
          <p:cNvSpPr/>
          <p:nvPr/>
        </p:nvSpPr>
        <p:spPr>
          <a:xfrm>
            <a:off x="684360" y="1268280"/>
            <a:ext cx="7991280" cy="20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6-7B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该患者经服用氟哌啶醇恐惧、紧张、失眠、出汗症状明显好转，但近半年来记忆力减退，吃完饭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30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钟后问及饭菜不能回答，去医院看病因不认识路不能回家，说话经常忘词，对家务活动漠不关心。头部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检查提示脑室扩大和皮质萎缩、脑沟变宽。脑电图可见非特异性的弥漫性慢波，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α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波节律变慢、波幅变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问题与思考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该患者应介入哪些康复护理措施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4FB5-CA1D-404B-B61A-9F3FD305B5F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6920" y="2133720"/>
            <a:ext cx="749016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老年痴呆病程长，进展缓慢，约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个月至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年。老年性痴呆康复的目的不是回归社会，而是控制症状和延缓发展进程，最大限度地维持残疾功能，延长生命，提高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患者的生活质量。老年痴呆患者的康复护理，一般是围绕着记忆训练、注意力训练以及其他认知功能的训练等环节进行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2CDB-0453-4043-9128-34EB0AE2C71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56898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个基本原则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活用痴呆者的残存能力；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维持和促进身体功能；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重视痴呆者的自我决定权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09EF-5B0F-4EA1-AFB0-6B87244EE97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85480" y="2643120"/>
            <a:ext cx="864396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反复训练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制订生活作息时间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活动安排：看电视、玩扑克、下跳棋、玩智力拼图、看电视、听音乐、看报纸、读杂志等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928800" y="1928880"/>
            <a:ext cx="53719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一）记忆功能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矩形 1"/>
          <p:cNvSpPr/>
          <p:nvPr/>
        </p:nvSpPr>
        <p:spPr>
          <a:xfrm>
            <a:off x="395280" y="549360"/>
            <a:ext cx="813744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知识链接</a:t>
            </a:r>
            <a:r>
              <a:rPr b="1" i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缅怀治疗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缅怀治疗是利用患者所拥有的记忆做媒介，去鼓励患者与人沟通及交往，是老年痴呆患者记忆训练的有效方法。缅怀可有多种形式，包括个别回想、与人面谈、小组分享、展览及话剧等。理论基础源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Erikson(1950)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对人生发展过程的理论。人到晚年，回忆往事是一个很自然的过程，如能借此过程解决一些从未能解决的问题和矛盾，整个人生便能达致整合，若未成功，一生变得“绝望”。一般缅怀活动，会柔和开心与不快的回忆，是两者有机结合，从而增进老年痴呆患者的生活满足感，减低抑郁，改善生活质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0824-77E0-478D-8FE3-1C2B70E2432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1504440" y="2644560"/>
            <a:ext cx="40705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时间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地点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人物认知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928800" y="1928880"/>
            <a:ext cx="486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二）定向能力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0DBE-591D-45E0-B579-5D1AD12D780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928440" y="2708280"/>
            <a:ext cx="7197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对不同原因引起的语言障碍采用不同的训练方式，如运动性失语，应着重给患者示范口形，面对面地教，循序渐进反复练习。对命名性失语患者，应让患者有意识地反复说出事物的名称，强化记忆，坚持听、说、读、写训练。还可进行口语对话、唇及口型训练、物品命名、词句和书写、计算、记忆等训练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928800" y="1901880"/>
            <a:ext cx="76057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三）语言能力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1549440" y="1197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学习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99640" y="2708280"/>
            <a:ext cx="763452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识记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陈述老年期痴呆的概念、主要功能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理解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解释老年期痴呆分类、康复护理评估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运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针对老年期痴呆患者的功能障碍制订康复护理计划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AC7F-2D0C-4A75-B1BF-8127683D1B2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A5A1-42AE-41A8-BDC4-9D71676A21A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933120" y="2646000"/>
            <a:ext cx="70959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在日常生活中，根据功能状况做一些洗碗、扫地、递东西、买东西等简单家务，使他们在头脑中建立新的条件反射，以维持各种功能。经常陪同患者去散步，呼吸室外新鲜空气，练习打太极拳，观赏盆景花鸟，并根据患者的兴趣爱好，安排听音乐、看电视、下象棋等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930240" y="1928880"/>
            <a:ext cx="64501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四）日常生活活动能力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"/>
          <p:cNvSpPr/>
          <p:nvPr/>
        </p:nvSpPr>
        <p:spPr>
          <a:xfrm>
            <a:off x="1042920" y="177336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对早期痴呆患者要尽可能帮助其保持日常生活习惯和卫生习惯，起居、穿衣、刷牙、洗脸等，尽可能让患者自己完成。对后期病情较重的患者，在限制其活动的同时，要根据病情做好肢体的被动运动，保持肢体的正常功能，防止关节畸形和肌肉萎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2EB2-E735-42DD-8004-9892D59B8DE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933120" y="2646000"/>
            <a:ext cx="70959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药物治疗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只是老年性痴呆症防治措施中的一个环节。对轻度痴呆症患者，这些药物能在一定程度上改善痴呆症状或延缓痴呆进展。临床常用药物有改善脑代谢药（海得琴）、改善认知功能药（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AChE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）、神经保护剂（维生素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E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）等。近年来在神经肽、神经生长因子和中草药等方面的研究也较多，并取得了一定程度的进展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900000" y="1917720"/>
            <a:ext cx="604836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五）药物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6F32-F27E-4F82-BAD2-D2EB396546F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26560" y="191628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0c0"/>
                </a:solidFill>
                <a:latin typeface="楷体"/>
              </a:rPr>
              <a:t>（一）生活护理</a:t>
            </a: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 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日常生活用品放置位置固定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不断强化患者对色彩、食物的辨认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评估患者的残存功能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对精神兴奋型或狂躁患者，适当给予小剂量安眠药或镇静剂，以保证其睡眠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7286-FDC0-462F-890F-A3387935D17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826560" y="177336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0c0"/>
                </a:solidFill>
                <a:latin typeface="楷体"/>
              </a:rPr>
              <a:t>（二）心理护理</a:t>
            </a: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心理护理的主要目的是使患者感觉良好，告诉他曾经的事，他会因为护士的存在而安静下来。这需要很多的交流技巧，患者的病情不断恶化，对待患者的技巧也不断变化，护士要善于了解老人的需要，要相互讨论，与医生讨论，找出最好的帮助患者的办法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EADC-243F-4BA7-BD3F-8CD17A5A195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826560" y="191628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（三）饮食护理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痴呆患者餐具要安全，不要用刀叉之类餐具，食物要软滑、简单方便，多吃水果、蔬菜，多食富含卵磷脂食物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主要有大豆、蛋黄、动物肝脏、鱼类、芝麻等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)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。每次吞咽后嘱患者反复做几次空咽运动，确保食物全部咽下，以防噎食及呛咳。进食时必须有人照看，以免呛入气管而窒息死亡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B11A-D77B-43EE-BD56-426209B7E0A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826560" y="213372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（四）安全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进食  餐具、光线、过烫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居住  宽敞、整洁、地面要防滑，床边有护栏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衣着  宽松、柔软、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行为  嘱患者不要单独外出，给患者口袋里放 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         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一张安全卡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7656-E05E-4505-A972-D8F946C6913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933480" y="1846080"/>
            <a:ext cx="7742160" cy="41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年龄的增长是老年痴呆最危险的因素。而糖尿病、高脂血症、高血压、心脏病、抽烟、肥胖症等都与老年痴呆症的高风险有关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老年痴呆主要功能障碍包括记忆障碍、语言障碍、视空间技能障碍、失用和失认、判断和计算障碍、精神功能性精神障碍以及自理能力障碍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29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29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小  结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AE71-24C6-42F3-89F5-8F664DCE29F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933120" y="1846080"/>
            <a:ext cx="7095960" cy="41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评估  可从痴呆筛选量表、记忆力、注意力评定、老年痴呆的身体功能评估量表三大方面进行综合评定。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	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措施  老年痴呆患者的康复护理，一般围绕着记忆训练、注意力训练以及其他认知功能的训练等环节进行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指导  加强心理护理，鼓励患者生活自理，同时做好饮食护理，重点在于安全护理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小  结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E6B3-4059-402C-88D6-94A1C99E00B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71680" y="1857240"/>
            <a:ext cx="748008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老年期痴呆是指发生在老年期（≥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60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岁）的一种获得性、持续性、全面性的智能损害综合征，即由器质性脑损害导致的不可逆的认知功能和社会生活能力降低。临床特征以慢性起病、大脑退行性改变、全面智能损害为特点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目前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尚无满意的治疗方法。专家指出，老年痴呆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重在康复护理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  义</a:t>
            </a:r>
            <a:endParaRPr b="1" lang="en-US" sz="36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3A90-EA3F-4C7F-AD93-BCD178BC3B5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71320" y="2285640"/>
            <a:ext cx="707220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占老年人死亡的第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位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每年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9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月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1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日为“世界老年痴呆日”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美国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以上老人中，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～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8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患老年性痴呆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日本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以上老年性痴呆患病率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～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1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我国老年人口中痴呆的患病率占总人口的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%~5%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500040" y="571680"/>
            <a:ext cx="53690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流行病学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7858080" y="2143080"/>
            <a:ext cx="714600" cy="300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华文新魏"/>
                <a:ea typeface="华文新魏"/>
              </a:rPr>
              <a:t>年轻化倾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07F8-445D-4A07-B1FA-724FBFECF36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85480" y="1857240"/>
            <a:ext cx="835812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~85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老年人中好发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——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年龄增长是最危险因素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与遗传有关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糖尿病、高脂血症、高血压、心脏病、抽烟、肥胖症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环境和其他非基因因素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99680" y="571680"/>
            <a:ext cx="5357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 因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5" name="线形标注 1 12"/>
          <p:cNvSpPr/>
          <p:nvPr/>
        </p:nvSpPr>
        <p:spPr>
          <a:xfrm>
            <a:off x="6040440" y="3851280"/>
            <a:ext cx="2347920" cy="857160"/>
          </a:xfrm>
          <a:prstGeom prst="borderCallout1">
            <a:avLst>
              <a:gd name="adj1" fmla="val 18750"/>
              <a:gd name="adj2" fmla="val -8333"/>
              <a:gd name="adj3" fmla="val -2740"/>
              <a:gd name="adj4" fmla="val -81694"/>
            </a:avLst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高风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分 类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69A9-6859-4BEB-BB60-2670685915E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28760" y="2286000"/>
            <a:ext cx="79596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原发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AD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VD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混合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继发性：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脑血管疾病、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中毒、帕金森病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脑外伤后遗症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1"/>
          <p:cNvSpPr/>
          <p:nvPr/>
        </p:nvSpPr>
        <p:spPr>
          <a:xfrm>
            <a:off x="684360" y="1166760"/>
            <a:ext cx="8064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6-7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刘某，男，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78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岁， 一年前经常怀疑子女为了房产加害他，恐惧、多疑、失眠，在当地心理医院诊断为老年期精神障碍，服用奥氮平配合中药治疗，疗效尚可，之后间断服用奥氮平。一月前患者怀疑自己肺部长了肿瘤，反复去医院检查结果阴性，患者能认识到该想法是错误的但不能自我控制，恐惧、紧张、失眠、出汗、记忆力减退，服用奥氮平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10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毫克，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1/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日，疗效不明显，医生建议停用奥氮平改用氟哌啶醇控制行为和精神症。并增加促智药物。血生化、胸部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、心电图、胃镜检查均未见明显异常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问题与思考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该患者会出现哪些功能障碍？应怎样进行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Oval 2"/>
          <p:cNvSpPr/>
          <p:nvPr/>
        </p:nvSpPr>
        <p:spPr>
          <a:xfrm rot="21365400">
            <a:off x="6824160" y="3041280"/>
            <a:ext cx="1430640" cy="11145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Oval 3"/>
          <p:cNvSpPr/>
          <p:nvPr/>
        </p:nvSpPr>
        <p:spPr>
          <a:xfrm rot="15001200">
            <a:off x="5868000" y="4726440"/>
            <a:ext cx="995400" cy="17143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4"/>
          <p:cNvSpPr/>
          <p:nvPr/>
        </p:nvSpPr>
        <p:spPr>
          <a:xfrm rot="21402000">
            <a:off x="3308400" y="5823000"/>
            <a:ext cx="1272960" cy="8269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5"/>
          <p:cNvSpPr/>
          <p:nvPr/>
        </p:nvSpPr>
        <p:spPr>
          <a:xfrm rot="15138600">
            <a:off x="1236960" y="4264560"/>
            <a:ext cx="1352520" cy="88740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5716440" y="1857240"/>
            <a:ext cx="1881360" cy="924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Oval 7"/>
          <p:cNvSpPr/>
          <p:nvPr/>
        </p:nvSpPr>
        <p:spPr>
          <a:xfrm rot="21366000">
            <a:off x="3462480" y="1463400"/>
            <a:ext cx="1620720" cy="10303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Oval 8"/>
          <p:cNvSpPr/>
          <p:nvPr/>
        </p:nvSpPr>
        <p:spPr>
          <a:xfrm rot="17594400">
            <a:off x="1559520" y="2437200"/>
            <a:ext cx="1193760" cy="1071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Oval 9"/>
          <p:cNvSpPr/>
          <p:nvPr/>
        </p:nvSpPr>
        <p:spPr>
          <a:xfrm>
            <a:off x="3573360" y="3143160"/>
            <a:ext cx="1789200" cy="16430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3994200" y="350208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功能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2357280" y="1500120"/>
            <a:ext cx="17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3714840" y="1498680"/>
            <a:ext cx="12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精神功能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6073920" y="1857240"/>
            <a:ext cx="13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视空间技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19"/>
          <p:cNvSpPr/>
          <p:nvPr/>
        </p:nvSpPr>
        <p:spPr>
          <a:xfrm rot="265200">
            <a:off x="1733040" y="2606400"/>
            <a:ext cx="9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记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20"/>
          <p:cNvSpPr/>
          <p:nvPr/>
        </p:nvSpPr>
        <p:spPr>
          <a:xfrm rot="177600">
            <a:off x="1655280" y="423576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语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21"/>
          <p:cNvSpPr/>
          <p:nvPr/>
        </p:nvSpPr>
        <p:spPr>
          <a:xfrm rot="20956200">
            <a:off x="7035840" y="3121560"/>
            <a:ext cx="12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失用、失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22"/>
          <p:cNvSpPr/>
          <p:nvPr/>
        </p:nvSpPr>
        <p:spPr>
          <a:xfrm rot="20736600">
            <a:off x="5826960" y="5108760"/>
            <a:ext cx="13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判断、计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23"/>
          <p:cNvSpPr/>
          <p:nvPr/>
        </p:nvSpPr>
        <p:spPr>
          <a:xfrm>
            <a:off x="3500280" y="600084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Line 26"/>
          <p:cNvSpPr/>
          <p:nvPr/>
        </p:nvSpPr>
        <p:spPr>
          <a:xfrm flipH="1" flipV="1">
            <a:off x="4356000" y="2565000"/>
            <a:ext cx="100080" cy="506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27"/>
          <p:cNvSpPr/>
          <p:nvPr/>
        </p:nvSpPr>
        <p:spPr>
          <a:xfrm flipV="1">
            <a:off x="5364000" y="2781000"/>
            <a:ext cx="582840" cy="726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28"/>
          <p:cNvSpPr/>
          <p:nvPr/>
        </p:nvSpPr>
        <p:spPr>
          <a:xfrm>
            <a:off x="5356080" y="4286160"/>
            <a:ext cx="513000" cy="8715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29"/>
          <p:cNvSpPr/>
          <p:nvPr/>
        </p:nvSpPr>
        <p:spPr>
          <a:xfrm flipV="1">
            <a:off x="5435640" y="3718080"/>
            <a:ext cx="1297080" cy="6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Line 30"/>
          <p:cNvSpPr/>
          <p:nvPr/>
        </p:nvSpPr>
        <p:spPr>
          <a:xfrm flipH="1">
            <a:off x="4071600" y="4714920"/>
            <a:ext cx="142920" cy="1071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Line 31"/>
          <p:cNvSpPr/>
          <p:nvPr/>
        </p:nvSpPr>
        <p:spPr>
          <a:xfrm flipH="1">
            <a:off x="2428560" y="4143240"/>
            <a:ext cx="857160" cy="357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Line 32"/>
          <p:cNvSpPr/>
          <p:nvPr/>
        </p:nvSpPr>
        <p:spPr>
          <a:xfrm flipH="1" flipV="1">
            <a:off x="2787120" y="3143160"/>
            <a:ext cx="946440" cy="2923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45:56Z</dcterms:modified>
  <cp:revision>14</cp:revision>
  <dc:subject/>
  <dc:title>第一章 儿科疾病的护理</dc:title>
</cp:coreProperties>
</file>