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198C-81EC-4C6F-8258-2A6DD2A39D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2B17-D442-4C60-BFAA-90BE84B2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E22D-CC8C-4798-A75B-6DB5C731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5CDF-9091-4F06-8233-BC456ACDFF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E3A1-AB8C-4A3E-B6E3-03994B1C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1733-80D8-4E62-BBBB-714B7322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B5B1-20B7-40EE-8922-F38223E9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DD4E-199B-4FA6-BD23-58432548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80F2-3A93-4C03-902C-65511F28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9302-E0EB-4271-8132-23C62C97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907D-BD66-4C0F-BEAF-B9A305AC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2040-C80A-4FD8-A120-3B644A5B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41D4-EAD4-49E1-91E9-C1CB63B3F4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十节  放松训练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深吸气过程中，尽量扩充腹部，感受腹部的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屏住呼吸，停留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缓慢地通过鼻腔呼气，呼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并感受呼气时腹部慢慢收缩。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   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过程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MR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训练个体能随意放松全身肌肉，以达到随意控制全身肌肉的紧张程度，保持心情平静，缓解紧张、恐惧、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步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集中注意力—肌肉紧张—保持紧张—解除紧张—肌肉松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顺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臂部—上肢—头颈部—躯干部—下肢—足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和前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伸出前臂，用力握紧双拳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手臂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手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（沉重、轻松、温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屈曲双臂，用力使双臂肌肉收缩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双臂肌肉紧张的感觉。 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上肢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皱紧额部的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额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紧闭双目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逆时针方向转动眼球，逐步加快速度；再顺时针方向转动眼球，加快速度；彻底放松。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咬紧牙齿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舌顶住上腭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将头后伸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向内收紧下颌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向后用力扩展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上提双肩，尽量使双肩接近耳垂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用力向前收紧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向上举起双上肢，同时用力使腰椎前屈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紧张臀部的肌肉，使会阴部用力上提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15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放松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足跟用力向前向下紧压，紧张大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足尖用例向上翘，足跟向下向后紧压，紧张小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785960"/>
            <a:ext cx="8572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足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脚趾用力绷紧，紧张足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足部肌肉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此法可嘱患者自行练习，每日进行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要求持之以恒，循序渐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主要通过唤起宁静、轻松、舒适情景的想象和体验，来减少紧张、焦虑，控制唤醒水平，引发注意集中的状态，增强内心的愉悦感和自信心。如，想象自己躺在温暖阳光照射下的沙滩，迎面吹来阵阵微风，海浪有节奏地拍打着岸边；或者想象自己正在树林里散步，小溪流水，鸟语花香，空气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舒适体位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仰卧，双手平放在身体的两侧，两脚分开，轻轻闭目，尽可能地放松身体。慢而深地进行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想象一种能够改变心理状态的情境（或者由治疗师给予指导语）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者身临其境的感受越深，其放松效果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8360" y="259920"/>
            <a:ext cx="3500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DFA6-93EB-4D69-AA20-19886D0B8D9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想象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D51C-F9E1-4B10-8590-DCC89844EF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12720" y="1197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回忆放松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陈述腹式呼吸放松训练过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描述想象放松训练的基本原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归纳渐进性肌肉放松的训练顺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用：利用各种放松训练方法进行临床干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A142-8543-48E2-8AF7-F1E8F693094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467880" y="249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0B13-B89D-460F-8ACD-9F6950152B9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是指身体和精神由紧张状态朝向松弛状态的过程。放松训练的目的是使肌肉放松，整个机体活动水平降低，达到心理上的松弛，从而使机体保持内环境平衡与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基本种类包括呼吸放松法、肌肉放松法、想象放松法三种，而具体放松训练的形式又多种多样，有渐进性放松训练、印度的瑜伽术、日本的禅宗，以及中国的气功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般认为，不论何种松弛反应训练技术，只要产生松弛反应都必须包含四种成份：安静的环境；被动、舒适的姿势；心情平静，肌肉放松；精神内守（一般通过重复默念一种声音，一个词或一个短句来实现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7334-DDF6-48ED-82D7-5FF4AD0ADAB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329360" y="2349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放松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，是把注意力集中在腹部，并用腹部呼吸，使胸腔和肺部充入更多的氧气，利用肺的容量，获得比正常浅呼吸多七倍的氧气量，从而使个体保持心情平静，达到缓解紧张、恐惧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坐姿、站姿或卧姿，尽量选择让自己感到舒适的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注意力集中于腹部，把一只手置于腹部上方，缓慢地通过鼻腔深吸一口长气，吸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40:14Z</dcterms:created>
  <dc:creator>Home</dc:creator>
  <dc:description/>
  <cp:keywords/>
  <dc:language>en-US</dc:language>
  <cp:lastModifiedBy>赵欣</cp:lastModifiedBy>
  <dcterms:modified xsi:type="dcterms:W3CDTF">2015-12-15T08:55:5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