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A7FE-4C20-4565-B4DD-D2D1084640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4E026-5FAB-485A-A5C3-C46882CA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D168-E8C7-4DB2-9C01-E07B2CEA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1582-BBA2-41C2-8BD2-AA0378C865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ACC31-0444-4199-8706-EAA459F1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6FB4-BCEC-4428-BD4A-DBEB1341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182A-08E6-4328-A4C6-B9C6BB96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8117-4D07-47B1-8664-5E9369AA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8116-2F88-4D39-B273-43E012D6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4990-53D1-4F30-8BBA-B051D104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52CC1-E55E-4FEB-B14C-12C873DE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3D610-53D2-47EA-94B0-B5E98060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1E6A-2551-44CF-8F47-CB24B395333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高危妊娠管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D2A8-8C88-49EE-B72C-3801F01F02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实验室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畸形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成熟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缺氧及程度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37CE-EFD8-46FD-B86E-A9F6995B3BB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1356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处理原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因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遗传性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防治原则是预防为主，早发现、早诊断，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妊娠并发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应认真做好围生期保健，及时发现高危人群，预防并发症和不良结局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合并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D93D-6C55-4735-98E5-6E2BF0B7AD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3908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一般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针对各种高危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具体特点进行相应的治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给孕妇高热量、高蛋白质、足够维生素及适量微量元素，有助于促进胎儿的生长发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提高胎儿对缺氧的耐受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对胎盘功能减退的孕妇，定期面罩给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C6A7-B53A-424C-A13F-ECF10B2AF0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产科处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预防早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终止妊娠问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时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1A20-CDFB-4A78-B261-B393985B7C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观察孕妇体态，测量孕妇身高、体重、血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全身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科生理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状况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9F1B-5A1D-44C9-B695-244792557A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实验室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特点是可以连续观察并记下胎心率的动态变化而不受宫缩影响。再配以子宫收缩仪、胎动记录仪便可反映三者间的关系。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94DA-842F-4C4E-865F-761BC7BA42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基线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在无宫缩或宫缩之间记录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与子宫收缩有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94F2-4CC1-403A-B589-DC1A609B75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仍保持原基线不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加，增加范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加速的原因可能是胎儿躯干局部或脐静脉暂时受压。散发的、短暂的胎心率加速是无害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6FD7-5096-4450-BFE2-C5B2F15C1F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早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它的发生与子宫收缩几乎同时开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收缩后即恢复正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幅度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早期减速一般认为是胎头受压，脑血流量一时性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无伤害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4149720"/>
            <a:ext cx="4852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ED4B-D84A-4A51-880C-8B01F91396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变异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宫缩开始后胎心率不一定减慢。减速与宫缩的关系并不是恒定的。但在出现后，下降迅速，幅度大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持续时间长，而恢复也迅速。一般认为变异减速系因子宫收缩时脐带受压兴奋迷走神经所致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850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4392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及监护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妇女的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窘迫及新生儿窒息的护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   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AB59-243D-4445-BC0C-D2214D49E4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晚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子宫收缩开始后一段时间（多在高峰后）出现胎心率减慢，但下降缓慢，持续时间长，恢复亦缓慢，晚期减速是胎儿缺氧的表现，它的出现应对胎儿的安危予以高度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0920" y="3789360"/>
            <a:ext cx="5854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D87F-FFA7-4E55-9DFF-F7C5D5F20B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和尿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HCG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雌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胎盘催乳素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血清妊娠特异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3114-982C-450D-8C4F-6B8A49FEBD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羊水中卵磷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鞘磷脂比值，用于评估胎儿肺成熟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甲胎蛋白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AFP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头皮血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在宫颈扩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时取胎儿头皮血，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则提示胎儿严重酸中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AB69-E978-43F1-A2C3-E62C9041F5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健康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做好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配合检查和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6D85-73F3-40F7-A294-6C5131B630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胎儿在宫内有缺氧征象，危及胎儿健康和生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2CE5-1917-4A24-B0F0-51F9BE38CB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儿窘迫的病因涉及多方面，可归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类。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母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胎儿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脐带、胎盘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39A8-4A93-4ECF-AA0C-B7BBE421A9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体重、宫高、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不长或增长很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系统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儿双顶径、头腹围之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股骨长度、羊水量等表明有胎儿生长迟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综合生物物理图像评分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即通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测胎儿呼吸、胎动、羊水量，结合胎心监护试验，可表现为评分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EC46-3E42-46D7-A052-905DEC71DC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测雌三醇、胎盘生乳素、雌激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酐比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慢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多发生在妊娠末期，往往延续至临产并加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急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主要发生于分娩期，多因脐带因素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心出现异常改变是胎儿窘迫最早出现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AC5A-AE88-4D85-9278-D8EA910147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监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观察胎动时胎心率无加速反应，或无胎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异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动是胎儿生命体征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出现改变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粪污染羊水的程度可分为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355D-F2D4-4A55-95B5-036E71BFCC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一）慢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针对病因，根据孕周、胎儿成熟度和窘迫的严重程度决定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急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颈尚未完全扩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列举高危妊娠的范畴、辅助检查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胎儿窘迫与新生儿窒息的临床表现和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识别高危妊娠妇女的胎心电子监护图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比较高危妊娠的评分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胎儿窘迫，实施新生儿窒息抢救过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F027-8ED0-440A-9CC2-8D8D877C60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642C-F34B-492D-AE4F-09CC1B4236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心监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儿头皮血血气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A8CB-03B5-44CD-B367-9E26DD91A7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胎儿情况改善，胎心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能运用有效的应对机制来控制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产妇能够接受胎儿死亡的现实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53A3-3E01-46DA-BFCF-CCE2C72F19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左侧卧位，间断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手术者做好术前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做好新生儿抢救的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5FD1-E793-431D-B353-858F271950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，仅有心搏无自主呼吸或未能建立规律呼吸，以低氧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高碳酸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酸中毒为主要病理生理改变的疾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9BC5-A69A-4055-BB11-BF11659384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前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时的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D258-6B5B-429B-9F82-D3ADDB8643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轻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新生儿面部与全身皮肤青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呼吸浅表或不规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规则，强而有力，心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有反应，肌肉张力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轻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4B74-F7F5-467B-81E0-B42C91BCC8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重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苍白，口唇暗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无呼吸或仅有喘息样微弱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不规则，心率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且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无反应，肌肉张力松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重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4BDA-9D43-4038-B4E7-41AD4206B3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治疗原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为主，一旦发生及时抢救，动作准确、迅速、轻柔，以免二次损伤。估计胎儿娩出后有窒息的可能要做好复苏准备如人员、器械、药品、氧气等。如果发生窒息应及时按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清理呼吸道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建立呼吸，增加通气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维持正常循环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药物治疗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评价）步骤进行复苏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470A-DEE7-48A9-8F41-77757140A6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状况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点评估窒息的程度，胎儿出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分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E790-5933-40DE-A204-37D86F57E5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护理问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交换受损  与呼吸道内存有羊水、黏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  与抢救操作、脑缺氧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母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障碍性悲伤  与现实的或预感到失去孩子及新生儿可能留有后遗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恐惧  与新生儿的生命受到威胁有关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11E2-E9E6-4C72-B4D0-45B5E62202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高危妊娠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妊娠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致病因素或某种并发症及合并症可能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危害孕妇、胎儿及新生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导致难产者。具有高危因素的孕妇，称为高危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44D9-7B76-4199-837E-685E5F6F50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抢救成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并发症降低至最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母亲情绪稳定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FA23-F268-4AB4-AB65-8D3315E95D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措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ABCDE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复苏方案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尽量吸净呼吸道黏液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建立呼吸，增加通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维持正常循环，保证足够心排出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药物治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⑤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评价。前三项最为重要，其中吸净呼吸道黏液是根本，通气是关键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C691-4E0E-40E9-9881-6FD98859FB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新生儿窒息复苏流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最初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通气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各种抢救药物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加强新生儿复苏后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1512-C1EF-44F6-BA6E-3965AFA894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防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围产保健，及时处理高危妊娠。加强胎儿监护，避免和及时纠正宫内缺氧。对宫内缺氧胎儿，可通过羊膜镜了解胎粪污染羊水的程度，或在胎头露出宫口时取胎儿头皮血进行血气分析，密切监测临产孕妇，避免难产。培训接产人员熟练掌握复苏技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DF64-D05A-40DD-8489-41B50C5B5D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的监护  高危妊娠的范畴，高危妊娠的监护可归纳为：人工监护、仪器监护、实验室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妇女的护理  高危孕妇的处理原则：病因治疗、一般治疗、产科处理，对高危妊娠妇女护理评估，熟悉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胎儿窘迫的护理  胎儿窘迫的病因，胎儿窘迫分为急性与慢性窘迫。掌握胎儿窘迫的护理评估，熟悉胎儿窘迫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新生儿窒息复苏的护理  新生儿窒息分为轻度窒息和重度窒息。做好新生儿抢救准备，配合新生儿窒息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C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苏，加强后的护理。掌握新生儿窒息复苏的流程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6ca6"/>
                </a:solidFill>
                <a:latin typeface="黑体"/>
                <a:ea typeface="黑体"/>
              </a:rPr>
              <a:t>谢谢！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0746-94E8-40D0-8D7D-0CE5A63C20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范畴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导致高危妊娠的因素包括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人及社会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年龄；孕前体重过轻或超重；未婚或独居；有吸烟、酗酒、吸毒史；家族中有明显遗传性疾病；未做产前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疾病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异常孕产史者；妊娠期各种并发症、合并症；胎盘功能不全；妊娠期接触大量放射线、化学性毒物、服用过对胎儿有影响的药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1A93-E265-4E4E-A6FD-42B55DA343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确定孕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根据末次月经、早孕反应的时间、胎动出现的时间核算预产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测量子宫底高度及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产前检查时，均应测量孕妇的子宫底高度和腹围，估计胎龄及胎儿大小，以了解胎儿宫内发育情况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计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每天早、中、晚计数三次，每次一小时，三次之和乘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胎动次数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FE9C-3AEE-40AF-A1FD-DA573632F1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听胎心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用听诊器或多普勒监测仪，了解胎儿是否存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高危妊娠评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高危妊娠评分法是进行动态监护的具体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反映胎儿宫内发育及孕妇健康情况的动态曲线图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8D48-1A6B-4998-ABCD-EE63A5E66E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785600"/>
            <a:ext cx="8443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从声像图反映胎儿数目、胎位、胎心及胎盘的位置和结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及早发现胎儿宫内缺氧及有无先天性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连续记录胎心率的变化，同时观察胎动、宫缩对胎心率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C4C2-5901-43B7-AEF6-FC35627228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785600"/>
            <a:ext cx="8370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通过羊膜镜直接窥视羊膜腔内羊水性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生物物理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综合胎心电子监护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所示某些生理活动 ，以判断胎儿有无急、慢性缺氧的一种产前监护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40:41Z</dcterms:modified>
  <cp:revision>2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