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31220-F1E2-4CC9-BF4E-94AE69040C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D955-F48E-437B-B8DD-FD77CA62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5DD6E-0277-4186-80F5-A4B21361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C11C-6824-47DA-B330-33143ED8DA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17B2-9E40-4EF7-AED9-E6660FCE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34FB-BEF8-40AB-A617-F4B5F3BB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AEAD-13F7-49A1-9C73-A6845DEE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AFC9E-70C0-4B2D-B449-EBFADB7E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DE17-596D-4DE9-9C17-43490DBA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233E-8689-4A81-912C-A0F3F7E4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E355-72BA-4D7E-BF25-2F69E1EA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095B-A738-460B-BD30-7749D8D5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1B9A-E8D9-4FDE-849D-BBCF35D837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妊娠滋养细胞疾病   患者的护理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760" y="157176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葡萄胎确诊后应及时清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刮出物送组织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黄素化囊肿急性扭转可手术切除。高危者给予预防性化疗。年龄较大且无生育要求者可行子宫切除术，保留双侧卵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2560" y="150012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口腔黏膜改变的危险   与化疗所致溃疡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1371600"/>
            <a:ext cx="862956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变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做好清宫术前后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性化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二节     妊娠滋养细胞肿瘤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4340-28DE-4848-92C3-09B6D4FC55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100008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肿瘤是滋养细胞恶性病变，包括侵蚀性葡萄胎、绒癌和胎盘部位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侵蚀性葡萄胎是指葡 萄胎组织侵入子宫肌层引起组织破坏或转移至子宫以 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绒毛膜癌是一种高度恶 性的肿瘤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生于葡萄胎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Picture 6" descr="1"/>
          <p:cNvPicPr/>
          <p:nvPr/>
        </p:nvPicPr>
        <p:blipFill>
          <a:blip r:embed="rId1"/>
          <a:stretch/>
        </p:blipFill>
        <p:spPr>
          <a:xfrm>
            <a:off x="6643800" y="4929120"/>
            <a:ext cx="13572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CE5F-D468-479E-93E9-C1406F4561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原发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复旧不全或不均匀增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卵巢黄素化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  如腹痛、假孕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4163-925C-4C12-8D67-C5B5FE43FB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移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    咳嗽或反复咯血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    紫蓝色结节，破溃后可大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肝转移    可有上腹部或肝区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    为死亡的主要原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F4B1-89A0-4851-80B3-130873B62A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血和尿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HCG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胸部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I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组织学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4869-CC6D-458D-BFFE-B488B088DB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史及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如服用药物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葡萄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妊娠滋养细胞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化疗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14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35280" y="4005360"/>
            <a:ext cx="686880" cy="593640"/>
            <a:chOff x="1835280" y="400536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40680" y="40154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35280" y="4005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75240" y="404028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9640" y="40766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71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5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E0F7-11D5-43AB-A531-B578DE7CCE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是以化疗为主，手术、放疗为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根据临床分期、预后评分来制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0C63-4DA3-4A1C-9009-F5D719CE27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反复阴道出血、化疗导致抵抗力降低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感性悲哀   与病程长、预后不良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活动无耐力  与腹痛、转移灶症状及化疗副作用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   与化疗引起胃肠道不适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A790-6A13-4BB6-A0C2-30E552E0B2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观察病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吸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配合治疗，大量咯血者防窒息和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观察病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676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禁做阴道检查和窥阴器检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破溃大出血时，配合抢救（抗休克和感染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DBDD-F3B8-4AE5-AA51-C2F68AEF62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遵医嘱治疗   如补液、止血、吸氧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预防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偏瘫、昏迷者按常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及时做好检查配合    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腰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06D6-F8FF-4CB9-A248-F368BDEE05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三节     化疗患者的护理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8AC3-317C-4099-A0BA-F2960B4978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化学药物治疗的方法称为化学疗法，简称化疗。化疗和手术治疗、放射治疗是目前治疗恶性肿瘤的三大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所有肿瘤中对化疗最敏感的一种，总治愈率超过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9D40-8047-412C-A895-CF8A21CB90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作用机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响去氧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与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作用干扰其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信使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纺锤丝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蛋白质的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F594-6949-4D0B-8071-23CBE6E348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33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一组来源于胎盘绒毛滋养细胞的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滋养细胞增生的程度、侵蚀能力、有无绒毛结构及生物学特性，可分为葡萄胎、侵蚀性葡萄胎、绒毛膜癌和胎盘部位妊娠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疗药物种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烷化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代谢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抗生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植物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的应用原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的病理诊断和分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细胞的分裂周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患者的身体情况选择化疗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使用增敏药物和预防副作用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的选择需考虑患者的经济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给药方法及化疗方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给药方法    静脉滴注、肌内注射、口服给药、腹腔内给药及动脉插管局部灌注、靶向治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    低危患者可选单一药物化疗；高危者选择联合化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CBF6-A5C1-4F45-921B-7F0539AE0F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053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化疗常见的不良反应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近期毒性反应   分为局部反应和全身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远期毒性反应   如生殖功能障碍及致癌致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FA28-04BD-4FBB-ADC1-795AA6101F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339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前血常规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肝、肾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检查    如尿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D16D-154D-4D9B-BCCF-8BB452E6F9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19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与生活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C699-022C-4EAA-B544-4E36DA2731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857240"/>
            <a:ext cx="9001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3DC5-C81C-4B9F-90C0-83A032B78B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86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休息，注意饮食；保持会阴清洁，防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 接受化疗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准确测量体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正确使用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合理使用静脉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3861-C28C-4821-973F-BF161A49CC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常见毒副反应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骨髓抑制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胃肠道不良反应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口腔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   </a:t>
            </a:r>
            <a:r>
              <a:rPr b="1" lang="zh-CN" sz="3600" spc="-1" strike="noStrike">
                <a:solidFill>
                  <a:srgbClr val="0d0d0d"/>
                </a:solidFill>
                <a:latin typeface="Verdana"/>
                <a:ea typeface="宋体"/>
              </a:rPr>
              <a:t>第一节     葡萄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3D71-66C1-4909-96C7-20E5ECD317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指导患者给药剂量等，注意药物的储存及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鼓励少量多餐，注意饮食和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日常生活方面注意清洁，尽量避免去公共场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如白细胞计数低于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需进行保护性隔离，并告知其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51BE-97C0-4A9F-8165-62F755D950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是妊娠滋养细胞的良性病变，主要为胎盘绒毛滋养细胞增生、间质水肿，形成大小不一的水泡，相互间借蒂连成串，形如葡萄而得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可分为完全性葡萄胎和部分性葡萄胎。其发生的原因尚未完全清楚，可能与异常受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857240" y="4857840"/>
            <a:ext cx="185760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5572080" y="4786200"/>
            <a:ext cx="2000160" cy="1698840"/>
            <a:chOff x="5572080" y="4786200"/>
            <a:chExt cx="2000160" cy="1698840"/>
          </a:xfrm>
        </p:grpSpPr>
        <p:sp>
          <p:nvSpPr>
            <p:cNvPr id="134" name="Text Box 4"/>
            <p:cNvSpPr/>
            <p:nvPr/>
          </p:nvSpPr>
          <p:spPr>
            <a:xfrm>
              <a:off x="5771880" y="6276240"/>
              <a:ext cx="1650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15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完全性葡萄胎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572080" y="4786200"/>
              <a:ext cx="2000160" cy="14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12F7-45E8-4577-BCAA-5A37ABCDA6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124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完全性葡萄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停经后阴道流血     为最常见的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异常增大、变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高血压子痫前期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：卵巢黄素化囊肿、腹痛、甲亢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部分性葡萄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症状    不如完全性葡萄胎典型，易误诊，仅在刮宫后经组织病理检查方能确诊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4B71-BF0F-4716-A14D-1EEAD62F8E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1961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绒毛膜促性腺激素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C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流式细胞仪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普勒胎心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 如血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有无采取口服避孕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11:27Z</dcterms:modified>
  <cp:revision>10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