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502D-C02A-4549-8E43-8E3DB365184E}" type="datetime">
              <a:rPr b="0" lang="zh-CN" sz="1200" spc="-1" strike="noStrike">
                <a:solidFill>
                  <a:srgbClr val="000000"/>
                </a:solidFill>
                <a:latin typeface="Arial"/>
                <a:ea typeface="宋体"/>
              </a:rPr>
              <a:t>26/7/28</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5379E-166A-49DB-847A-60E990662C8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8BD03-1BB6-44F4-B69F-9A29DAA0BF3D}"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498BA-5FBD-4810-B540-9F7BA0F39470}"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63020-A28E-4DC5-8073-2B904EC3D2A1}"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3AAE-F4AA-479E-B64F-F89849F6800F}"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6BDB-04DF-4A60-9D60-7560F9E6960E}"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DFEEA-450F-4638-B100-5A1C81B3EFB9}"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53346-5C00-413E-8C62-ECACBB09544B}"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71458-FA06-4298-8D09-5E66B660C45E}"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94B3D-061A-4ED1-9726-6DB013119B25}"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4C04-8B56-4573-A367-2B2363DD8277}"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6BC8B1-BB18-4B99-97E2-A0A7B99957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0DBED8-3018-4B08-A6B1-939E2619AC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625BD95-ABAB-43FF-AEF6-64282D9D11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2362251-F220-48C2-BC3A-F10629B06B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1C4666-AD90-4A49-A5E4-4347EF59C9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FE14EA-5C68-4E35-9E6A-B18A4A8459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293CC9-208A-4AB1-94A8-E73488879B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F47657-CA91-41AA-AD62-1F967F8DAB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B89390-C2DB-47B1-A6BD-0BDA97DF48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E48C14-D633-4718-8682-CA18F5ADEB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3EAF39A-10D5-4BF9-9EAA-5B82CCC9E9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35F21A-ECA6-45C9-9DBE-9531058CA7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AA7006-89F6-4AC4-BDA6-E471D95A09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2A3176-3AE3-4112-AB44-0266BE26AD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15B575-91D3-4FAE-8C98-6F57611493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D05B61-E1F3-488A-95F8-1148144F34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6BBE82-A5F7-475B-808E-44C867746D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2B72E5-7614-4919-9A96-E3CE0E58F6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5D120A-DB92-4414-A940-E6646EA8A9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FBD845D-FA6C-48A7-B5EC-7691141655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37AFC32-5FDC-40BE-B853-1DBAF6E2D8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A6D212-8AE9-48B9-8D20-1835E356F0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644354-7D62-456A-BB2C-5E35ECF277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3B4B4B-3774-4CF8-A42A-D66011B61F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3023-0BBA-4467-AAD1-C75650A7B158}"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D4E8E-BCE4-44D3-810C-817B30348AB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