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BF78A4-BB13-4A53-9AC0-2AB922ED16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697A95E-E7FD-43E9-936F-145BEC9232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7E58D29-4D8F-4116-B79B-4A5BDA529B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C062ECD-6C35-41C8-885C-2171BFC22B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FB2FFAF-15E5-4148-8563-875EC29FCD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0B04E46-07EC-44EB-B704-48999CC2F2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FBB06D7-DF56-4835-82A2-118DA67C26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569C4C2-18B0-4DB9-8C35-233B94B625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A656558-8E93-454D-9F96-3132EA1168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DED58F2-8A2D-4813-BBBE-7C03EF30A4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16F318-FC88-4540-A992-083651F3E4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E260DE8-CBA4-4534-B3E3-C88B34FAF3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6C64E-60E8-4E80-9F3A-8DC4F27DEDB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四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道德评价、</a:t>
            </a:r>
            <a:br>
              <a:rPr sz="4000"/>
            </a:br>
            <a:r>
              <a:rPr b="1" lang="zh-CN" sz="4000" spc="-1" strike="noStrike">
                <a:solidFill>
                  <a:srgbClr val="ff0000"/>
                </a:solidFill>
                <a:latin typeface="黑体"/>
                <a:ea typeface="黑体"/>
              </a:rPr>
              <a:t>      教育与修养</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客观必然性和主观能动性相统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预见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在一定医疗、护理技术下，对某些疾病还难以找到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的护理方法，尽管已做了最大的努力，患者仍然不可避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现严重的并发症、残疾、甚至死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5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5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续</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意外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某些疾病在医疗、护理过程中，尽管护理人员恪尽职守，</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守认真负责，由于患者的病情异常复杂，变化急剧或某些意向</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不到的因素参与，会出现一些难以预料的情况。</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0"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1"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过失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      </a:t>
            </a:r>
            <a:r>
              <a:rPr b="1" lang="zh-CN" sz="2800" spc="-1" strike="noStrike">
                <a:solidFill>
                  <a:srgbClr val="000000"/>
                </a:solidFill>
                <a:latin typeface="黑体"/>
                <a:ea typeface="黑体"/>
              </a:rPr>
              <a:t>是指因护理人员的过失造成的，分技术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和责任性两种。</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6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8" name=""/>
          <p:cNvSpPr txBox="1"/>
          <p:nvPr/>
        </p:nvSpPr>
        <p:spPr>
          <a:xfrm>
            <a:off x="250920" y="126792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2</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某患儿，</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岁，诊断猩红热而住某医院儿科病房治疗，医生开出医嘱，护士按医嘱给患儿进行静脉输液，当输入</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分钟左右，患儿家长发现输液瓶上的有效期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患儿家长立即自行关闭输液调节器并找到责任护士，责任护士核对后发现确实液体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即向想家长道歉并报告相关部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思考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此种护理缺陷属于哪种情况的护理缺陷？分析护士的道德责任。</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052640"/>
            <a:ext cx="8610480" cy="509256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3</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日中午，某市一镇卫生院接到电话，称本镇一村委会有一名群众发高烧，怀疑为“非典”患者（后经确诊为流行性感冒），需到卫生院检查治疗。这个卫生院立即组织</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名医生与</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名护理人员在卫生院等候接诊，并做好防护工作。中午，正在值班的护理人员林某也被指派参与这次接诊任务。但林某接通知后却以向同学借口罩为由擅自离开卫生院，不敢参与接诊。该市卫生局对此事高度重视，立即组织工作组调查处理此事，召开局长办公会议研究决定，并报市人事局批准给予林某行政开除处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对护理人员林某的行为进行护理道德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是社会上多数人的言论。它是国家机构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社会群体依据一定的思想观念、道德准则或传统习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对某些人的行为和社会组织活动施加精神影响的道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评价手段。</a:t>
            </a:r>
            <a:endParaRPr b="1" lang="en-US" sz="2800" spc="-1" strike="noStrike">
              <a:solidFill>
                <a:srgbClr val="8ac8de"/>
              </a:solidFill>
              <a:latin typeface="Verdana"/>
            </a:endParaRPr>
          </a:p>
        </p:txBody>
      </p:sp>
      <p:sp>
        <p:nvSpPr>
          <p:cNvPr id="176"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77"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78"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有两种形式：</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社会传统习惯和认识，是自发形成的对护理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员职业行为及伦理现象的价值判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有领导、有目的，自觉形成的</a:t>
            </a:r>
            <a:endParaRPr b="1" lang="en-US" sz="2800" spc="-1" strike="noStrike">
              <a:solidFill>
                <a:srgbClr val="8ac8de"/>
              </a:solidFill>
              <a:latin typeface="Verdana"/>
            </a:endParaRPr>
          </a:p>
        </p:txBody>
      </p:sp>
      <p:sp>
        <p:nvSpPr>
          <p:cNvPr id="180"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1"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2"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2</a:t>
            </a:r>
            <a:r>
              <a:rPr b="1" lang="zh-CN" sz="2400" spc="-1" strike="noStrike">
                <a:solidFill>
                  <a:srgbClr val="fe230c"/>
                </a:solidFill>
                <a:latin typeface="黑体"/>
                <a:ea typeface="黑体"/>
              </a:rPr>
              <a:t>、传统习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是人们在长期的社会生活中逐步形成，沿袭下来的，人们习</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以为常的行为倾向、行为规范和道德风尚。主要表现在：</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护理道德行为伦理价值最初、最起码的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每次护理道德评价做出价值判断和准则得以巩固及延续的</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外在形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4"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5"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3</a:t>
            </a:r>
            <a:r>
              <a:rPr b="1" lang="zh-CN" sz="2400" spc="-1" strike="noStrike">
                <a:solidFill>
                  <a:srgbClr val="fe230c"/>
                </a:solidFill>
                <a:latin typeface="黑体"/>
                <a:ea typeface="黑体"/>
              </a:rPr>
              <a:t>、内心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主要指一个人通过实践和学习形成一种道德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特点：</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是推动护理人员对道德行为进行善恶评价最直接的内在动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护理人员道德评价的直接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包含着道德情感和道德意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90"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教育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为了使护理人员接受和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体系的的要求，运用各种方式和方法，有目的、有计划、有组织、有步骤地对护理人员施加一系列护理道德影响的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评价</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教育</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修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教育的过程</a:t>
            </a:r>
            <a:endParaRPr b="0" lang="en-US" sz="3600" spc="-1" strike="noStrike">
              <a:solidFill>
                <a:srgbClr val="046ca6"/>
              </a:solidFill>
              <a:latin typeface="Arial"/>
            </a:endParaRPr>
          </a:p>
        </p:txBody>
      </p:sp>
      <p:sp>
        <p:nvSpPr>
          <p:cNvPr id="19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19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
          <p:cNvSpPr/>
          <p:nvPr/>
        </p:nvSpPr>
        <p:spPr>
          <a:xfrm>
            <a:off x="611280" y="3357720"/>
            <a:ext cx="80643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提高护理道德认识</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首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培养护理道德情感</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提高护理道德水平的重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坚定护理道德意志</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行为的前提和关键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树立护理道德信念</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中心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养成护理道德行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根本目的和最终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
          <p:cNvSpPr/>
          <p:nvPr/>
        </p:nvSpPr>
        <p:spPr>
          <a:xfrm>
            <a:off x="611280" y="3357720"/>
            <a:ext cx="7632720" cy="193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积极疏导的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要求教育者对护理人员进行灌输、引导的正面教育，以理服人、寓情于理、情理结合、启发自觉，并以真诚、信任的态度关心、帮助护理人员，调动护理人员自身的积极因素。</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
          <p:cNvSpPr/>
          <p:nvPr/>
        </p:nvSpPr>
        <p:spPr>
          <a:xfrm>
            <a:off x="611280" y="3357720"/>
            <a:ext cx="792144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言行一致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一是教育者要做到言传身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二是护理道德教育本身要做到知行统一</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1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611280" y="3068640"/>
            <a:ext cx="7632720" cy="236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一致性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护理道德教育要与其他方面的教育，如学校教育、岗前教育、继续教育、思想政治教育结合起来，要保持前后一贯、方向一致、形成合力，避免相互冲突、彼此抵消。</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
          <p:cNvSpPr/>
          <p:nvPr/>
        </p:nvSpPr>
        <p:spPr>
          <a:xfrm>
            <a:off x="611280" y="3357720"/>
            <a:ext cx="763272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因人施教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护理人员修养境界的不同，有的放矢，因人施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三）护理道德教育的方法</a:t>
            </a:r>
            <a:endParaRPr b="0" lang="en-US" sz="3600" spc="-1" strike="noStrike">
              <a:solidFill>
                <a:srgbClr val="046ca6"/>
              </a:solidFill>
              <a:latin typeface="Arial"/>
            </a:endParaRPr>
          </a:p>
        </p:txBody>
      </p:sp>
      <p:sp>
        <p:nvSpPr>
          <p:cNvPr id="22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
          <p:cNvSpPr/>
          <p:nvPr/>
        </p:nvSpPr>
        <p:spPr>
          <a:xfrm>
            <a:off x="324000" y="3357720"/>
            <a:ext cx="856908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以理导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深刻的道理，理论的力量教导人、引导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以情动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真情实感、耐心细致地进行说服、引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以理感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良好形象感人，使之学有榜样，赶有方向</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以境育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弘扬先进人物事迹崇高思想，抑制不良的思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和行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修养</a:t>
            </a:r>
            <a:endParaRPr b="0" lang="en-US" sz="3600" spc="-1" strike="noStrike">
              <a:solidFill>
                <a:srgbClr val="ffffff"/>
              </a:solidFill>
              <a:latin typeface="Verdana"/>
            </a:endParaRPr>
          </a:p>
        </p:txBody>
      </p:sp>
      <p:sp>
        <p:nvSpPr>
          <p:cNvPr id="23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修养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护理人员在护理道德方面经过长期的勤奋学习和护理实践的陶冶而达到的一种境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修养的作用</a:t>
            </a:r>
            <a:endParaRPr b="0" lang="en-US" sz="3600" spc="-1" strike="noStrike">
              <a:solidFill>
                <a:srgbClr val="046ca6"/>
              </a:solidFill>
              <a:latin typeface="Arial"/>
            </a:endParaRPr>
          </a:p>
        </p:txBody>
      </p:sp>
      <p:sp>
        <p:nvSpPr>
          <p:cNvPr id="23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3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
          <p:cNvSpPr/>
          <p:nvPr/>
        </p:nvSpPr>
        <p:spPr>
          <a:xfrm>
            <a:off x="611280" y="3357720"/>
            <a:ext cx="763272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提高护理工作质量</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提高护理人员的自身素质</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形成良好的护理作风</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  </a:t>
            </a:r>
            <a:r>
              <a:rPr b="1" lang="zh-CN" sz="3600" spc="-1" strike="noStrike">
                <a:solidFill>
                  <a:srgbClr val="046ca6"/>
                </a:solidFill>
                <a:latin typeface="Tahoma"/>
                <a:ea typeface="黑体"/>
              </a:rPr>
              <a:t>（二）护理道德修养的方法</a:t>
            </a:r>
            <a:endParaRPr b="0" lang="en-US" sz="3600" spc="-1" strike="noStrike">
              <a:solidFill>
                <a:srgbClr val="046ca6"/>
              </a:solidFill>
              <a:latin typeface="Arial"/>
            </a:endParaRPr>
          </a:p>
        </p:txBody>
      </p:sp>
      <p:sp>
        <p:nvSpPr>
          <p:cNvPr id="23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
          <p:cNvSpPr/>
          <p:nvPr/>
        </p:nvSpPr>
        <p:spPr>
          <a:xfrm>
            <a:off x="611280" y="299736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常用修养方法</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加强护理道德修养</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经验，有的放矢</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培养毅力，持之以恒</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防微杜渐，追求“慎独”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病人本人和家属意见两者不能统一时，遵从病人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是指护理人员独处时，仍能按道德规范办事。</a:t>
            </a:r>
            <a:endParaRPr b="1" lang="en-US" sz="2800" spc="-1" strike="noStrike">
              <a:solidFill>
                <a:srgbClr val="8ac8de"/>
              </a:solidFill>
              <a:latin typeface="Verdana"/>
            </a:endParaRPr>
          </a:p>
        </p:txBody>
      </p:sp>
      <p:sp>
        <p:nvSpPr>
          <p:cNvPr id="244"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黑体"/>
                <a:ea typeface="黑体"/>
              </a:rPr>
              <a:t>慎独</a:t>
            </a:r>
            <a:endParaRPr b="0" lang="en-US" sz="3200" spc="-1" strike="noStrike">
              <a:solidFill>
                <a:srgbClr val="046ca6"/>
              </a:solidFill>
              <a:latin typeface="Arial"/>
            </a:endParaRPr>
          </a:p>
        </p:txBody>
      </p:sp>
      <p:sp>
        <p:nvSpPr>
          <p:cNvPr id="245"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6"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护理道德修养方法</a:t>
            </a:r>
            <a:br>
              <a:rPr sz="3200"/>
            </a:br>
            <a:endParaRPr b="0" lang="en-US" sz="3200" spc="-1" strike="noStrike">
              <a:solidFill>
                <a:srgbClr val="046ca6"/>
              </a:solidFill>
              <a:latin typeface="Arial"/>
            </a:endParaRPr>
          </a:p>
        </p:txBody>
      </p:sp>
      <p:sp>
        <p:nvSpPr>
          <p:cNvPr id="247" name="矩形 6"/>
          <p:cNvSpPr/>
          <p:nvPr/>
        </p:nvSpPr>
        <p:spPr>
          <a:xfrm>
            <a:off x="1180440" y="1557360"/>
            <a:ext cx="564012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防微杜渐，追求“慎独”境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48" name="TextBox 7"/>
          <p:cNvSpPr/>
          <p:nvPr/>
        </p:nvSpPr>
        <p:spPr>
          <a:xfrm>
            <a:off x="2411280" y="234936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一种崇高的道德境界，是道德修养的重要环节</a:t>
            </a:r>
            <a:endParaRPr b="0" lang="en-US" sz="24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复述护理道德评价的作用及特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陈述护理道德教育的原则及方法</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列举护理道德评价的标准及方式</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解释护理道德教育的过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总结护理道德修养的作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在护理实践中，运用护理道德评价标准和</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方式，深入探讨加强护理道德修养的途径和方法</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      </a:t>
            </a: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大公无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具有全心全意为患者服务和为护理事业发展献</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身的人生观，如南丁格尔、王秀英、林菊英等护理先辈</a:t>
            </a:r>
            <a:r>
              <a:rPr b="0"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先公后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基本树立了为人民健康服务的思想。在护理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中，她们以患者的利益为重，关心、体贴患者，对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认真负责，团结协作。</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6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
          <p:cNvSpPr/>
          <p:nvPr/>
        </p:nvSpPr>
        <p:spPr>
          <a:xfrm>
            <a:off x="611280" y="3357720"/>
            <a:ext cx="7632720" cy="373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先私后公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在工作中，尚能考虑患者和集体利益，但是往</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往把个人利益看得较重，处处计较让个人得失。</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
          <p:cNvSpPr/>
          <p:nvPr/>
        </p:nvSpPr>
        <p:spPr>
          <a:xfrm>
            <a:off x="611280" y="3357720"/>
            <a:ext cx="7993080" cy="317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自私自利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的行动动机以个人私利为转移，凡事先替自己考虑。</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7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道德的理想</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端正态度，热爱护理事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勤奋学习，为护理事业的现代化而奋斗</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明确方向，树立大公无私和全心全意为人民健康的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崇高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0"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人们及护理人员自身都会对护理行为和活动进行伦理价值的评判。评价分两种：自我评价和社会评价。自我评价主要是护理人员自身对其护理行为和活动的伦理评价，社会评价主要是社会和同行对护理行为和活动的伦理评价。</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道德教育是培养护理人才的重要手段，对形成良好的护理道德风尚和推进护理学科的发展具有深远的意义。护理道德教育可通过多种方式和方法，对护理人员进行有组织、有计划、有目的、有系统的道德教育活动。</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护理实践中，必须依照护理伦理基本原则和规范，进行自我锻炼、自我改造、自我培养、自我陶冶。它是一个循序渐进的过程，只有不断努力，才能形成护理伦理情操和护理道德境界，达到较高的护理伦理修养水平。</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黑体"/>
                <a:ea typeface="黑体"/>
              </a:rPr>
              <a:t>                                                                    </a:t>
            </a:r>
            <a:r>
              <a:rPr b="1" lang="zh-CN" sz="1800" spc="-1" strike="noStrike">
                <a:solidFill>
                  <a:srgbClr val="000000"/>
                </a:solidFill>
                <a:latin typeface="黑体"/>
                <a:ea typeface="黑体"/>
              </a:rPr>
              <a:t>案例</a:t>
            </a:r>
            <a:r>
              <a:rPr b="1" lang="zh-CN" sz="1800" spc="-1" strike="noStrike">
                <a:solidFill>
                  <a:srgbClr val="000000"/>
                </a:solidFill>
                <a:latin typeface="黑体"/>
                <a:ea typeface="黑体"/>
              </a:rPr>
              <a:t>1</a:t>
            </a:r>
            <a:r>
              <a:rPr b="1" lang="en-US" sz="1800" spc="-1" strike="noStrike">
                <a:solidFill>
                  <a:srgbClr val="000000"/>
                </a:solidFill>
                <a:latin typeface="黑体"/>
                <a:ea typeface="黑体"/>
              </a:rPr>
              <a:t>4-1:</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临床护理带教老师指导一位护理实习的学生给患者静脉输液，虽然带教老师事先给学生讲解了静脉输液的要领，但是学生比较紧张。实习生第一针未能穿刺进入血管，第二针又将血管刺破，因此双手有些抖嗦。实习生心想：“静脉穿刺不成功决不罢休！”于是镇定一下又要穿刺第三针。此时，带教老师将穿刺针要了回来，并说：“你考虑过患者的痛苦没有？”实习生带着一股怒气离去。带教老师一针穿刺成功，并对患者说：“对不起，让您受苦了！”患者说：“没有关系，培养学生也是应尽的义务。”片刻，实习生又返回，并羞愧地对患者说：“我是实习生，由于技术不熟练给您带来了痛苦，请您原谅！”患者却严肃的说：有点痛苦算不了什么，不过要记住：“你们服务的对象是人，不是标本！”实习生点了点头。然后，患者又说：“好了，不要紧张！我仍然支持你们的实习，技术会慢慢熟练的，我相信你将来会成为一名优秀的护理人员。”实习生说：“谢谢您！”带教老师也接着对患者说：“谢谢您对我们培养临床护理人员的支持！”</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对该案例中实习生、带教老师和患者的行为进行伦理分析。</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endParaRPr b="1" lang="en-US" sz="1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33" name="Rectangle 2"/>
          <p:cNvSpPr/>
          <p:nvPr/>
        </p:nvSpPr>
        <p:spPr>
          <a:xfrm>
            <a:off x="250920" y="260280"/>
            <a:ext cx="65530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35"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评价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护理实践中，人们及护理人员依据一定的护理道德观念标准和原则，对护理行为所做的道德价值上的的</a:t>
            </a:r>
            <a:r>
              <a:rPr b="1" lang="zh-CN" sz="2800" spc="-1" strike="noStrike">
                <a:solidFill>
                  <a:srgbClr val="cc6600"/>
                </a:solidFill>
                <a:latin typeface="黑体"/>
                <a:ea typeface="黑体"/>
              </a:rPr>
              <a:t>评判</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认识</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560" y="1052280"/>
            <a:ext cx="8893080" cy="5949720"/>
          </a:xfrm>
          <a:prstGeom prst="rect">
            <a:avLst/>
          </a:prstGeom>
          <a:noFill/>
          <a:ln w="0">
            <a:noFill/>
          </a:ln>
        </p:spPr>
        <p:txBody>
          <a:bodyPr anchor="t">
            <a:normAutofit fontScale="87000"/>
          </a:bodyPr>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促进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作用 </a:t>
            </a:r>
            <a:r>
              <a:rPr b="1" lang="zh-CN" sz="2400" spc="-1" strike="noStrike">
                <a:solidFill>
                  <a:srgbClr val="000000"/>
                </a:solidFill>
                <a:latin typeface="黑体"/>
                <a:ea typeface="黑体"/>
              </a:rPr>
              <a:t>       调节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教化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裁决作用</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特点       </a:t>
            </a:r>
            <a:r>
              <a:rPr b="1" lang="zh-CN" sz="2400" spc="-1" strike="noStrike">
                <a:solidFill>
                  <a:srgbClr val="000000"/>
                </a:solidFill>
                <a:latin typeface="黑体"/>
                <a:ea typeface="黑体"/>
              </a:rPr>
              <a:t>确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判断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深刻性</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137" name="Rectangle 2"/>
          <p:cNvSpPr/>
          <p:nvPr/>
        </p:nvSpPr>
        <p:spPr>
          <a:xfrm>
            <a:off x="468360" y="260280"/>
            <a:ext cx="61912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评价</a:t>
            </a:r>
            <a:endParaRPr b="0" lang="en-US" sz="3600" spc="-1" strike="noStrike">
              <a:solidFill>
                <a:srgbClr val="046ca6"/>
              </a:solidFill>
              <a:latin typeface="Arial"/>
            </a:endParaRPr>
          </a:p>
        </p:txBody>
      </p:sp>
      <p:sp>
        <p:nvSpPr>
          <p:cNvPr id="138" name="Rectangle 2"/>
          <p:cNvSpPr/>
          <p:nvPr/>
        </p:nvSpPr>
        <p:spPr>
          <a:xfrm>
            <a:off x="250920" y="907920"/>
            <a:ext cx="72738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护理道德评价的作用及特点</a:t>
            </a:r>
            <a:endParaRPr b="0" lang="en-US" sz="3200" spc="-1" strike="noStrike">
              <a:solidFill>
                <a:srgbClr val="046ca6"/>
              </a:solidFill>
              <a:latin typeface="Arial"/>
            </a:endParaRPr>
          </a:p>
        </p:txBody>
      </p:sp>
      <p:sp>
        <p:nvSpPr>
          <p:cNvPr id="139" name="左大括号 4"/>
          <p:cNvSpPr/>
          <p:nvPr/>
        </p:nvSpPr>
        <p:spPr>
          <a:xfrm>
            <a:off x="2700360" y="1989000"/>
            <a:ext cx="285840" cy="1727280"/>
          </a:xfrm>
          <a:custGeom>
            <a:avLst/>
            <a:gdLst>
              <a:gd name="textAreaLeft" fmla="*/ 182520 w 285840"/>
              <a:gd name="textAreaRight" fmla="*/ 286200 w 285840"/>
              <a:gd name="textAreaTop" fmla="*/ 7200 h 1727280"/>
              <a:gd name="textAreaBottom" fmla="*/ 1720080 h 17272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左大括号 7"/>
          <p:cNvSpPr/>
          <p:nvPr/>
        </p:nvSpPr>
        <p:spPr>
          <a:xfrm>
            <a:off x="2843280" y="4581360"/>
            <a:ext cx="285840" cy="1584360"/>
          </a:xfrm>
          <a:custGeom>
            <a:avLst/>
            <a:gdLst>
              <a:gd name="textAreaLeft" fmla="*/ 182520 w 285840"/>
              <a:gd name="textAreaRight" fmla="*/ 286200 w 285840"/>
              <a:gd name="textAreaTop" fmla="*/ 10800 h 1584360"/>
              <a:gd name="textAreaBottom" fmla="*/ 1573560 h 158436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60" y="2492280"/>
            <a:ext cx="939492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行为是否有利于人体身心疾病的治疗和康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是否有利于人类生存环境的保护与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理行为是否有利于促进护理学的发展和社会的进步</a:t>
            </a:r>
            <a:endParaRPr b="1" lang="en-US" sz="2800" spc="-1" strike="noStrike">
              <a:solidFill>
                <a:srgbClr val="8ac8de"/>
              </a:solidFill>
              <a:latin typeface="Verdana"/>
            </a:endParaRPr>
          </a:p>
        </p:txBody>
      </p:sp>
      <p:sp>
        <p:nvSpPr>
          <p:cNvPr id="142"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43"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44" name="矩形 5"/>
          <p:cNvSpPr/>
          <p:nvPr/>
        </p:nvSpPr>
        <p:spPr>
          <a:xfrm>
            <a:off x="1106640" y="1700280"/>
            <a:ext cx="70740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评价标准</a:t>
            </a:r>
            <a:endParaRPr b="0" lang="en-US" sz="3200" spc="-1" strike="noStrike">
              <a:solidFill>
                <a:srgbClr val="046ca6"/>
              </a:solidFill>
              <a:latin typeface="Arial"/>
            </a:endParaRPr>
          </a:p>
        </p:txBody>
      </p:sp>
      <p:sp>
        <p:nvSpPr>
          <p:cNvPr id="145"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47"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坚持目的和手段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目的是指护理人员经过自己的努力之后期望的目标</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手段是指为达到这一目标采取的各种方法和措施</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选择手段时应坚持三个原则：</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选择的护理手段应该是经过实践检验，证明有效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选择的手段应该是最佳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选择手段时应考虑的社会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道德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50"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坚持动机和效果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良好的动机常产生好的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人员的行为受某种因素的影响</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1:22Z</dcterms:modified>
  <cp:revision>24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