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742B-A811-4A16-9681-645771B111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D817-52D9-4DBA-9036-132061EE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29C9F-133E-474D-AAD0-3972C657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067DD-E751-4F1A-815D-0211367DB2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3CDA-F383-482A-8C78-D214F052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EDB7E-B26C-435E-B76E-6CD5ED63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39CF-2B36-42BA-AF54-DF4FBD22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EB4C4-4C8C-4C4B-88B7-74C1A265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BBA8-34E0-49D4-BD84-407C3ABE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A7F9-DA3D-4537-86AC-3D905B91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ECE0-1097-4527-BA02-4DDF4062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7E24F-B28B-4B56-9B3E-B2951017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5C8E-9641-4603-A09F-C5C70F60F2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62992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障碍的基本知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B84E-75FB-458B-A913-AF1E02AD2B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的精神活动通过人的外显行为，如言谈、书写、表情、动作等表现出来，称之为精神症状。研究精神症状及其产生机制的学科称为精神障碍症状学，又称精神病理学，它是精神医学的重要基础，掌握精神症状在临床工作中具有非常重要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9039-78B3-4A87-9381-64B662C418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出现不受患者意志的控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一旦出现，难以通过转移令其消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内容与周围客观环境不相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会给患者带来不同程度的社会功能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1892-CC3D-4758-AB04-FAE1C7AD29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083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纵向比较，即与当事人过去一贯的表现相比较，其精神状态是否发生了明显的改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横向比较，即与大多数正常人的精神状态相比较，差别是否明显，持续时间是否超出了一般限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结合当事人的心理状态和处境进行具体分析和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8EE4-19BE-4EA4-B84E-0C126E2B0BB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觉障碍主要包括感觉障碍、知觉障碍和感知综合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觉是客观刺激作用于感觉器官所产生的对事物个别属性的反映，如形状、颜色、大小、重量和气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0008-9F2D-477A-8749-C69A309A40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感知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过敏 是对外界一般强度的刺激感受性增高，如感到阳光特别刺眼，声音特别刺耳，轻微地触摸皮肤感到疼痛难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减退 是对外界一般刺激的感受性减低，感觉阈值增高，患者对强烈的刺激感觉轻微或完全不能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内感性不适 躯体内部产生的各种不舒适和（或）难以忍受的异样感觉，如牵拉、挤压、游走、蚁爬感等。性质难以描述，没有明确的定位，可继发疑病观念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6E97-EB75-4DFF-B0A9-8F23B34DB4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43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大脑对客观事物的各种不同属性进行综合，并结合以往的经验，形成对事物的整体印象。正常情况下感知觉与外界客观事物相一致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人脑对客观事物的整体属性的反应。它与感觉一样是认识的初级阶段，是对客观事物外部表现及表面联系的反映。知觉障碍是最常见的，而且是许多精神障碍患者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B825-C64C-4D96-8B14-E07E8DDA63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84120"/>
            <a:ext cx="776736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觉 是对客观事物歪曲的知觉，即错误地把实际存在的一种事物感知为另一事物。正常人在光线不定、疲乏、紧张恐惧等情况下产生诸如“杯弓蛇影”、“风声鹤唳”、“草木皆兵”等错觉，但一般通过验证能很快被纠正和消除。病态情况下产生的错觉多见于精神分裂症、谵妄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31DC-FF72-41ED-B909-E62FC2B630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幻觉 是指在没有客观事物作用于感觉器官的情况下，患者却感知它的存在而产生的一种虚幻的知觉。按不同的感觉器官可将幻觉分为幻听、幻视、幻嗅、幻味、幻触和内感受器幻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8F22-7246-4950-934D-EF788B5446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综合障碍 又称非幻觉性知觉障碍，是指患者对某一客观事物的整体感知是正确的，但对其某些个别属性的感知发生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w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952880" y="609480"/>
            <a:ext cx="1524240" cy="1371600"/>
          </a:xfrm>
          <a:prstGeom prst="rect">
            <a:avLst/>
          </a:prstGeom>
          <a:gradFill rotWithShape="0">
            <a:gsLst>
              <a:gs pos="0">
                <a:srgbClr val="fbcb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Picture 4" descr="hw086"/>
          <p:cNvPicPr/>
          <p:nvPr/>
        </p:nvPicPr>
        <p:blipFill>
          <a:blip r:embed="rId2"/>
          <a:stretch/>
        </p:blipFill>
        <p:spPr>
          <a:xfrm>
            <a:off x="5334120" y="914400"/>
            <a:ext cx="7300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629400" y="50292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幻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629400" y="29718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错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29400" y="990720"/>
            <a:ext cx="2209680" cy="609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感知综合障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773360"/>
            <a:ext cx="99360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一节：精神障碍的病因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：精神障碍的分类与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三节：精神障碍的症状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9EAB-FED9-49A9-A9D5-16E5AAEE18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3440" y="1341000"/>
            <a:ext cx="7796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奔逸 又称观念飘忽，指联想速度加快、数量增多、内容丰富生动。患者表现健谈，说话滔滔不绝、口若悬河、出口成章，自觉脑子反应快，特别灵活，好像机器加了“润滑油”，思维敏捷，概念一个接一个地不断涌现出来，说话的主题极易随环境而改变（随境转移），也可有音韵联想（音联），或字意联想（意联）。多见于躁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A4A8-B385-4FFB-9E0F-47DA26C5F7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迟缓 即联想抑制，联想速度减慢、数量减少和联想困难。患者表现言语缓慢、语量减少，语声甚低，反应迟缓，但思维内容并不荒谬，能够正确反映现实。患者自觉“脑子不灵了“脑子迟钝了”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D253-AEF2-4217-9DE7-E121F30AAF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贫乏 指联想数量减少，概念与词汇贫乏，脑子空洞无物。患者表现为沉默少语，答话时内容大致切题，但单调空洞或词穷句短，常泰然回答“不知道”、“什么也没想”。见于精神分裂症、脑器质性精神障碍及精神发育迟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19FA-1E33-4621-85B0-F9C6D68B67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散漫 又称思维松弛，是指患者在意识清晰的情况下，思维的目的性、连贯性和逻辑性障碍。思维活动缺乏主题思想，内容和结构都散漫无序，不能把联想集中于他所要解释的问题上。尽管患者的每句话都完整通顺，意思可以理解，但上下文前后语句缺乏联系。有时谈话中夹杂的一些突发的与现实无关的内隐性观念，使人难以理解其究竟是想表达什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9310-214F-4FD3-B534-5F65BC5FE2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破裂 指概念之间联想的断裂，建立联想的各种概念内容之间缺乏内在联系。表现为患者的言语或书写内容的句子之间含意互不相关，变成语句堆积，令人不能理解。严重时，言语支离破碎，成了语词杂拌。多见于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王萍同志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你接到我的信的时候，就是我将得到最高奖赏的时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民对你的信任，请你不要灰心，我永远支持你，我并未去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肃日报。他是一个杀人的刽子手，她正向你求婚，想盗窃国家机密，请你放心，是用钢笔写的，我没见过这样忘恩负义的人。元斌院长，我明白你的思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恕海双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角五分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杨元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翟东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执笔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雀克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X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D427-C195-4581-9C40-44825FF788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性赘述 思维活动停滞不前，迂回曲折，出现节外生枝的联想，通常说明讲话人的抽象概括和理解能力低下，表现为说话啰嗦，抓不住重点，包含了许多不必要的细节和无关的分枝。对别人让其围绕话题简述的要求置之不理，固执地按照自己预想的思路赘述下去。思维进行虽慢，但说话的主题还隐约可见，最终能够达到预定的目标。见于癫痫、脑器质性及老年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E2F8-096D-48FE-A416-1881984717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象征性思维 以无关的具体概念或行动代表某一抽象概念，不经患者解释，旁人无法理解。如某患者经常反穿衣服，以表示自己为“表里合一、心地坦白”，常见于精神分裂症。正常人可以有象征性思维，如以鸽子象征和平。正常人的象征以传统和习惯为基础，彼此能够理解，而且不会把象征当作现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230B-5F7C-4E0A-9D1E-03BF937933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词新作 指概念的融合、浓缩以及无关概念的拼凑。患者自创一些新的符号、图形、文字或语言并赋予特殊的概念，不经患者本人解释，别人难以弄清其含义。如“豸市”代表狼心狗肺，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%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表离婚。多见于精神分裂症青春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1063-EAC5-4D11-AB9A-7701C7F9DD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逻辑倒错性思维 主要特点为推理缺乏逻辑性，既无前提，也无根据，或因果倒置，推理离奇古怪，不可理解。如一患者说：“因为电脑感染了病毒，所以我要死了。”可见于精神分裂症和偏执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A97E-EF6C-47CF-9157-DCC4F3F502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4240" y="1267920"/>
            <a:ext cx="83217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名词：错觉、幻觉、妄想、遗忘症、痴呆、自知力、定向力、情感高涨、意志障碍及木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综合征：幻觉妄想综合征、情感综合征、紧张综合征、遗忘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常见的感知觉障碍、思维障碍、注意及记忆障碍、智能障碍、自知力、定向力、情感障碍及意志行为障碍的临床表现及其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所学症状学知识能够初步判断病例中患者存在的精神症状、并做出相应的精神障碍的诊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E4ED-C53F-468D-A56D-41C10E2ABA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这组症状的共同特征是思维的归属性不属于自己，也不受自己控制，是诊断精神分裂症的重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0886-B374-4DF7-ABEA-25CB2329BD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723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中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制性思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被揭露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D23B-6146-4409-9713-7C2B8C7352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言语 思维黏滞在某一概念上停滞不前。患者单调地重复某一概念，或对不同的问题做出相同的回答。如医生问“你今天来做什么？”患者答“看病”。以后再问其他问题时患者依然答“看病”。有的患者不断地重复一句话的最后几个字或词，如“这是一个什么问题，问题、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见于癫痫或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EAFA-C07A-4C96-856F-104210067C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刻板言语  患者机械刻板地重复某一无意义的词或句子，如“月儿要睡了，月儿要睡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与刻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2F90-974D-43CB-9737-3C9B62C6CA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模仿言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模仿周围人讲话的内容，别人说什么患者就说什么，只是一味地机械性重复，好像是别人言语内容的翻版。如问患者“贵姓？”患者也模仿“贵姓？”。问“做什么工作？”，患者同样模仿“做什么工作？”常与模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F464-3F88-469C-BC03-DF223AB939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缄默症  患者缄默不语，不回答任何问题，有时可以手示意。见于分离型障碍及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5A33-B617-4A63-B418-5C47C5DD2D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673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妄想 是一种病理性的歪曲信念，具有以下特征：①思维内容与事实不符，没有客观现实基础；②患者对自己的想法深信不疑，不能被事实所纠正，与其所接受的教育和所处的社会文化背景不相称；③妄想内容均涉及患者本人，总是与个人利害有关；④妄想具有个人独特性，不为任何集体所共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A767-1521-4900-B78A-A5D3EB7367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18800" y="119664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妄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害妄想            ⑥罪恶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系妄想            ⑦疑病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理影响妄想      ⑧钟情妄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夸大妄想            ⑨嫉妒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血统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1951-7463-4E80-B072-87E7E391A9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7767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超价观念 是指在一定的性格基础和强烈的情感色彩基础上，对某些事实做出超乎寻常的评价，并予以坚持而影响行为。它与妄想的区别在于没有逻辑推理错误，可以被事实纠正，具有社会可接受性，其信念可与其他人所共有。多见于人格障碍或应激相关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1EEB-EA73-4F58-8595-3660875CB6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观念  或称强迫性思维，指在患者头脑中反复出现某一毫无现实意义的概念或想法，明知没有必要，又无法摆脱，伴有主观的被强迫感觉和痛苦感。包括强迫性回忆、强迫性穷思竭虑、强迫性对立思维、强迫性怀疑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2313-4DBA-4BEF-BCA4-2FBCA6D6AB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是指在各种因素影响下，大脑功能失调导致认知、情感、意志和行为等不同程度障碍为临床表现的疾病。精神疾病的发生与个人的遗传因素、易感性、病前个性特征、机体的功能状态、精神创伤及社会文化背景等因素都有着广泛的联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C140-6F2F-4A15-B620-64CA44B013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77230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注意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减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转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涣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狭窄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74A5-8F26-484C-878A-840068C60D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779616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记忆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忘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虚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似曾相识症或熟悉感和旧事如新症或生疏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B8D2-E070-4E1E-887E-07688EBA62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智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能障碍可表现为全面性或部分性的智能减低。主要有精神发育迟缓和痴呆两种类型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7B45-2271-4CD9-80B0-F90C101820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2780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定向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是指一个人对时间、地点及人物以及自身状态的认识能力。定向力障碍多见于意识障碍、痴呆患者，也可见于精神分裂症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D903-BB9A-461C-A41C-886924E73F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自知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  又称领悟力或内省力，是指患者对自身精神状态的认识和判断能力。其表现方式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不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丧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BA4C-8070-4D56-AAAA-A2EFCD69D6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高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活动明显增强，表现为与环境不相符的自我感觉良好，过分地兴高采烈，喜笑颜开，眉飞色舞。常见于躁狂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626C-FDE9-4E78-A5D3-8EB1DC39D8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欣快  患者经常面带微笑，似乎十分满意和幸福愉快，但说不清高兴的原因，表情单调刻板，难以引起周围人的共鸣，给人以痴笑的感觉。多见于脑器质性精神障碍、醉酒状态、精神发育迟滞，或衰退期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A6C5-ECB5-4A1D-8520-D851976B39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7800" y="1285560"/>
            <a:ext cx="7293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低落 它和情感高涨恰恰相反，患者情绪低沉，整日忧心忡忡、愁眉不展、唉声叹气，重则忧郁沮丧、悲观绝望，感到自己一无是处，以致生趣索然，甚至出现自杀观念和自杀企图。情感低落经常伴有思维缓慢，言语及动作减少，意志要求的减退，反应迟钝，但整体精神活动与周围环境相协调。情感低落是抑郁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41F0-ECAB-4251-B966-29EDA9F866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焦虑 在缺乏相应的客观因素情况下，患者表现为顾虑重重、紧张恐惧、搓手顿足，似有大祸临头，惶惶不可终日，伴有心悸、出汗、手抖、尿频等自主神经功能紊乱症状。常体验到濒死感、失控感，伴有呼吸困难、心跳加快等自主神经功能紊乱症状，一般发作持续数分钟至十几分钟。多见于抑郁状态、严重应激反应、焦虑障碍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5ED6-3F58-4B4A-AA92-66F7860879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恐惧 表现为超乎客观现实的紧张、害怕、提心吊胆，伴有明显的自主神经功能紊乱症状，如心悸、气急、出汗、四肢发抖，甚至大小便失禁等，常导致逃避行为。对特定事物的恐惧是恐怖性焦虑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7661-8833-46B4-B602-5A7C159592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 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 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 体质因素与个性心理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 性别和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 神经发育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 器质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C083-DDF3-4AEE-9771-D5E9D91D162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波动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脆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迟钝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淡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易激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暴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激情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7080-6109-4A53-9F58-B44A62C80C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0834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协调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倒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哭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EA1A-6937-4BFA-A2FE-AFAC93BE4B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801216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缺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向倒错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EE2A-1407-4031-A5F2-267BADB8C3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违拗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5C4E-CF81-4FF0-8502-8970B91C2A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刻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模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被动性服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作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离奇行为、古怪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性动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F3D7-ECEC-4E6E-AC7A-81B16F5579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939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周围环境的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嗜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混浊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神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谵妄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迷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错乱状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蒙胧状态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样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AB7D-61CC-42BB-AA71-AA38225387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96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解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交替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重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转换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62C2-CCCC-49C2-81B6-224F20827D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疾病的症状常常不是孤立存在的，而是相互联系、以一组症状组合成某些综合征或症候群同时出现的。这些状态对诊断多无特异性，同一状态可见于不同病因所致的疾病。在诊断尚未明确时，以某种状态来描述患者症状的主要特点，有助于诊断的深入探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BBCE-F11F-4311-B634-D00717B068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15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兴奋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精神病理学术语，“兴奋”一词表示精神活动整体水平的过高或者过剩，主要表现为思维联想过程加快、情感活跃、意志行为增多。协调性精神运动性兴奋表现为思维奔逸、自我评价过高、情感高涨、意志增强，多见于躁狂状态；不协调性精神运动性兴奋表现为思维散漫甚至破裂、情感躁动不安、言语和行为杂乱无章，多见于精神分裂症青春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C7E9-6B28-4B32-A8C5-927AF3DC66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抑郁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状态表现为情感低落、兴趣缺乏、思维迟缓、自卑自责、悲观厌世、言语减少、动作缓慢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7678-80B4-44CC-B3D6-1E8814BCD6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834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指生活事件所致的应激反应，主要包括一般生活事件和强烈的应激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因素主要包括环境和文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90C5-6C8D-4BD0-AD0A-98AE6B3109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妄想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妄想状态以妄想为主要表现，内容可以是被害、夸大、疑病、钟情等，可伴有幻听及相应的情感与行为变化。多见于妄想性障碍和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73E8-4387-45A1-945F-894A9D88EC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奥赛罗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病理性嫉妒综合征。以坚信配偶不贞的嫉妒妄想为核心症状，多具有偏执型人格障碍的基础。患者以许多似是而非的证据证明其配偶另有新欢，为此反复侦察、盘问、跟踪、拷打，症状可持续数年，可能发生攻击行为，甚至杀死配偶，就犹如莎士比亚描述的奥赛罗一样。多见于妄想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0782-D6B4-4B00-8B72-EC3251A3F7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精神自动症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在意识清晰状态下出现假性幻觉、被控制感、被揭露感、强制性思维及系统化的被害妄想、影响妄想等，患者的突出体验是异己感，可有思维插入、思维被广播等被动体验。见于精神分裂症偏执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3493-DF26-46CD-9F44-A074B189C7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15472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紧张症候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表现为木僵、违拗、被动服从、蜡样屈曲、作态以及刻板言语、刻板动作等，有时又表现为突发的兴奋、冲动行为。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4498-DEFE-49B9-B22C-3B5C821F69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1508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衰退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思维贫乏、情感淡漠、意志缺乏为核心症状，表现为言语简单、面无表情、生活懒散、无欲无求。认知功能可以有各式各样的缺陷，但不是痴呆，在临床相中也不占突出地位。见于精神分裂症单纯型或其他型的衰退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B449-6834-409B-80F7-075D598DB1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强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强迫思维、强迫意向或强迫动作为主要表现，重复无意义的思想、要求和行动，内心痛苦，希望摆脱却欲罢不能。见于强迫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23BB-3590-4252-ADF5-5D87324018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柯萨可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遗忘综合征，表现为近事遗忘、错构、虚构和定向障碍，多见于慢性酒精中毒性精神障碍、颅脑外伤后精神障碍及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7FFB-BE2C-403C-9900-8DAB8A8E1A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工程师，个性孤僻，工作认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声称自己非常能干，飞机、原子弹等都是他制造的，偶有觉的自己脑子里插入了别人的思想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前，患者对某同事提过意见后，彼此关系疏远，渐怀疑将会遭到对方报复。以后开始怀疑周围的人在监视他，并认为某同事在背后策划、曾向领导写信控诉被害情况。一年前调动工作至另一城市，不久，即听到有声音说其妻子已来到该城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FCDD-DFF4-401F-B735-C2DFB9CE38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54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患者一直未见其妻子来看他，因而怀疑其妻子另有新欢，就不请假回到家中，不见妻子又赶到妻子工作单位，见到其妻子在工作才安心。从此，终日尾随其妻，寸步不离。某日，突然紧张地对妻子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今晚有人要抢你，你看满室被电照得通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并持一木棍称要与他们拼个死活。之后渐认为许多人伙同一起阴谋陷害他，曾向省市法院写信控告，后被核实控告情况不存在，但其非常顽固，依然我行我素进行控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1F05-D6E7-46E2-8DDF-9AB582C3FE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083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后，对周围一切很注意，认为别人的言行皆与他有关，感到有“心身探测仪”常在考查他的思维活动，因为脑子一想什么即刻听到有人在重复他所想到的内容，耳内整日不安静，常听到害他和夺妻等有关的事，否认有病，只承认患过神经衰弱。近期出现不能自控的反复检查门窗是否关好，且情绪不好，历时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左右时间，整日感到闷闷不乐，对任何事物没有兴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756B-676E-4EEE-BB04-01BB333F3C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今在中国精神病学界所使用的精神障碍分类系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：即世界卫生组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WHO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疾病分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的第五章、美国精神病学会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诊断和统计手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中国精神障碍分类及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8D79-9451-49BB-AD34-1FE8DA7C5E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867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哪些精神症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在案例中标明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9C44-314D-45D7-8B80-CE0F377AE0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，较多的精神病专科医院已经采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CD-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临床诊断标准，部分医院仍然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CMD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SM-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用于研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C225-071B-40C4-934A-1ABEBBD6D6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精神障碍的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的诊断主要依靠病史和精神检查所获得的资料，首先确定患者的症状，将相关的症状聚类，得出症候群或综合征，也就是症状学诊断。第二步，结合发病的有关因素及病程特点，遵循诊断分类系统规定的标准，进行疾病诊断，再与具有类似临床表现的疾病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41:59Z</dcterms:modified>
  <cp:revision>5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