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5F3F7-294F-43DF-A84E-183D1CB30C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587DD-634B-4126-94EA-C5868417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D6CC4-7CF1-4166-A377-162959D4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615F5-9FF0-4639-A4FC-D082007A66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40BAA-3AC7-47BB-B190-3E446D1D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10021-E410-4A2A-9D0A-41F1DA17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E659-BDB7-4E07-A080-0083900B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AB084-B805-4C62-9243-2F91568C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1A76-B750-4689-B6ED-A3620D62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C8F5-D11F-419A-A39F-AEEFB9F4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47D96-4064-484C-99C9-881C6AC7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1D1D9-DEE8-45A1-8139-075CDD9F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ECF1-9B5A-4DF4-82C7-482D6C33B30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08360" y="2276640"/>
            <a:ext cx="575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精神障碍患者危机状态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的防范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常用护理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（针对他人） 与幻觉、妄想、焦虑、器质性损伤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没有发生暴力行为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确认引起自己激动、愤怒的因素，并能控制自己的行为或立即寻求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以适当的方式发泄自己的愤怒情绪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以积极的方式处理挫折感、紧张及愤怒的感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32" name="AutoShape 2"/>
          <p:cNvCxnSpPr>
            <a:stCxn id="233" idx="7"/>
            <a:endCxn id="234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5" name="AutoShape 3"/>
          <p:cNvCxnSpPr>
            <a:stCxn id="233" idx="6"/>
            <a:endCxn id="236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7" name="AutoShape 4"/>
          <p:cNvCxnSpPr>
            <a:stCxn id="233" idx="5"/>
            <a:endCxn id="238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39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41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2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244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5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6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247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后的处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250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暴力行为的风险评估 对潜在的有暴力危险的患者必须仔细评估暴力的危险，分析发生的可能原因，以制定切实的护理措施。全面准确风险评估是防范冲动攻击行为的基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攻击风险因素评估量表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8000" y="1413000"/>
          <a:ext cx="9036000" cy="4965480"/>
        </p:xfrm>
        <a:graphic>
          <a:graphicData uri="http://schemas.openxmlformats.org/drawingml/2006/table">
            <a:tbl>
              <a:tblPr/>
              <a:tblGrid>
                <a:gridCol w="1860480"/>
                <a:gridCol w="7175520"/>
              </a:tblGrid>
              <a:tr h="596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严重程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评估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患者的一般人口学资料，疾病诊断，症状表现等。其中男性诊断精神分裂症患者评定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被动言语性攻击，激惹性增高，无对象的抱怨，交谈有敌意，或精神分裂症有命令性幻听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言语性攻击，被动的躯体攻击及既往有主动的躯体攻击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躯体攻击，攻击行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天内至少出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以上或攻击行为造成他人躯体上的伤害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2080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组织管理，消除不安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造人文环境，消除不良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患者的自我控制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有效地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护士的危机应对能力和安全防范意识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269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时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30481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迅速求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2286000" y="166068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1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048120" y="25113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局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2286000" y="24890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2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3048120" y="335772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抚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2286000" y="331632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3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3048120" y="4165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危险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21"/>
          <p:cNvSpPr/>
          <p:nvPr/>
        </p:nvSpPr>
        <p:spPr>
          <a:xfrm>
            <a:off x="2286000" y="41432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4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3048120" y="5014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约束与隔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23"/>
          <p:cNvSpPr/>
          <p:nvPr/>
        </p:nvSpPr>
        <p:spPr>
          <a:xfrm>
            <a:off x="2286000" y="49928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030480" y="57942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暴力行为时的注意事项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>
            <a:off x="2268360" y="57722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Verdana"/>
                <a:ea typeface="Gulim"/>
              </a:rPr>
              <a:t>6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后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被控制后，多数患者在情绪上仍难以自控，必要时遵医嘱给予医学保护性约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在暴力行为中受到伤害的患者和护士立即进行妥善处理，一旦情况许可，应尽早陪同施暴者对受伤者赔礼道歉，以恢复和谐的人际关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患者平静后，用就事论事的态度，与患者探讨暴力行为的危害，指导患者学习如何恰当表达个人需要和焦虑、愤怒等恶劣情绪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重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杀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uicid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有意识地伤害自己的身体，以达到结束生命的目的，该定义强调的是自我意识和对自我行为的控制。也就是说，自杀者必须意识清楚，具有自控能力且行为的目的直指死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295280" y="236232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精神障碍评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郁症、精神分裂症、精神活性物质所致精神障碍、应对失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生物学与社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学因素、遗传因素、个性特征、躯体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402160" y="228600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Gulim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的高危因素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线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工具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与自杀危险有关的因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04920" y="1371600"/>
          <a:ext cx="8610480" cy="5335560"/>
        </p:xfrm>
        <a:graphic>
          <a:graphicData uri="http://schemas.openxmlformats.org/drawingml/2006/table">
            <a:tbl>
              <a:tblPr/>
              <a:tblGrid>
                <a:gridCol w="1555560"/>
                <a:gridCol w="7054920"/>
              </a:tblGrid>
              <a:tr h="488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级次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因素                                         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龄≥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依赖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容易激惹、愤怒、暴力倾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有自杀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男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愿接受帮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发作的时间超过一般情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曾因精神疾病住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近期有人际关系损失或社会隔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丧失躯体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被解雇或退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单丧偶或离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95640" y="1915920"/>
            <a:ext cx="5689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暴力行为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杀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走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噎食与吞食异物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护理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771560" y="5300640"/>
            <a:ext cx="688680" cy="593640"/>
            <a:chOff x="1771560" y="5300640"/>
            <a:chExt cx="688680" cy="593640"/>
          </a:xfrm>
        </p:grpSpPr>
        <p:sp>
          <p:nvSpPr>
            <p:cNvPr id="127" name="AutoShape 5"/>
            <p:cNvSpPr/>
            <p:nvPr/>
          </p:nvSpPr>
          <p:spPr>
            <a:xfrm>
              <a:off x="1776960" y="531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>
              <a:off x="1771560" y="53006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1811520" y="533556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0" name="Text Box 8"/>
          <p:cNvSpPr/>
          <p:nvPr/>
        </p:nvSpPr>
        <p:spPr>
          <a:xfrm>
            <a:off x="1944000" y="5357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08120" y="5862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于妊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因受到惊吓而出现情绪低，少语少动，夜眠差，入睡困难，多梦、易醒、早醒。周身不适，觉全身血流有上涌感。兴趣下降，平日感兴趣的事情都不愿做了，有自我评价低，感内疚自责。有自杀想法及具体计划，但尚未付诸实施。患者分娩一男婴后情绪低落而跳楼自杀，致右踝骨骨折。入院后患者情绪低，觉得活着没意思，不愿治疗，认为治疗不会有效果，患者自发病以来睡眠差，入睡困难，易醒、多梦、早醒；食欲下降，没有胃口，由于骨折后活动受限，整日躺在床上，不与别人交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自杀危险性较大的因素是什么？如何进行与患者交流？如何预防自杀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自伤自杀的危险  与严重悲观情绪、自责自罪感、无价值感、幻听等高危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不良  与精神症状、社会支持不足、不能满足角色期望、无力解决问题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90" name="AutoShape 2"/>
          <p:cNvCxnSpPr>
            <a:stCxn id="291" idx="7"/>
            <a:endCxn id="292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3" name="AutoShape 3"/>
          <p:cNvCxnSpPr>
            <a:stCxn id="291" idx="6"/>
            <a:endCxn id="294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5" name="AutoShape 4"/>
          <p:cNvCxnSpPr>
            <a:stCxn id="291" idx="5"/>
            <a:endCxn id="296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97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99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0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自杀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1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302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3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安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4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305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6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健康教育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7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308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走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出走行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患者在住院期间未经医生批准私自离开医院的行为，也是精神科的重要意外事件之一。由于精神障碍患者自我保护能力较差，出走会使治疗中断，会给患者或他人造成严重的后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684360" y="152388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806400" y="1644480"/>
            <a:ext cx="1470240" cy="12448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66cc"/>
              </a:gs>
              <a:gs pos="100000">
                <a:srgbClr val="00478e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4" name="Freeform 5"/>
          <p:cNvGrpSpPr/>
          <p:nvPr/>
        </p:nvGrpSpPr>
        <p:grpSpPr>
          <a:xfrm>
            <a:off x="871560" y="1712880"/>
            <a:ext cx="731520" cy="615960"/>
            <a:chOff x="871560" y="1712880"/>
            <a:chExt cx="731520" cy="615960"/>
          </a:xfrm>
        </p:grpSpPr>
        <p:pic>
          <p:nvPicPr>
            <p:cNvPr id="315" name="Freeform 5" descr=""/>
            <p:cNvPicPr/>
            <p:nvPr/>
          </p:nvPicPr>
          <p:blipFill>
            <a:blip r:embed="rId1"/>
            <a:stretch/>
          </p:blipFill>
          <p:spPr>
            <a:xfrm>
              <a:off x="871560" y="171288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72640" y="171288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7" name="Text Box 6"/>
          <p:cNvSpPr/>
          <p:nvPr/>
        </p:nvSpPr>
        <p:spPr>
          <a:xfrm>
            <a:off x="1180440" y="16686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2344680" y="1797120"/>
            <a:ext cx="56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精神症状、住院环境对患者的影响、工作人员疏忽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684360" y="296712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806400" y="308772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006b6b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Freeform 11"/>
          <p:cNvGrpSpPr/>
          <p:nvPr/>
        </p:nvGrpSpPr>
        <p:grpSpPr>
          <a:xfrm>
            <a:off x="871560" y="3157560"/>
            <a:ext cx="731520" cy="615960"/>
            <a:chOff x="871560" y="3157560"/>
            <a:chExt cx="731520" cy="615960"/>
          </a:xfrm>
        </p:grpSpPr>
        <p:pic>
          <p:nvPicPr>
            <p:cNvPr id="322" name="Freeform 11" descr=""/>
            <p:cNvPicPr/>
            <p:nvPr/>
          </p:nvPicPr>
          <p:blipFill>
            <a:blip r:embed="rId2"/>
            <a:stretch/>
          </p:blipFill>
          <p:spPr>
            <a:xfrm>
              <a:off x="871560" y="31586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72640" y="315756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Text Box 12"/>
          <p:cNvSpPr/>
          <p:nvPr/>
        </p:nvSpPr>
        <p:spPr>
          <a:xfrm>
            <a:off x="1182240" y="31813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84280" y="2924280"/>
            <a:ext cx="622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清楚的患者多采用隐蔽的方法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不清、处于衰退期、精神发育迟滞、阿尔茨海默病患者，出走时无目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部分患者表现焦虑、坐卧不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utoShape 15"/>
          <p:cNvSpPr/>
          <p:nvPr/>
        </p:nvSpPr>
        <p:spPr>
          <a:xfrm>
            <a:off x="684360" y="442764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806400" y="454824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c941e"/>
              </a:gs>
              <a:gs pos="100000">
                <a:srgbClr val="a56715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Freeform 17"/>
          <p:cNvGrpSpPr/>
          <p:nvPr/>
        </p:nvGrpSpPr>
        <p:grpSpPr>
          <a:xfrm>
            <a:off x="871560" y="4614840"/>
            <a:ext cx="731520" cy="615600"/>
            <a:chOff x="871560" y="4614840"/>
            <a:chExt cx="731520" cy="615600"/>
          </a:xfrm>
        </p:grpSpPr>
        <p:pic>
          <p:nvPicPr>
            <p:cNvPr id="329" name="Freeform 17" descr=""/>
            <p:cNvPicPr/>
            <p:nvPr/>
          </p:nvPicPr>
          <p:blipFill>
            <a:blip r:embed="rId3"/>
            <a:stretch/>
          </p:blipFill>
          <p:spPr>
            <a:xfrm>
              <a:off x="871560" y="46148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72640" y="4615920"/>
              <a:ext cx="7304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1" name="Text Box 18"/>
          <p:cNvSpPr/>
          <p:nvPr/>
        </p:nvSpPr>
        <p:spPr>
          <a:xfrm>
            <a:off x="1138320" y="454824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2556000" y="4605480"/>
            <a:ext cx="56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史中有出走史，患者无自知力、有明显的幻觉、妄想。对治疗不配合、对住院反感，强烈思念家庭及亲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走失的危险：与幻觉、妄想、思念亲人、或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：与自我防御能力下降、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179280" y="5013360"/>
            <a:ext cx="1276560" cy="1392120"/>
          </a:xfrm>
          <a:custGeom>
            <a:avLst/>
            <a:gdLst>
              <a:gd name="textAreaLeft" fmla="*/ 0 w 1276560"/>
              <a:gd name="textAreaRight" fmla="*/ 1276920 w 127656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Freeform 4"/>
          <p:cNvSpPr/>
          <p:nvPr/>
        </p:nvSpPr>
        <p:spPr>
          <a:xfrm rot="10800000">
            <a:off x="3207960" y="1685520"/>
            <a:ext cx="1276200" cy="139212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324000" y="1828800"/>
            <a:ext cx="4019400" cy="44085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入院指导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应加强与患者的交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安全管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善于发现患者的病情变化，加强夜间巡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督促和组织患者参加工娱治疗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庭支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4724280" y="501336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Freeform 7"/>
          <p:cNvSpPr/>
          <p:nvPr/>
        </p:nvSpPr>
        <p:spPr>
          <a:xfrm rot="10800000">
            <a:off x="7706880" y="168552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4857840" y="1828800"/>
            <a:ext cx="3962160" cy="4408560"/>
          </a:xfrm>
          <a:prstGeom prst="rect">
            <a:avLst/>
          </a:prstGeom>
          <a:gradFill rotWithShape="0">
            <a:gsLst>
              <a:gs pos="0">
                <a:srgbClr val="343a71"/>
              </a:gs>
              <a:gs pos="50000">
                <a:srgbClr val="717ef5"/>
              </a:gs>
              <a:gs pos="100000">
                <a:srgbClr val="343a71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走失患者，及时报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人力进行查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还要管理好病房内其他患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返院后，要劝慰患者，加强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事后护士长组织全区护士对事件进行讨论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1979640" y="119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预防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5410080" y="119700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出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从出国回来后发现电脑中毒了，由此认为外国人在自己的电脑内插入了病毒，因此要求实验室的老师重新清理程序及监控软件，并把所有的密码都改了。之后患者仍然觉得不放心，遂重新购买了一台笔记本。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病情加重，睡眠差，总称头疼。去开会，在会议后遇到一位老师，拦截该教师，问“你有没有被人监控？”，老师回答“没有”，就经费问题与老师纠缠不休，遂报警。入院后患者情绪激动，否认有病，并称自己脑子里被人装上了电脑芯片，认为病房中的摄像头就是监视她的，大声叫嚷自己不能住院，有闯门行为，被护士及时制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什么护理风险？如何有效的预防意外的发生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与吞食异物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2296800"/>
            <a:ext cx="87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噎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oke fo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食物堵塞咽喉部或卡在食道的第一狭窄部，甚至误入气管，引起呼吸抑制、窒息，危及生命。精神科患者发生噎食窒息者较多，其主要原因为服用精神科药物会引发椎体外系反应，出现吞咽肌肉运动的不协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 rot="21245400">
            <a:off x="1112040" y="2232000"/>
            <a:ext cx="291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精神病患者因服用抗精神病药物出现锥体外系副反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帕金森氏病或其他脑器质性疾病患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电抽搐治疗（电休克治疗）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躁狂患者在进餐时言语增多，进食量大，进食速度快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 rot="21240000">
            <a:off x="5171400" y="2016360"/>
            <a:ext cx="309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精神疾病患者的噎食一般突然发生，及时地识别及抢救是挽救生命的重要环节。患者噎食时轻者呼吸困难、面色青紫、双眼直瞪、双手乱抓或抽搐。重者意识丧失、全身瘫软、四肢发凉、大小便失禁、呼吸停止、心跳快而弱进而停止。如抢救不及时或措施不当，死亡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危机状态如暴力行为、自杀行为、出走行为及木僵等的原因及表现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、自杀行为、出走行为及木僵等常见危机状态的评估、预防、处理及护理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有效预防及处理精神科常见的危机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D4D5-0F3D-4572-9491-3180CB9076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1052640"/>
          <a:ext cx="7529400" cy="5486400"/>
        </p:xfrm>
        <a:graphic>
          <a:graphicData uri="http://schemas.openxmlformats.org/drawingml/2006/table">
            <a:tbl>
              <a:tblPr/>
              <a:tblGrid>
                <a:gridCol w="852480"/>
                <a:gridCol w="1854000"/>
                <a:gridCol w="3352680"/>
                <a:gridCol w="1470240"/>
              </a:tblGrid>
              <a:tr h="36648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能导致噎食的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评估结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既往发生过噎食现象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锥体外系反应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唾液分泌减少、口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器质性疾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、重度痴呆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抢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血管意外后遗症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癫痫发作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精神症状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极度兴奋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躁狂饥饿感增加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暴饮暴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进食速度过快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言语过多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理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牙齿脱落影响咀嚼功能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咳嗽、吞咽反射减退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矩形 5"/>
          <p:cNvSpPr/>
          <p:nvPr/>
        </p:nvSpPr>
        <p:spPr>
          <a:xfrm flipH="1">
            <a:off x="8546760" y="1413000"/>
            <a:ext cx="393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有上述风险因素之一者均列为噎食危险者，具有上述</a:t>
            </a:r>
            <a:r>
              <a:rPr b="1" lang="en-US" sz="1400" spc="-1" strike="noStrike">
                <a:solidFill>
                  <a:srgbClr val="fe230c"/>
                </a:solidFill>
                <a:latin typeface="Arial"/>
                <a:ea typeface="宋体"/>
              </a:rPr>
              <a:t>2</a:t>
            </a: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种以上风险因素者列为噎食高风险者，须制订相应护理措施防范意外发生。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噎食的危险：与抗精神病药物不良反应、或脑器质性疾病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窒息　与进食过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照片 004"/>
          <p:cNvPicPr/>
          <p:nvPr/>
        </p:nvPicPr>
        <p:blipFill>
          <a:blip r:embed="rId1"/>
          <a:stretch/>
        </p:blipFill>
        <p:spPr>
          <a:xfrm>
            <a:off x="981000" y="3214800"/>
            <a:ext cx="5305680" cy="3448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照片 002"/>
          <p:cNvPicPr/>
          <p:nvPr/>
        </p:nvPicPr>
        <p:blipFill>
          <a:blip r:embed="rId2"/>
          <a:stretch/>
        </p:blipFill>
        <p:spPr>
          <a:xfrm>
            <a:off x="92160" y="2286000"/>
            <a:ext cx="3622680" cy="219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照片 003"/>
          <p:cNvPicPr/>
          <p:nvPr/>
        </p:nvPicPr>
        <p:blipFill>
          <a:blip r:embed="rId3"/>
          <a:stretch/>
        </p:blipFill>
        <p:spPr>
          <a:xfrm>
            <a:off x="6089760" y="1925640"/>
            <a:ext cx="3073320" cy="9028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507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的急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800" y="1371240"/>
            <a:ext cx="88232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窒息患者急救原则处理。就地抢救、分秒必争、畅通呼吸道、防止并发症、预防再次发生噎食窒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吞食异物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837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wallow eyewink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患者吞下了食物以外的其他物品，在精神障碍患者中精神分裂症患者可能由于幻觉、妄想支配下出现的异常行为。或有自杀想法的患者用作自伤、自杀的手段。吞食的异物种类各异，如戒指、发卡、电池、别针、铁钉、玻璃片、刀片、指甲刀、体温表、筷子、铅笔、剪刀、牙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有无吞食异物的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因素   精神疾病患者在幻觉、妄想支配下出现自杀、自伤观念而吞食；异食症；痴呆及精神发育迟滞患者为了达到出院目的而吞食异物；抑郁症和人格障碍患者也可采用吞食异物作为一种自杀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表现   如果患者吞食了异物，护士应立即评估患者所吞食异物的种类及时间，从而判断危险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：与吞食锐利的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中毒的危险：与吞食金属、电池、塑料等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与吞食电池、塑料等较大物品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有吞食异物风险的患者要了解原因，不可随意斥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对各类物品尤其危险物品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未达到出院目的，有威胁性言语的患者，护士要格外小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发现患者吞服异物后，首先稳定患者的情绪，尽快上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根据具体情况采取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密切观察患者的病情变化，有无痛苦的表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护理。事情发生后护士不要责备患者，关心、同情患者，耐心倾听其内心想法，帮助患者解决实际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木僵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up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种较严重的精神运动性抑制综合征。患者经常保持一种固定姿态，很少活动或完全不动。轻者言语和运动明显减少或缓慢、迟钝，称为亚木僵状态。重者随意运动完全抑制，全身肌肉紧张、呆坐或卧床不起、面无表情、不语不动、不吃不喝、口内含满唾液，不知主动排泄，或相当长时间保持身体僵住不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紧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 rot="21257400">
            <a:off x="825120" y="2288520"/>
            <a:ext cx="29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紧张性木僵是木僵的典型表现。轻者言语行为明显减少、呆坐呆卧、有时有违拗或模仿、刻板动作。重者僵卧在床、不吃不喝或不语不动、无表情、无动作、推之不动，呼之不应。全身肌肉张力增高，常出现“蜡样屈曲”或“空气枕头”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抑郁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 rot="21190800">
            <a:off x="5064480" y="1921680"/>
            <a:ext cx="29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见于严重抑郁症患者，患者呆坐不动或卧床不起，无自主活动和要求，反应极端迟钝，不主动流露任何意愿和要求。在反复追问下，可有细微活动倾向，如点头或摇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1293-88F8-4B1D-9449-EB9D3348F2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危机状态指精神疾病患者突然发生的、个体无法自控的、急性疾病和危及自身或他人生命或财物的一种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暴力行为、自杀自伤、出走、噎食窒息、木僵、昏迷、谵妄状态、缄默状态、拒食、机体衰竭状态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 rot="21257400">
            <a:off x="1010880" y="24354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突然的经受强烈精神刺激出现的木僵，如亲人去世、意外或灾祸，患者表现呆滞不语、面无表情、缄默或推呼不应，甚至出现木僵状态，可有尿失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器质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 rot="21264000">
            <a:off x="5116680" y="2084760"/>
            <a:ext cx="32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现呼之不应、推之不动、缄默、抗拒、肌张力增高，可出现蜡样屈曲，两便失禁，面无表情。这类木僵患者精神检查可发现意识障碍和智能障碍；体格检查和神经系统检查可发现阳性体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营养失调：低于机体需要量　与无法自行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生活自理能力缺陷（进食、沐浴、如厕等）与精神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暴力行为的危险 与突然转为兴奋状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 与缺乏自我保护能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废用综合征的危险　与长期卧床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感染的可能（皮肤、口腔、肺部）与长期卧床，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抵抗力下降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储留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便秘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1000080" y="17146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保护性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视肢体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病因不同，对木僵患者采用相应的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反复诱导患者与现实接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矩形 5"/>
          <p:cNvSpPr/>
          <p:nvPr/>
        </p:nvSpPr>
        <p:spPr>
          <a:xfrm>
            <a:off x="826920" y="1413000"/>
            <a:ext cx="7388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是最常见的精神科意外事件，其原因有精神障碍、生物学因素及心理社会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该评估精神障碍患者暴力行为的危险因素和先兆，以防暴力行为的发生，此过程可利用评估工具进行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教育、约束、治疗等措施可有效地帮助护士预防和处理攻击行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杀原因包括遗传因素、心理因素、社会因素、精神障碍因素、生物化学因素和躯体疾病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0560" y="1341000"/>
            <a:ext cx="88930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观察、交谈以及自杀评估工具的应用，帮助护士发现患者的自杀征兆和意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患者建立良好的治疗性关系，倾听患者的诉说，签订安全契约等措施可帮助患者预防自杀。一旦患者发生自杀行为，应立即配合医生对其进行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出走原因，应采取措施和处理患者的出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其他意外行为还包括噎食、吞食异物，了解意外发生的原因，采取措施预防意外发生，一旦发生立即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分类及临床表现，采取做好基础护理、保护性医疗措施、健康教育等帮助患者早日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CAB5-4F2C-4686-A557-BD830F1086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通常是指对他人的攻击（致伤、致残、严重者可以致死）或对物的攻击（破坏建筑或毁坏财产，引起轻重不等的经济损失）行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C851-0E00-4C2D-95E3-D3403C6630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144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9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150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155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19"/>
          <p:cNvSpPr/>
          <p:nvPr/>
        </p:nvSpPr>
        <p:spPr>
          <a:xfrm>
            <a:off x="3170160" y="2133720"/>
            <a:ext cx="30099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暴力行为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的原因及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危险因素</a:t>
            </a:r>
            <a:r>
              <a:rPr b="0" lang="zh-CN" sz="31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0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161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6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167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8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Text Box 31"/>
          <p:cNvSpPr/>
          <p:nvPr/>
        </p:nvSpPr>
        <p:spPr>
          <a:xfrm>
            <a:off x="7043040" y="2492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17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2" name="Text Box 53"/>
          <p:cNvSpPr/>
          <p:nvPr/>
        </p:nvSpPr>
        <p:spPr>
          <a:xfrm>
            <a:off x="1726560" y="25653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18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18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9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19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" name="Text Box 66"/>
            <p:cNvSpPr/>
            <p:nvPr/>
          </p:nvSpPr>
          <p:spPr>
            <a:xfrm>
              <a:off x="3211560" y="502128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Text Box 53"/>
          <p:cNvSpPr/>
          <p:nvPr/>
        </p:nvSpPr>
        <p:spPr>
          <a:xfrm>
            <a:off x="2988720" y="4714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7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198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42"/>
            <p:cNvSpPr/>
            <p:nvPr/>
          </p:nvSpPr>
          <p:spPr>
            <a:xfrm>
              <a:off x="5897520" y="5089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Text Box 53"/>
          <p:cNvSpPr/>
          <p:nvPr/>
        </p:nvSpPr>
        <p:spPr>
          <a:xfrm>
            <a:off x="5690520" y="4724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3D9B-9D85-499C-8922-40B4E2EA2F9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Freeform 4"/>
          <p:cNvSpPr/>
          <p:nvPr/>
        </p:nvSpPr>
        <p:spPr>
          <a:xfrm rot="20805000">
            <a:off x="4592520" y="272268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47ec4"/>
              </a:gs>
            </a:gsLst>
            <a:lin ang="7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Freeform 5"/>
          <p:cNvSpPr/>
          <p:nvPr/>
        </p:nvSpPr>
        <p:spPr>
          <a:xfrm rot="5461200">
            <a:off x="2798640" y="227484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2a684c"/>
              </a:gs>
            </a:gsLst>
            <a:lin ang="16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 rot="14128200">
            <a:off x="4649040" y="744480"/>
            <a:ext cx="1150920" cy="33181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7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1625040" y="1494360"/>
            <a:ext cx="5480640" cy="4644000"/>
            <a:chOff x="1625040" y="1494360"/>
            <a:chExt cx="5480640" cy="4644000"/>
          </a:xfrm>
        </p:grpSpPr>
        <p:sp>
          <p:nvSpPr>
            <p:cNvPr id="215" name="Freeform 8"/>
            <p:cNvSpPr/>
            <p:nvPr/>
          </p:nvSpPr>
          <p:spPr>
            <a:xfrm>
              <a:off x="4394880" y="2822400"/>
              <a:ext cx="1150560" cy="331596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5960"/>
                <a:gd name="textAreaBottom" fmla="*/ 3316320 h 331596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 rot="6256200">
              <a:off x="2798640" y="212184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15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 rot="14922600">
              <a:off x="4776120" y="97380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66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3884760" y="2786040"/>
            <a:ext cx="1339560" cy="1338120"/>
            <a:chOff x="3884760" y="2786040"/>
            <a:chExt cx="1339560" cy="1338120"/>
          </a:xfrm>
        </p:grpSpPr>
        <p:sp>
          <p:nvSpPr>
            <p:cNvPr id="219" name="Oval 12"/>
            <p:cNvSpPr/>
            <p:nvPr/>
          </p:nvSpPr>
          <p:spPr>
            <a:xfrm>
              <a:off x="3884760" y="2786040"/>
              <a:ext cx="1339560" cy="1338120"/>
            </a:xfrm>
            <a:prstGeom prst="ellipse">
              <a:avLst/>
            </a:prstGeom>
            <a:gradFill rotWithShape="0">
              <a:gsLst>
                <a:gs pos="0">
                  <a:srgbClr val="f14343"/>
                </a:gs>
                <a:gs pos="100000">
                  <a:srgbClr val="92292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4037760" y="2808000"/>
              <a:ext cx="1033200" cy="50508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1" name="Text Box 14"/>
          <p:cNvSpPr/>
          <p:nvPr/>
        </p:nvSpPr>
        <p:spPr>
          <a:xfrm>
            <a:off x="4092840" y="29242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暴力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390320" y="2976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531400" y="2147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行为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653280" y="4699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情感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行为评估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8000" y="1146240"/>
          <a:ext cx="9036000" cy="5457600"/>
        </p:xfrm>
        <a:graphic>
          <a:graphicData uri="http://schemas.openxmlformats.org/drawingml/2006/table">
            <a:tbl>
              <a:tblPr/>
              <a:tblGrid>
                <a:gridCol w="1631880"/>
                <a:gridCol w="7404120"/>
              </a:tblGrid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先兆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踱步、静坐不能、握拳或用拳击物、下颌或面部的肌肉紧张、呼吸增快、突然停止正在进行的动作、表情紧张且僵直、双目凝视或敌视医务人员，拒绝治疗和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言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威胁真实或想象中的对象、强迫他人注意、大声喧哗、妄想性言语、出现辱骂、语调高或语言暗示、抗议不听劝阻、质问、过多不合理要求、对别人吹毛求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情感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愤怒、敌意、异常焦虑、易激惹、异常或过度欣快及情感不稳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意识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思维混乱、精神状态突然改变、定向力缺乏、记忆力损害、无力改变自身现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性患者王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，高中学生，诊断为不伴有精神病性症状的躁狂发作。 患者的父亲职业为安保工作，平时对患者家教较为严厉，王某小时候常因不听话而被其父亲打。从上高中以后患者成绩下降，常出入网吧，沉迷于网游，利用网络游戏赌博，自称“小霸王”。入院后患者话多，好管闲事，常与病友发生口角，有时喜欢嘲笑并欺负病友。一日在吸烟时，王某大叫恐吓某位病友，并用脚踢病友，该病友抓住王某右手中指反抗，将王某中指扭伤。护士发现后及时将二人分开，给予王某医学保护性约束。约束期间王某情绪激动，扬言要报复病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1:30:51Z</dcterms:modified>
  <cp:revision>6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