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F1845-97E6-4091-AE14-88C28333F53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0664B-3904-4238-9C6B-6A7243C94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A0BDB-F65B-4154-A7EA-611ACC285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0C48D-AC6D-4B35-A938-D4E1B61D60D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44DFE-FE90-4579-8D63-DF9101E8B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365D0-A8C2-4A2D-81E0-7CF9E666D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07452-0BF4-4716-828C-C993784C5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A86B8-682F-4DA5-A0C6-3E9C67103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0B0CC-7BF3-43CF-B796-C7DE08111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19544-27FA-4C64-9354-11B86DE28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9E905-1BB7-4CC7-A336-837D0FC6B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62995-7EE1-4B68-8FA1-9BCE8332F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BFD0A-2AFE-4C67-A476-D3894E74D4D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133360"/>
            <a:ext cx="576072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人格障碍患者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31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3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四、表演型人格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3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演型人格障碍又称癔症型或戏剧型人格障碍，以过分的感情用事、夸张言行吸引他人的注意为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3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绪不稳定，暗示性、依赖性强。他们情感体验肤浅，感情用事，情感反应强烈易变，情绪表达戏剧化、夸张，表情丰富但矫揉造作，容易受他人或环境的影响。平时对自己的外观容貌过分计较，不停追求刺激，追求他人赞赏、过分地参加各种社交活动，爱表现自己，外表和行为显出不恰当的挑逗性，给人以轻浮的感觉。行事以自我为中心，自我放任，为满足自己的要求常不择手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2999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五、强迫型人格障碍  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　　强迫型人格障碍以过分谨小慎微、严格要求、追求完美及内心有不安全感为特征。男性多于女性，约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0%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强迫症患者病前有强迫型人格障碍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　　过分疑虑和谨慎，常有不安全感。往往穷思竭虑，对实施的计划反复检查、核对，唯恐疏忽或差错。常拘泥于细节，犹豫不决，避免做出决定。道德感强，谨小慎微，过分看重工作成效而不顾乐趣和人际关系，拘泥于社会习俗，缺乏创新和冒险精神，刻板固执，不合情理要求他人严格按照自己的方式行事，对别人做事不放心，往往事必躬亲，常常由于他们的完美主义，对任何事情要求都过高，以致影响了工作的完成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六、焦虑型人格障碍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焦虑型人格障碍以一贯感到紧张、提心吊胆、不安全及自卑为特点。患者表现为持续和泛化的紧张感与忧虑，办事缺乏自信，总是提心吊胆，生怕出错。患者对别人的批评或评论非常敏感，生怕别人不能接受自己。习惯于夸大现实生活事件和情境，总想回避某些日常活动。生活中求稳，害怕改变和创新。焦虑型人格障碍可出现在多种人格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七、依赖型人格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　依赖型人格障碍以过分依赖，害怕被抛弃和决定能力低下为主要特征。患者请求或愿意他人为自己生活中大多数重要事情做决定，将自己的需求附属于所依赖的人，过分顺从他人的意志，不愿意对所依赖的人提出合理要求，处处委曲求全。由于过分害怕不能照顾自己，常沉陷于被关系亲密的人所抛弃的恐惧之中，感到无助。没有别人过分的建议和保证，他们很难有能力做出日常决定，因为时刻依赖他人，常有压力感，若自己的诸多需求未被满足，易出现抑郁情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八、冲动型人格障碍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　冲动型人格障碍以情感不稳定及缺乏冲动控制为特征，常伴有暴力或威胁性行为的爆发，男性明显多于女性。患者情绪不稳定，易激惹，易与他人发生争执和冲突，冲动后对自己的行为有懊悔，但无法防止再犯，情感爆发时，对他人可有暴力攻击，也可以出现自杀、自伤行为。患者在日常生活中同样表现冲动，做事缺乏目的性和计划性，很难坚持需要长时间才能完成的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AEB6D-75BB-4D53-A384-4BEA4B41CA8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28760" y="1714320"/>
            <a:ext cx="8410320" cy="45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精神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卫生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日常生活自理能力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躯体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实验室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影像学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0" name="Picture 4" descr="图片19"/>
          <p:cNvPicPr/>
          <p:nvPr/>
        </p:nvPicPr>
        <p:blipFill>
          <a:blip r:embed="rId1"/>
          <a:stretch/>
        </p:blipFill>
        <p:spPr>
          <a:xfrm>
            <a:off x="5005440" y="1844640"/>
            <a:ext cx="295128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505DF-B132-4953-9DD1-E76D9701FF0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42960" y="1642680"/>
            <a:ext cx="716760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和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1"/>
          <a:stretch/>
        </p:blipFill>
        <p:spPr>
          <a:xfrm>
            <a:off x="5143680" y="3071880"/>
            <a:ext cx="33130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疾病史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发育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养方式与成长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族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状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患者在童年期是否出现孤独、敏感、言语刻薄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幼年期有无明显失常行为，如学习成绩不良、不遵守学校纪律、逃学、被开除、离家出走、过早性行为、说谎、偷窃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患者的人际关系，有无明显人际关系紧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家长对患者疾病的认识情况及态度，有无专人照顾患者，家庭关系是否融洽，家庭经济条件如何，有无可利用的社会资源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85840" y="1285920"/>
            <a:ext cx="8610480" cy="53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对他人施行暴力行为的危险  与不能控制冲动、充满敌意和情感不成熟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社交功能障碍  与不能正确地自我评价和缺乏人际沟通技巧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对自己施行暴力行为的危险  与情绪不稳定、易冲动及自我认识扭曲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我认同紊乱  与缺乏自信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识记：描述人格障碍的基本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识别不同类型人格障碍的主要临床表现及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释人格障碍的主要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运用：评估人格障碍患者并制订相应护理计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70CB3-3CF9-4BEE-BD38-7177D4B4146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CA30B-9055-49FD-A40D-B7908A713FD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0560" y="1431720"/>
            <a:ext cx="88930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焦虑  与内心空虚、自尊低下和过度紧张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人尊严受损的危险  与敏感多疑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人应对无效  与急切满足眼前的欲望或心愿、自私及操纵行为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自理能力缺陷  与过分依赖他人、对生活缺乏自信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偏执型人格障碍、反社会型人格障碍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建立治疗性信任关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冲动暴力行为的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残行为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庭健康教育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分裂型人格障碍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了更好地与患者建立良好的护患治疗关系，有条件者为患者提供一对一的护理治疗。护士应为患者提供一个日常活动的日程表，包括每天的治疗活动和日常起居，鼓励患者参加小组活动，开始可安排一些互相作用较少的活动，逐渐安排一些涉及语言沟通较多的活动，也可适当安排室外活动。在护理过程中要争取患者的合作，找出他们的需要，鼓励其参与制订护理计划以及设定护理目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、表演型人格障碍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应理解患者，用专业性、治疗性的沟通技巧与患者接触，对其夸张的言行要保持中立态度，用更成熟的语言与患者交流，避免用富于情感或模棱两可的语言。另外，可采用角色扮演的方法，教给患者在各种情境中与其他人相处的技术，扮演合适的角色。帮助患者澄清自己的感觉，用合适的方式表达自己。要评估患者在遇到危机时是否有自杀或自残行为，并采取适当防范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3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四、强迫型人格障碍患者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3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护士应及时地察觉患者的焦虑情绪，鼓励患者用语言表达情感，帮助患者找出在何种情况下产生焦虑的感觉，以及焦虑时患者应如何应对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并提供适宜的方式来处理情感问题。在此基础上，可以引导患者纠正行为。首先确定与患者讨论每次的强迫观念和强迫行为的持续时间，逐渐缩短用在这些仪式活动上的时间。帮助患者找出并建立一些选择性的应对压力的措施，鼓励患者活动如参加文体及娱乐活动，但不要强迫他们参加，避免患者更加焦虑。鼓励患者评价自己实现预期护理目标的情况，与他们讨论如何发现自己的新变化，观察强迫行为改变情况，并与最初的评估水平相比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五、依赖型人格障碍患者的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针对此类患者，护士要找出并鼓励患者说出当前的压力问题，尽量满足患者的要求，但在不使患者感到难堪的前提下，对患者的过多要求给予适当的限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鼓励其自己获得信息，制定决策。同时指导家庭成员支持患者独立以增强其自尊心，不能急于求成，要注重患者微小的进步，逐渐增加患者的自信，从而提高独立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46A40-59B7-43AF-B3C6-8B89B1FF2E6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格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指人格特征明显偏离正常的行为方式，具有适应不良的性质，其人格在内容上、质上或整个人格方面出现异常，严重地损害社会功能，明显影响其人际关系和职业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6084720" y="4726080"/>
            <a:ext cx="2286000" cy="15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及相关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龄：少年或儿童期开始形成，到青春期定形，部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 分人格障碍患者在成年后有所缓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格障碍的病因及发病机制复杂，主要认为和生物学因素、教养方式和环境因素等相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79F96-52AD-44C6-8A87-ED93154013A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Oval 6"/>
          <p:cNvSpPr/>
          <p:nvPr/>
        </p:nvSpPr>
        <p:spPr>
          <a:xfrm>
            <a:off x="1258920" y="3178080"/>
            <a:ext cx="2286000" cy="1143000"/>
          </a:xfrm>
          <a:prstGeom prst="ellipse">
            <a:avLst/>
          </a:prstGeom>
          <a:solidFill>
            <a:srgbClr val="ccccff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临床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4429080" y="923760"/>
            <a:ext cx="2714760" cy="5763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偏执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Rectangle 11"/>
          <p:cNvSpPr/>
          <p:nvPr/>
        </p:nvSpPr>
        <p:spPr>
          <a:xfrm>
            <a:off x="4446720" y="2335320"/>
            <a:ext cx="2697120" cy="66492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分裂样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3"/>
          <p:cNvSpPr/>
          <p:nvPr/>
        </p:nvSpPr>
        <p:spPr>
          <a:xfrm>
            <a:off x="3714840" y="1214280"/>
            <a:ext cx="533160" cy="5072400"/>
          </a:xfrm>
          <a:custGeom>
            <a:avLst/>
            <a:gdLst>
              <a:gd name="textAreaLeft" fmla="*/ 340560 w 533160"/>
              <a:gd name="textAreaRight" fmla="*/ 533520 w 533160"/>
              <a:gd name="textAreaTop" fmla="*/ 23760 h 5072400"/>
              <a:gd name="textAreaBottom" fmla="*/ 5048640 h 5072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3"/>
                  <a:pt x="10800" y="325"/>
                </a:cubicBezTo>
                <a:lnTo>
                  <a:pt x="10800" y="10475"/>
                </a:lnTo>
                <a:cubicBezTo>
                  <a:pt x="10800" y="10638"/>
                  <a:pt x="5400" y="10800"/>
                  <a:pt x="0" y="10800"/>
                </a:cubicBezTo>
                <a:cubicBezTo>
                  <a:pt x="5400" y="10800"/>
                  <a:pt x="10800" y="10963"/>
                  <a:pt x="10800" y="11125"/>
                </a:cubicBezTo>
                <a:lnTo>
                  <a:pt x="10800" y="21275"/>
                </a:lnTo>
                <a:cubicBezTo>
                  <a:pt x="10800" y="21438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11"/>
          <p:cNvSpPr/>
          <p:nvPr/>
        </p:nvSpPr>
        <p:spPr>
          <a:xfrm>
            <a:off x="4446720" y="1643040"/>
            <a:ext cx="2697120" cy="5716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反社会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4429080" y="3143160"/>
            <a:ext cx="2697120" cy="5716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表演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4429080" y="3857760"/>
            <a:ext cx="2697120" cy="57132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强迫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11"/>
          <p:cNvSpPr/>
          <p:nvPr/>
        </p:nvSpPr>
        <p:spPr>
          <a:xfrm>
            <a:off x="4429080" y="4572000"/>
            <a:ext cx="2697120" cy="5716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焦虑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Rectangle 11"/>
          <p:cNvSpPr/>
          <p:nvPr/>
        </p:nvSpPr>
        <p:spPr>
          <a:xfrm>
            <a:off x="4429080" y="5286240"/>
            <a:ext cx="2697120" cy="5716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依赖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11"/>
          <p:cNvSpPr/>
          <p:nvPr/>
        </p:nvSpPr>
        <p:spPr>
          <a:xfrm>
            <a:off x="4429080" y="6000840"/>
            <a:ext cx="2697120" cy="50004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冲动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圆角矩形 3"/>
          <p:cNvSpPr/>
          <p:nvPr/>
        </p:nvSpPr>
        <p:spPr>
          <a:xfrm>
            <a:off x="684360" y="1197000"/>
            <a:ext cx="7777080" cy="43927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，男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，初中文化，无业，父母均事业有成，周岁时父母离异，由祖父母照顾，患者不听管教、脾气暴烈，经常在学校里欺负同学，成绩差，和老师顶撞，还经常和小流氓一起抽烟喝酒，小偷小摸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时回到父亲身边，两人常发生冲突。初二后经常旷课，到附近小学敲诈勒索小学生，初中毕业后上了中专成教班，经常旷课，欺负同学，一年后退学。一直没有工作，在社会上混日子，两年前交个女朋友，女方提出分手后，患者经常到楼下纠缠对方，打电话威胁，遭严词拒绝后将干粉灭火器喷洒与女方家房门上。最近两年沉溺于网吧暴力游戏，多次赖账和网店老板发生冲突被刑事拘留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剪去单角的矩形 6"/>
          <p:cNvSpPr/>
          <p:nvPr/>
        </p:nvSpPr>
        <p:spPr>
          <a:xfrm>
            <a:off x="785880" y="5715000"/>
            <a:ext cx="750096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者属于什么类型的人格障碍？该如何护理此类患者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CD818-A502-4206-93B1-8116881160D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偏执型人格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　偏执型人格障碍以猜疑和偏执为特点，始于成年早期，男性多于女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挫折和拒绝过分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端猜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负、自我评价过高，好斗及顽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地维护个人利益，人际关系紧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4" name="Picture 5" descr=""/>
          <p:cNvPicPr/>
          <p:nvPr/>
        </p:nvPicPr>
        <p:blipFill>
          <a:blip r:embed="rId1"/>
          <a:stretch/>
        </p:blipFill>
        <p:spPr>
          <a:xfrm>
            <a:off x="6516720" y="3573360"/>
            <a:ext cx="19699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反社会型人格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　反社会型人格障碍的主要特点是其行为与公认社会规范有显著差异，常有对抗社会或有犯罪行为。诊断是基于患者的履历，而不是精神状况的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全面、持久地缺乏责任感和爱，对他人感受漠不关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乏内疚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耐受挫折能力低，持续易激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分裂样人格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　分裂样人格障碍以情感冷漠和人际关系明显缺陷为特点，男性多于女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情感淡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人际关系缺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1" name="Picture 5" descr=""/>
          <p:cNvPicPr/>
          <p:nvPr/>
        </p:nvPicPr>
        <p:blipFill>
          <a:blip r:embed="rId1"/>
          <a:stretch/>
        </p:blipFill>
        <p:spPr>
          <a:xfrm>
            <a:off x="5221440" y="3933720"/>
            <a:ext cx="324000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5-09-10T02:30:17Z</dcterms:modified>
  <cp:revision>26</cp:revision>
  <dc:subject/>
  <dc:title>第十二章  人格障碍患者的护理</dc:title>
</cp:coreProperties>
</file>