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5C55E-7798-4EB5-B79C-9861BF9E56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DEA49-12B8-4683-9845-257CC8E3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206FB-304C-4C53-9347-0F041124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2327F-76BA-4EAD-AAEA-9C81A063B6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44C80-F2C2-471A-9C0F-16A6723A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8BAB4-2B74-45E3-B9D7-F0DA486D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BAFC1-DDA0-4794-B2A0-F93B202E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E6A50-8FE6-4385-BE4E-AFC2461C7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8C78B-32FE-41E3-95C4-8BD402C94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A1C83-6B3E-4DB8-8BA4-27E9A3CA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B30B5-F8E3-42AF-8198-2B531AE0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27A62-AF57-4785-9033-8808AA3B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DAF0-86F3-4C13-9C49-B84C869DAAC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597672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活性物质所致精神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     障碍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、大麻类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放松感；欣快感；情不自禁地发笑；有幸福感和夸大感；视力损害和其他知觉改变；主观感觉时间较正常的时候变慢；心动过速；口干；结膜充血；困倦和精神不振；肌力下降；协调性差；饥饿感增加。如果过量使用，还需要检查肺水肿、呼吸抑制、吸入性肺炎或低血压的症状和体征，因其可引起气管炎、咽炎、气喘发作、喉头水肿等疾病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四、致幻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主诉有人格解体、夸张、幻觉、错觉、时间和空间知觉扭曲或神秘的感觉体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注意力分散，高度的警觉，易激惹，欣快感，情绪和精神清晰度提高，触觉增强，性欲增强，精力提高，活动增多，脉搏加快，瞳孔扩大，知觉改变，颚部肌肉紧张或磨牙、牙关紧咬，体温升高，多汗或脱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五、挥发性有机溶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气中或衣服上有强烈的化学物质气味，明显提示使用了挥发性有机溶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能控制肌肉，言语模糊，头晕眼花、困倦或意识丧失，幻觉和错觉，好斗，情感淡漠，判断力受损，醉倒或东倒西歪，复视，癫痫发作，恶心，食欲丧失，鼻子发红或流鼻涕，眼泪汪汪，鼻子或嘴巴周围有皮疹或疼痛，心律失常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六、尼古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情抑郁，失眠，易激惹、受挫感或发怒，焦虑，难以集中精神，不安，食欲增加或体重增加，喜欢甜食，咳嗽增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七、麻醉性镇痛药（以阿片类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瞳孔收缩、眼球充血和眼睑下垂、言语含糊，出汗，皮肤湿冷，食欲减退，呼吸抑制，低血压，判断力受损，欣快感，困倦，意识水平下降，宁静感，与现实分离感，难以辨别的疼痛，眼球震颤，癫痫发作，注意力难以集中，便秘，痔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八、中枢神经系统抑制剂（以苯二氮䓬类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表现为共济失调，困倦，低血压，自信心增加，放松感，言语模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814104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诊断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依赖的诊断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综合征的诊断标准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2DE8-974F-4871-92E9-E897587F7BF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823104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患者的病情有针对性地进行体格、神经系统及实验室检查，尤其要注重血象，神经系统、消化系统、心血管系统及脑电图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310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完全戒酒是有效治疗的第一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康复是一个长期的过程，并且经常需要多种治疗方式的干预，在治疗过程中或治疗后，参加自我支持小组对保持戒除状态很有帮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0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药史的评估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人相关资料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、社会状况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 与药物依赖、厌食、拒食和消化系统功能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  与戒断反应、幻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焦虑  与戒断症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思维过程改变  与幻觉、精神涣散、恍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知识缺乏  与缺乏药物使用及治疗、康复的知识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社交障碍  与药物成瘾、觅药行为及思维过程改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人应对无效  与不正确的认知、调适方法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自我概念紊乱、自卑 与不良的认知和不良的支持系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0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基础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安全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及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55640" y="1915920"/>
            <a:ext cx="482436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的精神活性物质种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依赖形成的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圆角矩形 3"/>
          <p:cNvSpPr/>
          <p:nvPr/>
        </p:nvSpPr>
        <p:spPr>
          <a:xfrm>
            <a:off x="324000" y="1197000"/>
            <a:ext cx="8496000" cy="3600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男性，饮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，持续大量饮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，酒后兴奋冲动，停饮后心烦、手抖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患者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97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底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）开始饮酒，起初为社交性饮酒，和朋友在一块聚会时喝少量白酒约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两，酒后不影响正常生活、工作。此后喝酒量逐渐增加，最多时可饮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6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度白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斤，但对饮酒的开始、结束及饮酒量尚能控制。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8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）退休后，患者不可自控地大量饮酒，每日能饮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多度白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斤多，酒后骂人、摔东西，有时冲动、打人，且断酒后出现心慌、出汗、呕吐、手抖。近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患者有时凭空听到有人说话，但找不到人的情况，有时凭空看见地上、房子上有小虫子、小斑马等，为此感到不安全。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月前患者酒后摔倒，当时无昏迷，家人带患  者到综合医院就诊，完善头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检查提示脑内多发缺血灶，脑萎缩，余未见异常，未予特殊治疗。近期患者凭空闻声、凭空视物现象加重，酒后常不吃饭或吃得少，夜眠差，入睡困难，由家人送入住院治疗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剪去单角的矩形 6"/>
          <p:cNvSpPr/>
          <p:nvPr/>
        </p:nvSpPr>
        <p:spPr>
          <a:xfrm>
            <a:off x="539640" y="501336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问题：该患者目前主要的护理诊断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合作性问题是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4360" y="1341000"/>
            <a:ext cx="823104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主要的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低于机体需要量  与大量饮酒致消化系统功能障碍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暴力行为的危险  与酒精致幻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  与戒断症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过程改变  与幻觉、精神涣散、恍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患者，并为其制订护理计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CB77-3C24-4F11-812B-5ED3C46472B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46E0-2B78-4B57-A731-88A2652CB61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的精神活性物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兴奋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麻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抑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幻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挥发性有机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尼古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6796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质滥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质依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耐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20BB-8E4F-47FF-B9F7-E24F3D6E8F1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99640" y="141300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依赖形成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5640" y="1268280"/>
            <a:ext cx="779940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耐药性和细胞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学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综合征的失用性增敏假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物胺学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、酒精依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酒精中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普通醉酒 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异常醉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酒精戒断综合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果酒中毒者突然停止饮酒，就会出现戒断症状，一般发生于停止饮酒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，轻度症状则包括震颤、衰弱、出汗和恶心，有些人会出现抽搐，严重的嗜酒者停止饮酒后会出现酒中毒性幻觉症，他们可以听见声音谴责和威胁自己，并因此产生恐惧和紧张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酒精所致的精神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中枢神经系统兴奋剂（以可卡因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欣快感；活力增加；兴奋；善于交际；饥饿感减少夸大；自我感觉身体更强壮、精神更充沛；疼痛感下降；话语增多、语速加快；有幽默感、爱笑；瞳孔扩大；流涕；鼻腔充血；恶心和呕吐；头痛；眩晕；蚁爬感；癫痫发作；暴力或古怪的行为和幻觉（可卡因“虫噬感”或“落雪感”以及说话声、响声和气味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8T05:06:02Z</dcterms:modified>
  <cp:revision>5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