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67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68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</p:sldMasterIdLst>
  <p:sldIdLst>
    <p:sldId id="256" r:id="rId86"/>
    <p:sldId id="257" r:id="rId87"/>
    <p:sldId id="258" r:id="rId88"/>
    <p:sldId id="259" r:id="rId89"/>
    <p:sldId id="260" r:id="rId90"/>
    <p:sldId id="261" r:id="rId91"/>
    <p:sldId id="262" r:id="rId92"/>
    <p:sldId id="263" r:id="rId93"/>
    <p:sldId id="264" r:id="rId94"/>
    <p:sldId id="265" r:id="rId95"/>
    <p:sldId id="266" r:id="rId96"/>
    <p:sldId id="267" r:id="rId97"/>
    <p:sldId id="268" r:id="rId98"/>
    <p:sldId id="269" r:id="rId99"/>
    <p:sldId id="270" r:id="rId100"/>
    <p:sldId id="271" r:id="rId101"/>
    <p:sldId id="272" r:id="rId102"/>
    <p:sldId id="273" r:id="rId103"/>
    <p:sldId id="274" r:id="rId104"/>
    <p:sldId id="275" r:id="rId105"/>
    <p:sldId id="276" r:id="rId106"/>
    <p:sldId id="277" r:id="rId107"/>
    <p:sldId id="278" r:id="rId108"/>
    <p:sldId id="279" r:id="rId109"/>
    <p:sldId id="280" r:id="rId110"/>
    <p:sldId id="281" r:id="rId111"/>
    <p:sldId id="282" r:id="rId112"/>
    <p:sldId id="283" r:id="rId113"/>
    <p:sldId id="284" r:id="rId114"/>
    <p:sldId id="285" r:id="rId115"/>
    <p:sldId id="286" r:id="rId116"/>
    <p:sldId id="287" r:id="rId117"/>
    <p:sldId id="288" r:id="rId118"/>
    <p:sldId id="289" r:id="rId119"/>
    <p:sldId id="290" r:id="rId120"/>
    <p:sldId id="291" r:id="rId121"/>
    <p:sldId id="292" r:id="rId122"/>
    <p:sldId id="293" r:id="rId123"/>
    <p:sldId id="294" r:id="rId124"/>
    <p:sldId id="295" r:id="rId125"/>
    <p:sldId id="296" r:id="rId126"/>
    <p:sldId id="297" r:id="rId127"/>
    <p:sldId id="298" r:id="rId128"/>
    <p:sldId id="299" r:id="rId129"/>
    <p:sldId id="300" r:id="rId130"/>
    <p:sldId id="301" r:id="rId131"/>
    <p:sldId id="302" r:id="rId132"/>
    <p:sldId id="303" r:id="rId133"/>
    <p:sldId id="304" r:id="rId134"/>
    <p:sldId id="305" r:id="rId135"/>
    <p:sldId id="306" r:id="rId136"/>
    <p:sldId id="307" r:id="rId137"/>
    <p:sldId id="308" r:id="rId138"/>
    <p:sldId id="309" r:id="rId139"/>
    <p:sldId id="310" r:id="rId140"/>
    <p:sldId id="311" r:id="rId141"/>
    <p:sldId id="312" r:id="rId142"/>
    <p:sldId id="313" r:id="rId143"/>
    <p:sldId id="314" r:id="rId144"/>
    <p:sldId id="315" r:id="rId145"/>
    <p:sldId id="316" r:id="rId146"/>
    <p:sldId id="317" r:id="rId147"/>
    <p:sldId id="318" r:id="rId148"/>
    <p:sldId id="319" r:id="rId149"/>
    <p:sldId id="320" r:id="rId150"/>
    <p:sldId id="321" r:id="rId151"/>
    <p:sldId id="322" r:id="rId152"/>
    <p:sldId id="323" r:id="rId153"/>
    <p:sldId id="324" r:id="rId154"/>
    <p:sldId id="325" r:id="rId155"/>
    <p:sldId id="326" r:id="rId156"/>
    <p:sldId id="327" r:id="rId157"/>
    <p:sldId id="328" r:id="rId158"/>
    <p:sldId id="329" r:id="rId159"/>
    <p:sldId id="330" r:id="rId160"/>
    <p:sldId id="331" r:id="rId161"/>
    <p:sldId id="332" r:id="rId162"/>
    <p:sldId id="333" r:id="rId163"/>
    <p:sldId id="334" r:id="rId164"/>
    <p:sldId id="335" r:id="rId165"/>
    <p:sldId id="336" r:id="rId166"/>
    <p:sldId id="337" r:id="rId167"/>
    <p:sldId id="338" r:id="rId168"/>
    <p:sldId id="339" r:id="rId169"/>
    <p:sldId id="340" r:id="rId170"/>
    <p:sldId id="341" r:id="rId171"/>
    <p:sldId id="342" r:id="rId172"/>
    <p:sldId id="343" r:id="rId173"/>
    <p:sldId id="344" r:id="rId174"/>
    <p:sldId id="345" r:id="rId175"/>
    <p:sldId id="346" r:id="rId176"/>
    <p:sldId id="347" r:id="rId1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" Target="slides/slide1.xml"/><Relationship Id="rId87" Type="http://schemas.openxmlformats.org/officeDocument/2006/relationships/slide" Target="slides/slide2.xml"/><Relationship Id="rId88" Type="http://schemas.openxmlformats.org/officeDocument/2006/relationships/slide" Target="slides/slide3.xml"/><Relationship Id="rId89" Type="http://schemas.openxmlformats.org/officeDocument/2006/relationships/slide" Target="slides/slide4.xml"/><Relationship Id="rId90" Type="http://schemas.openxmlformats.org/officeDocument/2006/relationships/slide" Target="slides/slide5.xml"/><Relationship Id="rId91" Type="http://schemas.openxmlformats.org/officeDocument/2006/relationships/slide" Target="slides/slide6.xml"/><Relationship Id="rId92" Type="http://schemas.openxmlformats.org/officeDocument/2006/relationships/slide" Target="slides/slide7.xml"/><Relationship Id="rId93" Type="http://schemas.openxmlformats.org/officeDocument/2006/relationships/slide" Target="slides/slide8.xml"/><Relationship Id="rId94" Type="http://schemas.openxmlformats.org/officeDocument/2006/relationships/slide" Target="slides/slide9.xml"/><Relationship Id="rId95" Type="http://schemas.openxmlformats.org/officeDocument/2006/relationships/slide" Target="slides/slide10.xml"/><Relationship Id="rId96" Type="http://schemas.openxmlformats.org/officeDocument/2006/relationships/slide" Target="slides/slide11.xml"/><Relationship Id="rId97" Type="http://schemas.openxmlformats.org/officeDocument/2006/relationships/slide" Target="slides/slide12.xml"/><Relationship Id="rId98" Type="http://schemas.openxmlformats.org/officeDocument/2006/relationships/slide" Target="slides/slide13.xml"/><Relationship Id="rId99" Type="http://schemas.openxmlformats.org/officeDocument/2006/relationships/slide" Target="slides/slide14.xml"/><Relationship Id="rId100" Type="http://schemas.openxmlformats.org/officeDocument/2006/relationships/slide" Target="slides/slide15.xml"/><Relationship Id="rId101" Type="http://schemas.openxmlformats.org/officeDocument/2006/relationships/slide" Target="slides/slide16.xml"/><Relationship Id="rId102" Type="http://schemas.openxmlformats.org/officeDocument/2006/relationships/slide" Target="slides/slide17.xml"/><Relationship Id="rId103" Type="http://schemas.openxmlformats.org/officeDocument/2006/relationships/slide" Target="slides/slide18.xml"/><Relationship Id="rId104" Type="http://schemas.openxmlformats.org/officeDocument/2006/relationships/slide" Target="slides/slide19.xml"/><Relationship Id="rId105" Type="http://schemas.openxmlformats.org/officeDocument/2006/relationships/slide" Target="slides/slide20.xml"/><Relationship Id="rId106" Type="http://schemas.openxmlformats.org/officeDocument/2006/relationships/slide" Target="slides/slide21.xml"/><Relationship Id="rId107" Type="http://schemas.openxmlformats.org/officeDocument/2006/relationships/slide" Target="slides/slide22.xml"/><Relationship Id="rId108" Type="http://schemas.openxmlformats.org/officeDocument/2006/relationships/slide" Target="slides/slide23.xml"/><Relationship Id="rId109" Type="http://schemas.openxmlformats.org/officeDocument/2006/relationships/slide" Target="slides/slide24.xml"/><Relationship Id="rId110" Type="http://schemas.openxmlformats.org/officeDocument/2006/relationships/slide" Target="slides/slide25.xml"/><Relationship Id="rId111" Type="http://schemas.openxmlformats.org/officeDocument/2006/relationships/slide" Target="slides/slide26.xml"/><Relationship Id="rId112" Type="http://schemas.openxmlformats.org/officeDocument/2006/relationships/slide" Target="slides/slide27.xml"/><Relationship Id="rId113" Type="http://schemas.openxmlformats.org/officeDocument/2006/relationships/slide" Target="slides/slide28.xml"/><Relationship Id="rId114" Type="http://schemas.openxmlformats.org/officeDocument/2006/relationships/slide" Target="slides/slide29.xml"/><Relationship Id="rId115" Type="http://schemas.openxmlformats.org/officeDocument/2006/relationships/slide" Target="slides/slide30.xml"/><Relationship Id="rId116" Type="http://schemas.openxmlformats.org/officeDocument/2006/relationships/slide" Target="slides/slide31.xml"/><Relationship Id="rId117" Type="http://schemas.openxmlformats.org/officeDocument/2006/relationships/slide" Target="slides/slide32.xml"/><Relationship Id="rId118" Type="http://schemas.openxmlformats.org/officeDocument/2006/relationships/slide" Target="slides/slide33.xml"/><Relationship Id="rId119" Type="http://schemas.openxmlformats.org/officeDocument/2006/relationships/slide" Target="slides/slide34.xml"/><Relationship Id="rId120" Type="http://schemas.openxmlformats.org/officeDocument/2006/relationships/slide" Target="slides/slide35.xml"/><Relationship Id="rId121" Type="http://schemas.openxmlformats.org/officeDocument/2006/relationships/slide" Target="slides/slide36.xml"/><Relationship Id="rId122" Type="http://schemas.openxmlformats.org/officeDocument/2006/relationships/slide" Target="slides/slide37.xml"/><Relationship Id="rId123" Type="http://schemas.openxmlformats.org/officeDocument/2006/relationships/slide" Target="slides/slide38.xml"/><Relationship Id="rId124" Type="http://schemas.openxmlformats.org/officeDocument/2006/relationships/slide" Target="slides/slide39.xml"/><Relationship Id="rId125" Type="http://schemas.openxmlformats.org/officeDocument/2006/relationships/slide" Target="slides/slide40.xml"/><Relationship Id="rId126" Type="http://schemas.openxmlformats.org/officeDocument/2006/relationships/slide" Target="slides/slide41.xml"/><Relationship Id="rId127" Type="http://schemas.openxmlformats.org/officeDocument/2006/relationships/slide" Target="slides/slide42.xml"/><Relationship Id="rId128" Type="http://schemas.openxmlformats.org/officeDocument/2006/relationships/slide" Target="slides/slide43.xml"/><Relationship Id="rId129" Type="http://schemas.openxmlformats.org/officeDocument/2006/relationships/slide" Target="slides/slide44.xml"/><Relationship Id="rId130" Type="http://schemas.openxmlformats.org/officeDocument/2006/relationships/slide" Target="slides/slide45.xml"/><Relationship Id="rId131" Type="http://schemas.openxmlformats.org/officeDocument/2006/relationships/slide" Target="slides/slide46.xml"/><Relationship Id="rId132" Type="http://schemas.openxmlformats.org/officeDocument/2006/relationships/slide" Target="slides/slide47.xml"/><Relationship Id="rId133" Type="http://schemas.openxmlformats.org/officeDocument/2006/relationships/slide" Target="slides/slide48.xml"/><Relationship Id="rId134" Type="http://schemas.openxmlformats.org/officeDocument/2006/relationships/slide" Target="slides/slide49.xml"/><Relationship Id="rId135" Type="http://schemas.openxmlformats.org/officeDocument/2006/relationships/slide" Target="slides/slide50.xml"/><Relationship Id="rId136" Type="http://schemas.openxmlformats.org/officeDocument/2006/relationships/slide" Target="slides/slide51.xml"/><Relationship Id="rId137" Type="http://schemas.openxmlformats.org/officeDocument/2006/relationships/slide" Target="slides/slide52.xml"/><Relationship Id="rId138" Type="http://schemas.openxmlformats.org/officeDocument/2006/relationships/slide" Target="slides/slide53.xml"/><Relationship Id="rId139" Type="http://schemas.openxmlformats.org/officeDocument/2006/relationships/slide" Target="slides/slide54.xml"/><Relationship Id="rId140" Type="http://schemas.openxmlformats.org/officeDocument/2006/relationships/slide" Target="slides/slide55.xml"/><Relationship Id="rId141" Type="http://schemas.openxmlformats.org/officeDocument/2006/relationships/slide" Target="slides/slide56.xml"/><Relationship Id="rId142" Type="http://schemas.openxmlformats.org/officeDocument/2006/relationships/slide" Target="slides/slide57.xml"/><Relationship Id="rId143" Type="http://schemas.openxmlformats.org/officeDocument/2006/relationships/slide" Target="slides/slide58.xml"/><Relationship Id="rId144" Type="http://schemas.openxmlformats.org/officeDocument/2006/relationships/slide" Target="slides/slide59.xml"/><Relationship Id="rId145" Type="http://schemas.openxmlformats.org/officeDocument/2006/relationships/slide" Target="slides/slide60.xml"/><Relationship Id="rId146" Type="http://schemas.openxmlformats.org/officeDocument/2006/relationships/slide" Target="slides/slide61.xml"/><Relationship Id="rId147" Type="http://schemas.openxmlformats.org/officeDocument/2006/relationships/slide" Target="slides/slide62.xml"/><Relationship Id="rId148" Type="http://schemas.openxmlformats.org/officeDocument/2006/relationships/slide" Target="slides/slide63.xml"/><Relationship Id="rId149" Type="http://schemas.openxmlformats.org/officeDocument/2006/relationships/slide" Target="slides/slide64.xml"/><Relationship Id="rId150" Type="http://schemas.openxmlformats.org/officeDocument/2006/relationships/slide" Target="slides/slide65.xml"/><Relationship Id="rId151" Type="http://schemas.openxmlformats.org/officeDocument/2006/relationships/slide" Target="slides/slide66.xml"/><Relationship Id="rId152" Type="http://schemas.openxmlformats.org/officeDocument/2006/relationships/slide" Target="slides/slide67.xml"/><Relationship Id="rId153" Type="http://schemas.openxmlformats.org/officeDocument/2006/relationships/slide" Target="slides/slide68.xml"/><Relationship Id="rId154" Type="http://schemas.openxmlformats.org/officeDocument/2006/relationships/slide" Target="slides/slide69.xml"/><Relationship Id="rId155" Type="http://schemas.openxmlformats.org/officeDocument/2006/relationships/slide" Target="slides/slide70.xml"/><Relationship Id="rId156" Type="http://schemas.openxmlformats.org/officeDocument/2006/relationships/slide" Target="slides/slide71.xml"/><Relationship Id="rId157" Type="http://schemas.openxmlformats.org/officeDocument/2006/relationships/slide" Target="slides/slide72.xml"/><Relationship Id="rId158" Type="http://schemas.openxmlformats.org/officeDocument/2006/relationships/slide" Target="slides/slide73.xml"/><Relationship Id="rId159" Type="http://schemas.openxmlformats.org/officeDocument/2006/relationships/slide" Target="slides/slide74.xml"/><Relationship Id="rId160" Type="http://schemas.openxmlformats.org/officeDocument/2006/relationships/slide" Target="slides/slide75.xml"/><Relationship Id="rId161" Type="http://schemas.openxmlformats.org/officeDocument/2006/relationships/slide" Target="slides/slide76.xml"/><Relationship Id="rId162" Type="http://schemas.openxmlformats.org/officeDocument/2006/relationships/slide" Target="slides/slide77.xml"/><Relationship Id="rId163" Type="http://schemas.openxmlformats.org/officeDocument/2006/relationships/slide" Target="slides/slide78.xml"/><Relationship Id="rId164" Type="http://schemas.openxmlformats.org/officeDocument/2006/relationships/slide" Target="slides/slide79.xml"/><Relationship Id="rId165" Type="http://schemas.openxmlformats.org/officeDocument/2006/relationships/slide" Target="slides/slide80.xml"/><Relationship Id="rId166" Type="http://schemas.openxmlformats.org/officeDocument/2006/relationships/slide" Target="slides/slide81.xml"/><Relationship Id="rId167" Type="http://schemas.openxmlformats.org/officeDocument/2006/relationships/slide" Target="slides/slide82.xml"/><Relationship Id="rId168" Type="http://schemas.openxmlformats.org/officeDocument/2006/relationships/slide" Target="slides/slide83.xml"/><Relationship Id="rId169" Type="http://schemas.openxmlformats.org/officeDocument/2006/relationships/slide" Target="slides/slide84.xml"/><Relationship Id="rId170" Type="http://schemas.openxmlformats.org/officeDocument/2006/relationships/slide" Target="slides/slide85.xml"/><Relationship Id="rId171" Type="http://schemas.openxmlformats.org/officeDocument/2006/relationships/slide" Target="slides/slide86.xml"/><Relationship Id="rId172" Type="http://schemas.openxmlformats.org/officeDocument/2006/relationships/slide" Target="slides/slide87.xml"/><Relationship Id="rId173" Type="http://schemas.openxmlformats.org/officeDocument/2006/relationships/slide" Target="slides/slide88.xml"/><Relationship Id="rId174" Type="http://schemas.openxmlformats.org/officeDocument/2006/relationships/slide" Target="slides/slide89.xml"/><Relationship Id="rId175" Type="http://schemas.openxmlformats.org/officeDocument/2006/relationships/slide" Target="slides/slide90.xml"/><Relationship Id="rId176" Type="http://schemas.openxmlformats.org/officeDocument/2006/relationships/slide" Target="slides/slide91.xml"/><Relationship Id="rId177" Type="http://schemas.openxmlformats.org/officeDocument/2006/relationships/slide" Target="slides/slide92.xml"/><Relationship Id="rId1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F0E46-AF56-43A4-8696-B3BA280A54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281D6-9277-49EE-97C6-B24F3DF3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B0882-52CA-4E22-9D55-A83437DD4B80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A51863-23CC-4A08-B38E-B9309FB0AEE1}" type="slidenum">
              <a:t>&lt;#&gt;</a:t>
            </a:fld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EBA252-CB39-410E-9C55-568E07003C75}" type="slidenum">
              <a:t>&lt;#&gt;</a:t>
            </a:fld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1A699B-9AF7-47C9-97E8-382214832A78}" type="slidenum">
              <a:t>&lt;#&gt;</a:t>
            </a:fld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3B2BD9-6AC5-46FB-8F73-3FD5229E261F}" type="slidenum">
              <a:t>&lt;#&gt;</a:t>
            </a:fld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4C607C-2C9B-4152-80AA-405D4003F49E}" type="slidenum">
              <a:t>&lt;#&gt;</a:t>
            </a:fld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29B5AD-095D-4C69-BE35-EAA0AA74E7FD}" type="slidenum">
              <a:t>&lt;#&gt;</a:t>
            </a:fld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57F7A2-A815-4048-B7C0-CAD4DEC6741E}" type="slidenum">
              <a:t>&lt;#&gt;</a:t>
            </a:fld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8A64F2-0C9B-44C7-9F69-83F8AF06A76A}" type="slidenum">
              <a:t>&lt;#&gt;</a:t>
            </a:fld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CC0163-1F6A-43BA-AB3A-8E97A8F3C62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06A66-6DBD-4F92-8E7B-86A5439F553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CACCF-E4A1-4839-945C-937C602EACD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48EA2-669C-4E8B-AA4C-B37272CFD7F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750A1-45EF-4622-BBFD-470CD4B7750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171C0-C6A5-4B4B-91D4-BF5B266219D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E38E2-EC1E-45B2-B637-AEEAAD16F44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69FA4-1B04-4DD8-AF25-B8D0C79327E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CC947-A22D-4226-9D91-C6F0C03AF98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E634F4-ABA6-41A1-889B-15BBC237C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8DFC2-8C36-47FB-A58D-5EC8D11E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E6FEA3-F13E-4DF2-9F0F-4D2E864F5A6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26AA2E-FE67-43F7-BB60-F64588712CF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F94F23-9845-4F69-B95A-7B914F0AC56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E46A01-7289-4CB0-95C9-961C9713589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BEA05E-32A0-42D7-8771-29CCBEE0223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0FFED1-B7DE-4E42-BA09-255BED55A41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58D05A-E1C7-4681-9CCC-7EBAB667A1C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733979-76D4-4CD1-BBB1-6FE8DEEA70F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DFAFB4-F289-475E-95F7-F7AEBC8D292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11306C-5674-4EE6-8580-1B85748A0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89A6E-B9D0-4B1F-855D-462F504A8F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EEFD29-BF90-4070-89AC-52F22DEC149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BE97AE-7476-4C43-920A-A1290DA9B26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6130BD-9F39-4204-A9D3-4115FF93773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DD0406-848E-4EF9-8512-323EF3D9AB9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349998-07E6-4EC2-88B0-4BDBC670600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512E60-BAF3-4FFA-B639-AD4A710D7F6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BC6470-800B-4700-AC6E-614021D0183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14735C-96ED-461D-8FCB-8CE8E50E9C6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6A2DE2-2E06-4A91-8571-3D918B0ABF2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CAB2C5-0B4C-4EA8-A280-7BCB1E32E1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E457-12EF-4043-930F-108027DF2B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879CE6-E1D2-4BA2-9F01-8D61E3C8338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DA4418-A919-47EC-A109-121BDC715B4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A2B778-585F-442B-BDB5-82FDE15D501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8BCB3-0D94-4AEF-AAE7-0F2670D923C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2771D-C7D7-4E66-B37B-42E6B68AD69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00F3F-DF6C-452B-9F44-BBFDD1F18AD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E36FF-8DB8-41F2-96A2-9FC8B7E6DBA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2145B-86BD-47F0-8A04-B9788B56B0E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74677-0241-4347-8280-5650BAF5BA9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020D4-D85F-48E2-9BDF-C97FD58732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01AE-9EFC-41F9-ADE3-2DE15CA9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08A85-DC39-439C-A79D-DC298E80049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3E31D-22B9-49D6-8EC4-1D0E85CD26A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79C53-902D-44A9-B8D1-CAF3B42D415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294E1-9D73-493B-BFDE-3B313E469BD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55CF0-D61B-45F6-9BEB-6ABC0C71E8F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77360F-6A6A-47A3-B658-29C68D1E7A0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19C3EF-8F64-441E-913B-AFCA7A944BF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C88AF0-C20A-45C7-8C03-68602212A5C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F2202A-55B1-4681-8D87-7F61CDAD0BC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4AF74F-80FA-4A36-A035-3347C87BE3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5B21-ACE5-4AAA-AC0E-AD95FB26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0F1466-D662-49C7-B43D-EB194D9C002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0DE906-9FD3-476B-B91D-B588FE6FF0C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A5538B-2641-4B94-B69E-9E93956A446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E2E17D-8CC5-42D1-8C30-99604E98856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A5DCF6-5D09-4F77-89DF-A20D5143FF2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DCD0D4-7C8F-46B2-9EA3-BB9D66DE3A7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CB7EB6-32B9-4962-B52F-CBDCBE73270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CA4A7D-C90C-4890-B243-9CC9143BFA7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E5E168-E62C-420F-899C-69ACC65CAC4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DC8811-3167-4C92-B789-C46FD710DE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2CC1-A65F-4458-AC24-738E032B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3D17C0-3DC0-4D51-BD6B-599F05CA538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CE44F2-5BE5-40F2-BFD5-07F875FFEC5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44A8F7-7F6C-4F03-9BB7-97C93DA6FFB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91A579-3DB8-4634-AC72-079EE25E111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45E81D-8652-45E9-AF15-39EB874E6DA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991DFE-CC81-4A69-A2F1-6E904FE76CC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DA21F2-0398-4A2C-A0A1-B742C1F3602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8529BD-B124-4A7D-9DA7-7133BCBCA9F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7666DA-212E-4774-BA1B-54ECB48E30C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E8B85-E75A-461E-82E8-63DB0A337F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D75-D6FE-4BA3-8DD5-D9E6A6BF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3BBB8-1B67-465A-93CE-D22567552CC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63B39-75DC-4965-B747-475BC0A1173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93D4A-C58A-48E7-82A6-4883945634C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4272A-CE77-4B7F-84F9-499B1BF5BFA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6EEA8-E830-4E28-8FCE-279071C0257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6D6DD-BB7C-42C3-B018-9E55560517B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7355C-9387-4A4E-AF37-048139A6246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99308-C6C6-4328-B528-9FF3B3237F4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3303B-D850-4916-9BAA-C12255D52FD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A41A0-32D3-403C-B5FC-12B66E1B53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8BD3-C3E8-4E5C-95E1-7F1072AF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8FE27-457C-4BA7-8945-9319FA1E2AF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6D4F5A-DC90-4A0B-9F8A-4BB949A7D02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7DACBB-4852-474C-AD9A-CA2FBF1741A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4F7FB8-EAD8-4BF3-B2C6-07A471BE7B2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CB3DAC-E696-4CAB-B1B5-7BC032298AD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5AF1DD-A482-44A2-B4E7-12A19DAA48D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D11BD7-4D20-44BD-A4C8-6A7341526FC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04A21D-A828-48C9-8E78-3871DE99B0E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F7D447-25BA-439A-B292-CD93A0887E4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0E3A4C-4D53-4B0A-93D2-C061B26FD5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C5BE-ADB3-4255-84DA-324BD6B0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752816-6121-42E2-96F5-6A6048A1CAF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329ADE-EA8E-468E-901A-E4C697DD80A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DFF4C4-3F5C-46CC-A5AA-4177FD32971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A4C8E5-D3BD-414B-AA66-280D31E612C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53E2DB-6B1B-4B73-89F1-96D36C475C0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147628-D22E-4FD7-8DBA-46AA1572B7A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4108E2-2B0E-4912-9C01-EBEC0622359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B41A17-92ED-4748-82C3-5E2F0CC98DC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A5047F-A73A-49BE-99B3-45BC4AE4F62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03969A-1BE2-43D0-B7A9-E4FCDBF7C9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7342E-C075-4913-BE6E-9BAC3711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FAAF-4893-4805-9278-BF095B74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3E7E0C-BE09-4534-A4A9-864D9689DE7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F008AA-DA5E-4C21-9E79-452405A4F5F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67FB30-63D2-4AC7-AC8E-84E7E981D98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5657CA-694E-42E9-8B99-B3E4DC591C9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3E031F-DD66-4F30-A27D-32616F6CB28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7354F-679C-41CD-87F6-8285800B573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B112D-19C2-46BE-A61F-BCF33A7043D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31FE8-09ED-46FD-813D-4EFF62B1426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B05CE-A6BC-4BF0-BB92-CA1A9D00B1D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84284-D2CB-4228-A919-9583859DB5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354B-85E2-4333-AC21-4421F44C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629DE-EEBB-453A-A2CB-9C8EE6CF001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10ABB-BC2F-4204-873E-E6129E3973F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FAFE2-C098-4713-BDD4-DA74722E196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67ADF-697C-4C55-BC8B-FEA041AB0C2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888EC-9E3F-433D-9B38-8BE95945949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C981F-3F6A-43E1-A1CC-BC62E8C5344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31F83-DE28-44A0-A8A7-3988EFAF028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CF01-54E5-475E-A649-E18329F9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8A196C-2F3F-45F9-AB39-2FFAD3DC69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71CD-2CF8-4E61-8503-89365B1E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4BE798-D819-4518-92D3-6EB4FBBCB7F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5B1530-A45B-4ECD-AD3C-04D5497D3AE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7ACA19-BDC7-4950-8D2D-C223831CCA7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ECDCF6-939B-402A-9269-3A3C0FC7CFF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A4FA56-BD46-42CC-93CC-F4A84658A324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7AEBFB-1228-41E2-BB3F-B0842D41318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144E36-E6B6-402D-8572-B0B2C016425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F3F2C0-B694-406B-810A-86B8D9289B6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1A74C7-7BEE-4C39-B4C5-8804AD5BAF9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86C48E-85E8-4FC3-BACA-F68101CE8B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2D99-1C0A-4530-B7F6-FBBFEB660F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A4FDDE-7F52-45B1-95A0-C26894E4ABA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17FC8E-A6DF-4019-AD5A-A1DA8C2EE88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212C94-D475-494A-92FB-D62EB3483E4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A7A8FD-D4AF-42DE-AB5C-143D4A3625C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5C07DC-A07D-4061-BB59-6452F0731B4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3EA586-97E2-402D-9FF8-CF1D7031199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6AAB12-D473-42EF-B1AA-7407BF85B92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D52630-6E0B-4BC7-AB49-80625FA3BCA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CA1633-FD0E-4962-97F2-1E5550A1920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4C7AF6-F5B1-4C07-80C9-2E81E65CE9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71380-0A1F-470D-8E69-20ED004C6A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62FB58-F22D-49B9-BB7C-934D0EC463E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8FAC35-88BB-47DD-8B09-4EE162606B5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828F70-88AF-477C-9ACD-42D7F5D0DE5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04A6C-1EC8-4D94-89A8-7D6EB2EFC84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D7109-C733-4282-B667-FBA872BCF82B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78E17-75B5-470F-90AD-2F97E5A0D48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8554B-111F-423C-B091-3416AB60BC3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667C4-E9B1-455B-8873-AF9AC479635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4AB23-7456-4CE8-8BCF-0BCB1602935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24146-91DB-498F-8863-8A554D6A70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DF1AC-E315-446E-BA28-A50248E1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4A33D-DD8C-4410-B7E8-48E51D174A8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43504-C1FB-4EDF-B995-BD6768583F4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2A3C9-4EA8-48A2-B17E-6B4B4F6EFA6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4DE2B-6864-44C8-BDE6-1868BC9D630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D932C-A778-44CE-8A90-404C18F1B5B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D9BC4E-2F22-4934-B578-F97B4ADCFC3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5DB48C-66A5-466B-B0F9-CF7476D0D0C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684DDA-ABE5-4ED7-834D-B87F068C055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38879F-3119-482E-A993-FD73249B63D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20EB01-8F62-465F-8F78-395EEDEA9C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A071D-CC37-499D-83AC-7DFA7419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FF96CF-91E6-477A-9F1D-1A3ADC559D1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4B6023-7DAA-4E45-9580-F465B3900A2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EE40D0-AF71-4CFB-BAD7-DD10AA5DC27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9B4747-B312-445E-854E-F23FD69AA55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B689E3-2623-4B29-8840-D2C27C4C10E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BDDF31-7A3E-47D5-BC72-FA28F0C75FD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72EDBB-D97B-462C-A0E2-B9655B71E02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C58EC5-EB61-4247-8FEA-7785978E4D5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69D23A-A232-4F97-9884-0FBE577D3EC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6931A6-1B98-40FB-BF1F-79AC645677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19D47-4117-4065-8EE0-59935FD8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135D8A-8548-4A06-8039-CE60CAA4741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5988BA-89FE-4FA9-A545-F5D4D17A32D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37FBB9-B513-4745-9870-C3E02E69DC0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9E7832-B652-479F-AA1B-CC2155BE673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CA1BFF-8917-4EB7-AAEE-544BFDE38B8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0DE051-7105-4484-B0D1-3D51E028E76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9C793C-D2CB-481E-ABAB-D4DD9A8A4FA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AD6BE9-9AA2-49E2-9550-F003D53F6F9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F56472-CC54-4C6D-9F26-8F6D42D8E0D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8BBF7-ECAE-4829-AEBF-14361802C8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EEE41-B777-4A37-9278-9F99F614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B42C4-FCBD-4AAE-9749-EE6E3EB8C35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87D15-FCF6-45A4-83F4-44E46447C5F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E65314-9FBC-4B24-B8FC-AE7E287C95B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BA3F7-F8AD-46C1-B29A-BB555734E12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F49CC-E401-4273-9A2C-5417C0A89A1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2816E-3DFF-4236-88DE-A13BD360B05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EB345-1517-4326-BA13-3CE38ECAFF4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6B3F2-FF05-4EF5-AD1C-D346A6A97F4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12CB8-AC42-4E29-9A39-697CE8A5B1D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BC8A3-0C4C-4741-9F04-FEC997FF7D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D3712-CA41-4DAF-82CF-60413919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D7280-26C6-4F97-BD40-D3240174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0FE86-C053-467C-B0F4-C6C6AEB06F9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963CD8-CAE0-46E5-92CB-BA518F2599F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CA2914-BF77-4C00-B3CA-1114AD67756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703B84-C2D2-4B04-8BC6-99BCC91DD8F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71BAD8-F0E3-4676-B700-DE851A8D1F2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E9D195-D9A1-49BD-B358-3D40A482305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76B787-2651-422B-8325-798C45B8E9D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876637-955E-4BB5-A6FD-E26B5C5C627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1A6259-4ED9-473A-A3DF-5696D3102D1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1E4095-F973-4988-9496-750CBCE77F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2BE23-3A96-4CB9-8B9B-1CA318ED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5A4976-3905-465F-A5BA-13C83C9B788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1ADD9E-CD4D-4D05-B718-3037DCE9A06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0179F6-CD7A-4A3E-B60A-C39D643C8B9B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F7E32F-90C5-4C3E-AD6D-5375017434DC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22A088-4238-4091-A5A9-B36831C034A7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52204E-9994-4D4D-A77B-D74D6E27303F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3B8216-ED34-41AC-819A-39ABE8080B9B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4E5E7A-D5B7-4778-A3C2-F22F679E91DB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079872-A12D-4B9A-B5DC-BBFACE7CBCF3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061C2E-3582-4176-8F12-F532F9965D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783CC-DCB0-48BC-B918-224F0127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F9AE32-F83F-46A2-84CD-4DB7C131BAF5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2C7F45-6D0C-4250-B6C6-B82B38AF58C9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023535-0F29-43DC-BD96-422D626D2D5C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D5F36E-36D7-4C7E-ADC1-9CDFE5AC5413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52B359-BB67-4565-8B57-63A0E9B6EA4B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C14A2-B1E6-4847-87C2-FCE325858F4F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39A01-35BF-487B-B987-AA4B5540667D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343F0-6A6A-4057-AD79-3023AA9A0AF9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1884F-1679-4BE7-B5EB-91FE7AD6C80C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6D9B5-958D-47C5-BC6F-06163C9E40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8022C-73D6-4165-9D2E-D09C7631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3AD97-CD5A-4E60-9ECE-BB3807BC9B27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E564F-2CF2-445F-931E-DC846DD0F540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E9A79-6E15-4766-94BB-5562116C7023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B2702-84D4-4537-B0E4-3D5F41CAD488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E3B71-8E22-4EC7-B6DB-D95FB2C0D879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8861A-FF2E-405F-ACB5-7F09B80B7D72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FC1C2-E764-4236-9D7A-35B93F086042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422216-7FD3-4841-AC3C-D6F3D0EAB9BF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9BFE9A-E653-4200-91BD-BB657C75A17D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E5BD41-DAF8-4BF3-AEC9-60A8712162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94955-CD04-4008-B772-3C2DAB4B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63CEE2-3AFC-457A-B90A-4F4221F780C6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C9D14D-BE72-4FE9-98C8-9791C2B8C32A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663DD2-E0CB-4A48-9768-5EFD8024A231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3E0501-B9DB-457C-9C73-8B80F107EAC1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FAB93E-9607-45D9-983F-3B23DCE64D4A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BA8D93-3593-4692-9CAA-A6F2FF7CE234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BB3C90-9F51-45FD-A124-6F59CB5FFD04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2B311B-457B-4F8A-8964-F8D801336D92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8F81A2-7E11-4E16-9F67-923CC072323D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E545F-A5B1-40F6-A638-D36C7E12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E8B75-1CE8-4D7F-9D39-61DECF9A70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E0153F-6634-49D6-8027-7376A888790E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3BDE57-C77B-4804-93F8-71FE8B3DFFC6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304780-5E2E-4ED3-A6A3-7C2133DAB197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2FA046-1421-4280-BBE6-806358ACF187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2C6A43-F76E-46E2-A5F3-900B69B27BD5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35C6FC-8398-44C1-9A6C-4869542F6DE3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4D3C65-57B5-4EAB-8AC0-8DC90DAA844C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5A1C7D-59B6-4BEC-AED4-FBFBCD24C591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AE9487-3BBD-495A-94AA-00C13B9E73E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E4D295-419D-4ABF-8145-C71A7BD5F9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53280F-0C2A-43BF-BCB4-851383CEDC59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8BEBAD-E74F-4458-8D9D-D3456FF05EFB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543758-2F19-458C-927B-917A019115D0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358F3-124D-4A6C-A609-C24569F7C43E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8E568-F35A-4829-93AE-F9CC0F6600C2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CEE85-BA60-46EE-929F-4F45FB25F019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F92B4-3269-41B2-B88C-C3398BCC691B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D096D-B9CF-4BDD-9C59-8BEEE92068A7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03FED-B6FB-4D0B-A7C0-BDE56B2A551A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28FE4-DAC5-4349-B02F-D296FA55BD4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1C4A36-8CF0-44B4-A292-44274CF4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38DBD-ED23-497D-828B-33EED94BD2F4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6076CA-39E0-4699-80C5-24EE88265BD8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4A258-5E5D-427B-8965-D65F661EF356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1D93A-B62E-433B-8EB9-94C94DC10B7B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98168-8AB3-4341-B152-89A22A033B47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923A3A6-BB12-4768-BD70-3668EA0215DC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8567AE-91E4-4CA1-AC5C-FFA91F959F8F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4824712-19C7-4E0A-A86F-97E3654A3C33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63CE308-8E28-4DFE-8C44-ED3AE07CAA29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97DEAA9-58E0-4C71-B72A-376B8B0DA4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1A8CF6-F4DF-422C-8BF1-2959BF0C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35C135F-BD83-4056-860E-245210585C6F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A041870-5AF6-439D-9014-8112D90FE21D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57088A8-73A1-4722-9A08-77B967A2B486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ED7DBA9-8B4A-4322-B9D0-058881E1E251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9D66569-BE9E-43ED-B3A4-9E2A6D25EE29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111F080-AFF7-4097-8767-8E1A6F4CCBF1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D04CCB6-6421-4B95-8FC6-F6A45A491F0C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302261-765D-433C-B187-E7F8FD4BF05A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FD3F97-F239-4193-AC11-5CCB058A97C3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6F4A65-B894-4CDB-9755-9B1ECB65D5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D0892-5F2C-427B-A3EE-2D26BC01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009B4A-6DC2-4C1A-AF92-C4DF3FEB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F98609-4884-47BF-A8A1-D951B642D264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5D0144-157B-4F9C-92B0-C2E583FAEB48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AC221E-7985-4196-9FBD-998CCC1AB406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A58BB7-8036-465D-9A5D-D5BBD08F1AC0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4A59E2-592A-4DBD-8504-E8DEAC85C0FD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498FEF-8EEC-4657-A8E6-40CC6B4E9846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4991FD-A5C0-49DF-A2A5-1100E9F25DF7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CE3A59-D259-4969-A3EF-7242F4C5E70B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946868-9EF1-4060-9401-FBD8490B5BC2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5FE952-E082-4F7B-A1FC-D997FF8684E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008059-8030-4A74-9B6A-A0C6C05E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132E0F-61BC-4D85-B4E6-067EAD9D57E7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43F866-8310-4908-9E74-4236E678878D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02100D-6501-4380-AFE8-F09EA37D3EF9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3291CF-3D17-4FDE-8499-7E3B1644DFF1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A6864D-3F98-4CBD-B279-8B1B9CCE0C3A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1DD52B-D99C-4B31-96E0-676F3C2933E7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2557D0-8A33-4EE2-8071-2B30FA033B99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B3CC18-5F14-4687-A74E-72CAC77C3DF0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BBEA9E-24CF-46D6-A796-D863822BAF25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BCF013-121A-4AF5-8311-B4B24AE3D7D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38B9D4-0F9F-45F9-9074-12CDF0F9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B6D222-FC65-44D7-8038-4F8A9C01FFF0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381C89F-6178-4A12-9939-82CE2B10F8C0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EC5CA4A-9D9F-403D-AAEE-23E6B2843278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2224CA9-E605-49F9-87AE-BEE985C65EAC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8038843-CDED-4364-94D2-DDAB7C38A813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EB4C315-6FFA-4A8E-875D-E3FA43E93EB0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0C18931-965E-4C26-884A-12D87E6179B5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FD5952A-7FD4-4CB3-B501-69DC9D58E925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B5B6AF0-0525-4826-B631-76D3176EE892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3C1C583-19B5-47B2-A574-60C70E52959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A14098-3747-4656-BC04-63EB9C63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C6050FB-5277-426F-BA40-89EB29B9B73E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88236E2-0727-49CA-A7AA-03BDD3103023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1FCFD4C-474F-4A8E-8951-91B73D7D03FB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F53D098-5F20-4959-B7E1-4925AF68EAC7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B8C3B2A-CB03-4BE5-9972-2C114145C160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EFF9D5-71EC-46E4-B0E9-BE9610C30FB8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F6BF252-B112-4A96-AE61-316AC3E45F6C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3E22B41-5361-4DF7-878B-394E93FB88DC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D0FE28E-A482-40EE-8173-31F5E3C4FAF9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8D289FB-69A8-49FC-AC10-8059C98E4B1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685C98-ED5C-47CF-B7F2-7561BFA7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35F025-4825-4D15-9319-D5FF36861355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E744FF3-3ECD-4623-A4D4-3DE938A275B1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F8AFB78-5E8E-45E2-9CE2-C5D017C82107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1439D4D-C669-4C77-B54D-E725D8A74DE2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B8B2D73-2FE2-45BD-A10D-BB697FBE929C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6B500B-2D7B-481C-AF59-F48A70FE2BAE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5AC1AE-F82F-47D3-968D-B01EF087351D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D5646F-4E34-48E1-96BE-8C9F3439CAB4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1A718D-2F2B-46C9-9FEC-CFA142741EE5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5DC014-8942-4504-AE87-E419B5A46B3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9A08DB-0E84-4ABA-808C-48A81BF8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09D973-2E2A-423D-A898-E1A9071D9A8B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C11B3F-08E6-4F76-A6E5-8A39B82945CD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A98F15-E6EC-4CF1-A926-24F2803797D4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D7CD60-CD26-4668-8051-ED265386080A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89DD32-6839-43D3-888C-C52B1F53740D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49DD0A-57A7-4AD5-8651-5655AB9CFDCC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D56DC0-F2AD-4A43-A1C6-50C7344AE607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E849BE7-4A9E-4744-9375-4F60A58BF062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A0A1053-7885-4275-9047-EA6E0B98CCEA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3539CBA-FB58-4FFA-B1CA-A2ADF51651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8156A4-A12D-4060-B8E6-550AA3F7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3BBC815-0F30-4D0E-950A-68108586900E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A538864-10EE-4F45-809C-D3F6C8CD3759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CB652B9-3B15-4A91-B1A4-104F1F686300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95CD51C-17B5-4DF3-92F2-1C7776816C7A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0F781F4-0BB8-4BB1-A3F9-9335F51CE322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1E4DC80-B9FF-498B-B750-31C04B2E6129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3FD01CB-25FF-49A9-A6D5-545989314836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61E9F7B-B988-476D-9E51-ECB63454BBE3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834A998-1990-46DA-95F9-F0361E5ABBFE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A43E93F-A20E-4C82-9ADB-B260706C00F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F90201-AB2E-4D66-BAD6-37E02CC0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018F6F5-98D4-4E98-8348-EBF7EE30EC3C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589ED91-2B71-41EC-8FF4-B6FCD29EFFFC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61936C1-2353-42D2-AEA3-F51E25954A89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C261E7F-027B-4F61-B91C-EC5EA621A798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4A9156B-665C-4C7F-9BE7-F2244ADDC09F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1CD8A02-8C68-4152-B1FF-9B942021FD7F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9191A6-F6FB-4489-BBF0-085EA19BE537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BD6745C-4F97-4668-B9AA-DF5350AA2C18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96E0D1B-B7B1-4A7A-BD67-05B1BD2AA76E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6C27B47-3BA2-4286-A5E9-71E57021E1D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C3899C-4D2D-4C96-A778-BE0239D144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7A94EF2-2A8E-46C5-B817-6D2081F51BB7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01554-E033-413B-8217-59C6A858C9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4E76FD-1DBE-43B8-AE74-31B2E8EE6D41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9A254A-A421-4D55-A6C0-448C2B12661B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3B4E17-C21E-41DA-926A-9A1289307D5E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48A655-F8F9-443F-B521-77D5AFF33E7E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73F032-2718-42E8-B0FD-BFEA5A789547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17A0CC-051C-4F07-944B-77C2FEE15349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5DECF9-1B6D-4BE6-8398-838C03C525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B294D-253E-4982-96F5-AFD774A4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C4774-9563-4ADA-AF04-D7E45BB9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21BAA5-31AC-46FB-B595-1AF4B7C1BF0F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034395-A75B-4419-98B5-1472A47E8020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213D36-79A7-4F25-A4B8-7D390AFC47BC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A32545-5B63-4976-A88C-3E3C93AD1B5E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B1D970-136D-4854-B48C-80DE7230F311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9571D44-E976-4354-897D-15215C54F66B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8782D8C-93E7-4011-8642-7ED424C7A3CF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AF1E38F-FB0F-4E8D-8FDA-A44AF1C1BE43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21B1360-D351-44C1-A0C5-DFCA7A329856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5279521-8EC4-404C-B663-F231FD6730B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2B33E-8D98-4EBB-B22B-22FECBF6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8B25663-F13D-4A7A-9324-F178429608A0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8FD4461-DF7F-422C-9AB7-510A741453D9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D9F1BCE-3CBF-490E-AAD7-AF7139EA8723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F8693EB-F8C8-4F73-985E-138E7A163CBA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D276E94-67EC-4FF7-8B83-428EEDE19FD6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2713C46-2DD9-4038-9307-1F03F77A4343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F481590-DAE0-4BDA-9F80-5D1371345A77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6C57520-5963-48A5-913B-E0E764CCC98C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00C185F-5690-4997-9D67-57CDAF433A8D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772DA61-0C9F-42C8-8840-A5B46BFEE07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1E77B-F113-4863-9FBD-2ACF3E17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6CE5DCA-78E8-4FE5-ABDB-ED8ABB45BDE8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28495DC-7E03-4F86-A082-98D7532DF127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0DB443D-B3B7-4364-8CF0-E3908E2FFF44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65AB581-7086-4E4C-80A8-C380C3DCFAE9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50E03DA-0B96-46F1-93BE-15E6472576A2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6745026-554C-4177-AE87-57514FE3C906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A7EC058-E8F2-4A3C-8B25-41275B20A1A2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54D3210-A26C-40B0-BD09-8B818661F2D4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E9D406D-5BB3-4EFC-A090-A7052380B685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0BFE55-BE2A-4A83-A9A7-4A4C17FF80A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C95CE-25D7-4290-8591-4C5DF076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D4CB8E-3BBC-4916-9326-50D23066C2AA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14F227-E001-4DF8-B2EB-A1A29816C975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53ED98-87E0-4897-9124-5A9E4D4CF98D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169B4F-FA5A-410C-AE42-7F38695B95FA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45F37D-30D5-46B0-AC0D-7C42411579C1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E1D511-6457-49F1-9687-7EDD3B878E1B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A27F9D-C756-4590-A3D3-899FC29C46F9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194DB7-DDB2-474D-8C34-20408FDA25B9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ED66EA-F552-4A22-8095-3E6F721259FF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E2452D-296C-451B-B215-6077E35D8F6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2305A-5C57-4425-BC48-449F3B9F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17EF7C-102D-49BE-B753-14846AB05209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C03DCD5-7359-4148-BE7F-227BE3997526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9568BB5-7683-4EEB-81D0-1B5B1CA09554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684E2B4-F123-44D3-9E63-C549D442AC71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D7941AE-392B-4188-87E7-8D24B45674C1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D3262FE-1B6F-443E-8CD9-36FB3D556BCA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661D7FC-1206-475B-9288-B587FD1AD61A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E06B61D-2695-4D47-B0A8-CFC8030E721E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7AA9FCA-1292-4C44-91B5-B650FC6AF6DC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0627E9E-977B-44D4-90E4-2239F23A537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7CF7A-8229-426E-91F4-16D88508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8B03CF7-403F-4107-9CD8-525B9113EAC8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0519D7B-3AB2-4537-8033-C45C8AAD264E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5070826-90D7-466B-B53E-00CE912472A9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84A5BC9-CDFE-4728-A48D-4C64C4596521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5F9D4DD-DFC3-4B0C-BA0D-DFC0C2EB9816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BDFF4BA-C566-41F1-B82F-877CBA02FBC4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A1EB2FD-217B-45A1-992F-4845A716AC6F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C7260BE-658B-43CB-B68F-9150B46F2832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B1A8F73-A1AC-48D6-8DD7-BA1360DBC139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AF1258F-90B4-41D8-A1BC-DDA4DCE074F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4C5BF-A6E1-4A4C-AB7C-8D50881C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E0DE816-B0F0-43BD-B365-58B4681AB226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606F2E4-A27D-48B3-9E46-40311C1DEB0B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AE4E596-4E6F-43E2-81D9-547B687C4A10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3D12C9D-70F0-4696-AA41-6051BB88B19F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0B78D85-D8C7-4CA8-B9EE-8F2BA343C1B6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D16322-BEF0-463F-8A76-E5401A53AD79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7698B0-A416-4303-A565-D283A066CABC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4E8F12-AF31-4698-B6C4-ACF538E06262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7D04E3-42AC-43F0-9D0C-674DA700DDE6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79085C-6FC8-43DF-8F34-B4C6CB832BD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D3748-3664-4656-BB9F-E596DA67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61FE26-2ABF-49CF-8E4F-D3FF03165CBE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EBD00B-19E4-4E8C-ACEC-AC35C78BC0F3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6FE168-FBE8-4D09-BFB7-F31C4E38E1E9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EA231A-177E-42CF-A85E-73980FE5D14C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9AAF8F-EB4E-4B06-A5AF-7AC229B455B6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581938-0DA5-4295-A3AA-50D0C11EDE70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F16DF9-E94F-4FDD-AFEB-CA4193980890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FB2D319-8568-4FF1-AAA1-433F9485C4A4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E4C608F-B2A9-4EFD-BD2F-4A835E191E44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708FCAE-DAF8-4306-AB18-2B656EED315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8BB59-AAE9-4E6C-B8FC-8287EF53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29DEBF9-BE9B-46CB-A8F5-DDB8A53A6EA0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C1474FE-ABD1-48E5-875B-E34CF2B35F99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30F5536-43C0-4016-AF10-FF24326F519E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2C01F6D-F4AD-49D5-A873-C382EB76D2EF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CFB30EA-8AC3-41EF-9B9F-4A0EC55DA5DC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216A630-CABB-434B-B012-53738C89CD61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A976E1F-F459-40C5-9430-C8362B9D1E62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5DCAFB2-66E1-46BD-A3C4-ADF244696306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EBAF65E-9DC7-4010-AB9B-403290DD3622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5CE9E68-748A-4524-9009-2E410C48890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B4516-491A-42C8-92A7-F0C3FBCE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0C97617-8798-4F16-B978-32AEBE9E1A88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05CEDBD-E310-4020-81DF-9961DFCA9015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C106D9E-2CF3-47B9-94D6-B912EDBB59E4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C61C9AC-505B-4031-969A-0E87DFBD1685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E051494-CB6D-4434-8280-6F70A6280E65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BDB9E31-2EC5-4B8B-83E8-AE47D8942082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F39B850-B592-4051-A025-72D19DC0230D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97E55F0-8C57-4FE3-8791-A350FF8579BF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2D82957-FB5A-42C4-B077-F54F27105524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E8A31D2-2A3A-419E-B41B-A985CFE8A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8821D-E87E-41B7-8548-9934FA5E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DCEE9-9D46-4E39-A0CD-41B170DB7E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C83E203-288B-4663-88B5-6B8BF93A9198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B2A28B-4387-4EBB-AC09-00A7364986E6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AC8097-CD91-4174-B3AA-B27776B3B0B4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B8ECF0-675D-4663-BB55-16B388D4F047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B9576D-58A2-4204-91F1-5483CA14AF1C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C28AE3-CF4D-4212-93EF-35A9CE707B1B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C06859-9631-420C-8023-497120887008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2C97EB-89E9-41D1-9D22-5B9858B226D3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5168E4-C39B-4151-BC21-DEDD472A2C07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16D3E2-9696-416E-AC4C-DB5F87EBA98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3C8BD4-2066-49BD-B4CE-E603CB0AFE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626ACA-C787-42EA-9DEC-F27CA78781EF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0CA6DE-AE16-42EE-A96E-3E76846D8D7A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5CFAD0-B6EA-40D3-893F-A34A17576626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999695-AB31-4430-AE11-1440B34D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BB4DC94-E954-4DA7-9D45-65FE6B6C86EE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F1A54DE-0466-41B2-8768-B6E1EDD0BBF6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099612E-3F72-417B-89CF-7D9F6F998A30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944F76B-A1D2-44B8-9BE2-24DF18667B6B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EC18A83-F09B-4793-A0C0-51DB014F632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DCC199-CC59-4B12-9ABB-1C0AFC2E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79DAB59-3820-4FF5-B02C-6EEE510FD88C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221F02F-F69C-459B-BBA8-163215134DD9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1AE545A-8B52-4112-B360-9FC02749F4F9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C19C3C1-C8A9-4027-8549-66174511A386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F0732AC-0227-4640-AEE3-57F9A2926BE2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EC496A5-A278-4169-96D1-A854689453A6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CF3402A-B4B0-4D1D-B84E-5E3F9F82297D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C8E044B-B475-4413-93C7-99D0859A58C8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A4402D5-56DF-48BA-B9CF-10D8D3E0173F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D4A3BDE-3F5B-43F5-8D36-E77497BC0F3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58E74A-E09F-495C-8F54-79EB0A5E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238CED5-443D-4B98-A69C-ACDE680A489B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32C5E8D-DB2B-439A-A044-D5CAC0F64961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95F00AF-9C99-4065-A7CB-70709845E208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D20020C-F127-4577-8B3A-CDF1265906B9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7A451EC-551E-4650-AE47-583819C5E7CE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DE5EB28-810C-4D7F-8B13-E8D2FBA1B675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DB0D246-D9BC-44BE-BC7E-194DE7B83967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C6CF045-9DF7-49A4-8D90-F62B7F02E5BD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7CFF554-E016-4913-91B1-1F41BEE031C2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A76D98-2951-47CD-AE41-3CDDBED9685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299D04-D72E-4BA2-A963-420F3901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FEAD26-3B72-40FF-9396-B25787DA6DCB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06D79C-13E7-4DFB-91D4-7A0B87F40172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D00132-3E51-4A1A-A88C-4D0A56BEDC28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6EB350-2DA5-46D9-8100-3B3B44FC577C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7E369C-D7E4-423B-A1DC-E505A4D5D4B4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12AF36-18A7-4076-9B6D-72B45C48DB5C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5C5C4D-BF19-4C22-B122-69D4DCA312F8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211073-0C18-4C9F-A5AE-5545862B8F0D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E4B672-76C5-45EA-9C51-A34A6767BE1C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19FFE7-62F0-4873-9CD4-1BD104FB311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82B34C-03A6-4A13-8634-67DC9276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74B55C-5E3D-4F78-9C16-F7E3BC6D188E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0591F00-7411-41F5-965F-D2A6AA55F4F0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B860DA1-EDF8-459A-9773-AB819AB4F54C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93FF4AB-395F-43B8-B82A-1FE19B7AF09E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A80917F-9DFA-4221-8F72-F5EC90158CB1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D31023F-3EBA-46B9-8BDE-91ED895A16CD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889C9FD-6C19-45C1-9FD2-7AB1F92EF544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62A418A-A1A0-4CB1-8040-93E8FD91A79E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C4AE0D9-6639-4726-B2C7-FCE6D6E1AC82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D1918A2-947B-4B8E-9255-45C610D3ACC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8D0004-F860-4DA0-83A2-CED868AA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FB9DBD2-076E-4D79-B874-E4719990E8AE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B4E9078-E982-4789-810B-39980AE3C0FB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965C72E-F9DD-4457-8EBA-ECDD92FFA654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A651E65-5E33-445F-9C39-8244D26DF721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9F809E1-CDE0-4832-ADBF-7D64C39B8172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C716F1A-9C78-480E-AEA0-BF0002C4940E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911D1FA-73A2-4140-8CA8-EC1F91D1F1E9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D1B4864-CC91-475D-919C-41D6C48301ED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BF71248-7C03-4B87-8CD6-4EF1469A0C75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6A6D2A8-FAB9-43BE-B268-492365A94FE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D9B8A8-0A9C-4444-AFCC-5D2AF1AB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555AE9B-C100-48E0-A8FA-34A1336AE546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972FB1F-745F-49B7-823E-2CC243321744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800C094-5B77-46AC-BA4A-0F9618A46A12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25A653A-72C4-4FA3-B947-B0508478495F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A74C2A3-C2A2-4C16-BA56-A3FDB3E44D84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F24B80-B180-4B4F-A9AD-87A63F63BA2D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2026CD-7E7D-4223-A867-CF17A885E5D5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DD2377-FED8-4CB2-B625-04A4DED2B6FD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48DF23-E830-43EF-BC4C-DA0BB70EB4C1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A72909-ED20-4654-A629-A4B8B2D761E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9BADDB-8E97-49AF-8E39-03F9339D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93B765-3E98-436E-AA6D-CA7BB463FC78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CB08A5-B7C4-4379-9827-1BCA1762AD99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8571F1-DBAD-4AE6-80A2-01D8F891EDA0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9090AE-B220-4CA1-9CE5-BD6FBD98C388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C977F7-F1DA-4BD4-BB9A-DD3AE433AEBB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408F48-F12A-47F5-89D3-90F1E3947ABD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9495FB-EA25-4829-8595-1E0FE8D4786F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D95B9BC-8BD2-4D37-8D71-C1272BDE1280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69B4FD6-E719-41DE-81C1-8386E3256916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A29FDBA-E6D7-406B-B71C-0DF8E7893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F0F07-A8A4-484D-8914-FF067261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D806E5-DBF5-47E1-99B9-D0B4859B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31B58FA-2055-4646-B391-B16D9B24B571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FFCA973-585F-488B-BB0C-E6082A4C92B1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DB43560-FFD8-4B95-9078-54A641A5CF8C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F8BE481-F9ED-46B9-ACFB-A4A1EADB0BE1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0129CE6-BAC7-4F54-9B0E-74E0034A069C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63ADF4A-393F-444C-9956-4FA6A5F39879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5BD7368-9AE1-4581-A986-C470E12415B3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F4D2281-0D13-4933-9514-360E35D7D27F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4C3EB8F-4310-426A-86BD-740BFA53A687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F7BDF6B-DF2E-446E-9332-697E1DC7BC6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8C2346-C953-4DDE-B6ED-311526E0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1E60E44-6BA8-48E4-870D-6E6F2010A8A3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79E5877-BC38-489D-89ED-F59D06F36D4A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201BF0C-400B-4A8D-B32C-DCB4480FF0A5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C7031A2-8CF7-4D1C-BFDF-423E63D793F7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96D8EB3-099F-4AE3-8DB1-70ED246925A6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1634A68-32D1-4340-9BD2-51E8AB1DE20A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C8628D0-EA57-4575-BD50-9F8EE2CFBA17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ADDD372-8C99-43F1-A8FC-DFED12F461C2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AABC314-0465-4A21-B90B-6E1AFAD284C9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A185363-5749-403C-8F93-7C948311E0F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6E5ADE-1E8F-4301-9F99-DFC7787857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0684E42-53CD-405D-809E-0015BDDE3C4F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8D2243-7F7F-4CBB-9E40-673BD863E982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4F67CF-4F05-4E59-A105-78CEE7FB6D60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18410E-1164-4200-A421-F38EEF4E503F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531A81-2F57-4761-A741-EEAD1B1D9EF1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1ECBBD-46E0-4922-92CA-444D9635D612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59C01A-C57C-462D-B22D-C35FBD31D273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390955-0693-4DD0-86C5-3CE2838F8BA2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4FD71E-41D5-49F3-B395-1A1CE0DCEBB7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F6BDA4-B09D-48E8-9F9D-89D640685B7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794047-2DC9-4AF0-BA4D-091BA7C6BC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104E36-D04F-4AE7-BC6F-D1BE5ACAE69B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A015E3-BC76-43DA-A503-519837704B03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E60855-6CE7-4D63-B4E5-B797AB6BAA21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17F7807-F5E7-427B-A6EA-8981592DB437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A567213-18BB-41FC-A08B-116A431B4432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ABC1C66-FE70-43BC-A668-D44AEF7BB729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6CA8D1D-00ED-45D2-AD76-611B2FC6E13E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700B21C-3DF2-4A0D-B1FE-77D71B91338E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31401AF-AF32-4712-980E-FB79E0C345E8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F787BE7-6863-4693-8448-6577CDBE27B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215A8A-9057-4032-81A7-C7C32BA4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AFA6B72-D61F-4F2A-ADE5-36C34C78604F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A7C68A2-DA6A-4A4C-8C23-F26555E8255A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8B56252-BF7D-4A13-938F-E0C35B993FC8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B0F2B24-3846-4D36-B3C4-A6820A65102A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73E6DCC-5855-4F9A-A07F-88B2CD6E75F6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28505C-7881-4A43-8427-FBB613AF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2FAB21B-7A1D-4006-B4D8-04BC911887C3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8D2F864-8D47-493B-A15D-FC1C3F41C8A8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CE779D4-1FE6-4758-8DF4-198DAB2942C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DBEEC2-1914-4E9F-BF38-48E288A5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4C1576C-648E-4022-B262-DBAC460B5D80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4DB4CED-8CA7-46A6-9D13-42AC28B631CD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0973E6E-EB7D-46F6-9082-1D7B27B3A74C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22234FA-A3A9-4FDA-983B-C63BC1B1C6F8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5530A3A-2946-4521-AFFD-E0A88BD19F07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59261F2-E413-448D-BCEC-C52C54BB5949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17624E4-8D5F-40AE-A105-D511BCC9FBAC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A0DD91D-0EBE-4D57-82B8-700E6E248FE6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E408FC7-8FDC-40A4-9A7A-8998839285A1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B2FD1D-2A2B-419B-9B39-14076A48D0E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830579-12BD-42B3-B5BB-35EBB3B8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ED21EB-9131-4B7B-B19C-2C6D0C23FE91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C64CDE-B1BE-490D-B1F6-C82DF95D2D43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670026-C32E-4DA2-AA51-839974DFC581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E8CE92-C593-4D70-BAA8-D9DAE465513E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0765D9-73ED-465D-BED1-ECFE504E1C51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026159-CDA3-4CE4-946A-71B50405B0D2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405106-5B34-4815-B5A7-9BEBB165CB7B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C37255-F71E-4697-85B7-6B91F8D1ADDC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942716-E016-441B-840B-731A93E639FC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E8F117-029F-4079-83F2-4AEC606AFBB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0EA916-8BBF-49DF-B4FD-7F1C22B9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955E88-7C9A-4C01-AD1C-378F3E615E5A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976ECD1-20B8-45E4-BF2B-DE991956C1A9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1ACA5AC-D159-4478-8ACD-4802DC176E29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B73623D-CC7D-42ED-9091-2CB2DE3057AD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56D9113-907C-4477-85AE-0EE27B6AA2E3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E3F7E5A-46C9-42D0-A301-BA7B909DF3A2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F4717EB-B752-40DE-8F8A-C441FE8BF5DA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FAF5359-A37D-4A67-A52E-BE7DA3ADF453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9FA1DA3-B252-40BF-AC63-DD1F32ADE93E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952F258-FB49-481E-B2B7-4DA6E5C5629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D3C164-7D0D-437A-B0B5-9EC492DC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BB4B903-E3BE-486C-8FA7-B4D30EF58DF1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F0DAAFF-6A59-4756-8D0A-73205326F29B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44A304D-9CE9-4799-BAE2-EF2B339F227B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8C57CDA-CA30-41AE-B52A-389139225F8A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03D95D2-EFB4-4239-9BD5-90D3076DE47F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A2A17FD-F7FB-4CB3-B69A-49FF550088C6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0EFC7F7-2665-4D92-BF75-91B9C42DB1D8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DF7EEAA-BA63-4A6B-B9E6-DDE87ED69625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A62FFD4-11DD-47EB-9C83-5E4AAF064D58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C5226EF-3279-4BD6-BD62-867F22837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B8D6A-88FD-4BCC-AA0B-D4EB5AF3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4D2C84-AACE-4B7E-B913-1B96BB8D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FA4327C-170B-40B5-92F4-AE159FB892C0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28968F9-C5D4-4549-A801-1BE681F3871E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3697E74-0979-4306-8E91-4CF4864C1F58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5F7C960-1F7D-44E6-A38D-7D81051CFA03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A1D5502-3ED9-48B1-953C-CFAB6A5B9899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BDC1F3-1CD7-4F73-A599-15947191BF22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CBB9D3-8F72-49BF-BD95-63A074986C6E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7BE40F-8361-40E3-B602-C820A4811FDC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8C1ED2-DD8B-44CE-AB1D-CB87EF84B741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EF7071-C4B5-4CC1-8FD4-05EF3E5778E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AE4040-C4D6-45FC-BA67-FD0DB4FC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57BACF-E57D-43B0-8730-C58FA2B6D302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0D280A-7FDC-4DA9-AD05-C881E5F0DD67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F144BD-547B-4703-BBF7-271CA518E34B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57E037-F2C1-4E39-8E16-AF6C6CD480CF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09A33D-CEE3-4828-8916-FC949C2C12B1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952341-22A0-47BF-A53E-39C5A10A25F7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D6C453-721E-4702-A83E-DB0B59268E9A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CA52D13-7922-4E27-897D-66765E8726F4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F031603-9CE6-4FA3-8DF9-679C793F5B4B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3D032FB-075E-4D89-A486-A8DD002FA01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113CA1-23C0-4B25-AB66-6977962D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757E76B-E369-490F-9972-BDBB1DDE875E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05CBD33-D41F-4734-BFA5-38F785FEE791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F4A26B5-5C30-47D6-833A-3E2466E2D5F3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8EFC50E-0051-42C7-BE19-FB8E3DD32D1D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1668359-986A-4381-9EA3-A737FC4089B9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A59DB4E-DBA2-4378-9306-A8A1CB31B1CD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E037EFB-982A-4A62-828C-36F857A1982F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C317384-F470-487F-9CE5-B8F4B4BD56D9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B0B6C1A-9457-426D-B9CD-B8D44F700574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6A4D02E-085F-48BD-91D7-D49A750B235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EC6BDB-332A-4AF2-A2F3-C65F17E4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CE50A30-567C-4415-9A6C-69BBA2CF1DD1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DD8124A-E72B-4BD9-90DD-03768B00C963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D7B1E04-0033-4226-8023-BB0949C85A0A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5E08EF7-A2F4-4A73-A9F6-313AFA779C7A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D8F020A-90C3-49E5-8E79-E319CFBAEF7B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56B0DDD-F887-477A-ABBA-C729CDD51B07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3C1FC45-9B80-43E8-8CB8-53CD7B6C22B5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47413EF-B63A-4151-8781-7DDAAA0BF7DF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5B78B52-F854-44F6-8AA2-BA069DC21A84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4401A3D-B9B0-4584-B54F-09697F0B86B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EA7E55-971B-4812-AAA5-80555D207B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B12B4BC-02B2-4486-9F73-E4AA852A0307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6FB23B-2623-4F5D-B742-8592EE36279E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B58454-E932-4227-852F-B6C93CFA1FFD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1011AD-81AE-44FC-9AD6-78DF1C07F90F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0D06AB-5890-42C4-BE0D-2985BEB879FF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3F003C-742B-4F4A-950B-2E11A42A94BD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F4F037-53AB-4456-8709-18C666DC7656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EC2AAF-8ED0-4EBA-8B49-52FBDC1E107B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624BB7-537E-47F7-8944-0251521C76F0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9C8E04-0748-4A56-A17F-5C22875F69A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FC00D5-6739-49C9-AF70-AA7D419AAE97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5DBAEB-7D4B-4D10-AE2D-C8B3BE008074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33560C-91B3-4898-BDE0-08C645747FCD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3E6C6AC-52EA-4231-98BF-5E72A4465A8E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5746CD9-A1D4-4021-83EA-D270E7B77AF0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626339D-19E6-49E0-AC8E-9298F11327E3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65A5B00-3817-4143-B8AB-8BD2BDB286CD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11E643C-0AB2-43FA-8B74-B17E0289F080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5839491-2DD1-4C48-9B3F-4A4474556645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A769920-4B0B-49F5-8F80-E99B661B000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CD4BB5A-CA1B-41F4-B3B6-4316B109A821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B204483-BBDE-4B73-AA9D-D3E72AAF02A3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C42CEFA-35C1-4336-BA22-A1A7D4D0D7EB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EE9114A-EC48-4CA5-9F9C-92C5F369F511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E2D2158-4BF3-4C17-9F96-86A5CEEB51BA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196EC2B-0F77-4F2D-98D2-D93B95C232AE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AB9748E-F027-4135-B415-EF7EC21A5C80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86D213D-5AC8-4144-A823-190A95B2D458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E94AF90-BC9A-422E-BBD0-CA39057D401F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3FABE13-C2EA-42C7-8A63-1C5221AD618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0413C2D-B4F6-49F7-A0E3-CE6BF90F2BA2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F38C8DB-284E-4883-BAE0-CAD7A162CBA1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1D89336-4AE9-45EA-A52A-74A01ED3F611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FDA7101-F4B5-4C2A-B0EC-D5FB525FD45C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D76FC25-D5EE-41FF-BEC5-CB05E017B924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73DF0AE-C6D8-49BF-A8E0-00E87C6D7149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F9A937D-CDF6-4BF3-AD15-03CAAAEB5AEC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349584-A539-49E5-A94C-4FC571080E1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82B776-D39A-4BF2-B37A-32208CD84C4C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2BFBA8-5149-4D21-A3D4-ED776FBA9630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7225FA-EDFD-4C10-A500-759EAF855F08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645048-B358-41BA-AB6D-CB55DB9A4B33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3CC191-CBC2-41F1-AEBE-C278CEA526A3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B120D4-1B71-48D8-919B-8411D5099DCD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EC36A7-197E-451F-8C48-18AA723832BD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7214CC-4D4F-4FEE-ACA6-2381E559C7D8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6BA7DA-304F-4EC6-B306-797BCC77C65C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B322DD-F093-4D3B-88A3-6E7F3B97C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9249B-A75F-40D3-8ABA-BB42A158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D31E5E-E2D6-4C6C-BA17-BF1407AEB3A1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F136495-5462-4622-9C3B-C94C8D82274E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140B0C6-DDBF-4E07-85B4-AA1E36F5106B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4BC0483-1B06-4ACE-BA52-E8D3CCC22398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46E8F3B-FDBE-4D99-A46A-46CA5FAC265D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FA13A35-AA62-47A1-9C43-B4E8A7690748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B5C0E01-08E0-443B-80B2-310BE81A44C8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CCDBE44-2CA5-4957-8704-85D62E2F2A25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123ECB6-E269-4D71-AF53-CA7C8A86D3E0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511EE23-1289-4579-91F1-A9B9294D9AA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FCA9BF0-1BB8-4720-87AA-EC0788EADD42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8C029F0-1EBA-43FB-8646-00C64A8ACF77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286A7CE-C5E2-4E11-A845-D638CCF019EF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F9152DF-C51D-4E0F-9396-D67444AB0250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C80D17E-E93D-4852-B97A-38C9188C60CB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CAFA8F7-D866-4C01-ADB3-521106A17D66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035EBF1-0BF6-4F9C-ACFF-FD4A73A06F33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B41DDEF-3625-4903-BB95-1DFD51AB7837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92F569E-3190-4B01-B099-2E0DDA8164EF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6C9A1BC-FB7C-401B-907A-B02D20B7B44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DC2DD69-E0AF-4E24-AEB8-AEEB091B5C0B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849503C-A855-47D7-B53D-7419052C7F95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7F53E14-1FF1-48B7-AF84-FC9F31E91545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EADBE0F-C588-417D-8686-9BE2493E2E48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BC464C5-48A6-48FA-B207-A0CDA4591480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736E73-0EE6-4F28-A78E-77AFE5AE7CA9}" type="slidenum">
              <a:t>&lt;#&gt;</a:t>
            </a:fld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1CE1C7-72AA-4CA7-8927-965E568986C6}" type="slidenum">
              <a:t>&lt;#&gt;</a:t>
            </a:fld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E90BB4-5E25-463F-8FAF-BC7A492EB91E}" type="slidenum">
              <a:t>&lt;#&gt;</a:t>
            </a:fld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75432C-6597-41EE-8300-4CA5A2D4D86C}" type="slidenum">
              <a:t>&lt;#&gt;</a:t>
            </a:fld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B99580-A503-4664-B985-3A73E2BB3DF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A4504B-331C-4E3F-9C1E-687340BEECCE}" type="slidenum">
              <a:t>&lt;#&gt;</a:t>
            </a:fld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3CCE97-C692-45B4-B4C3-40CCADFEF056}" type="slidenum">
              <a:t>&lt;#&gt;</a:t>
            </a:fld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702499-567F-45E1-A280-7DE4132DADBF}" type="slidenum">
              <a:t>&lt;#&gt;</a:t>
            </a:fld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053400-6C7A-4969-BE4E-0199A4501124}" type="slidenum">
              <a:t>&lt;#&gt;</a:t>
            </a:fld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425372-4CC0-4E94-BE02-00F0723C42AA}" type="slidenum">
              <a:t>&lt;#&gt;</a:t>
            </a:fld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5F70A8-410C-4073-B17B-1CD0762A69FD}" type="slidenum">
              <a:t>&lt;#&gt;</a:t>
            </a:fld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F8CA20-5C5A-4F15-AAC5-296569672277}" type="slidenum">
              <a:t>&lt;#&gt;</a:t>
            </a:fld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7C3AD9C-90CA-414E-A9E6-49EEA12AB619}" type="slidenum">
              <a:t>&lt;#&gt;</a:t>
            </a:fld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96280B1-7CF7-4E90-9CFA-574300FE711C}" type="slidenum">
              <a:t>&lt;#&gt;</a:t>
            </a:fld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8AD506A-43D3-4CDB-8EAB-417CFDD8E09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9C13E2A-15AE-4A52-B9C7-E6F042D38030}" type="slidenum">
              <a:t>&lt;#&gt;</a:t>
            </a:fld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FEF1484-6407-4BD8-B717-04488033CCEE}" type="slidenum">
              <a:t>&lt;#&gt;</a:t>
            </a:fld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E4948A2-903E-4848-B539-3FFA2EFB475A}" type="slidenum">
              <a:t>&lt;#&gt;</a:t>
            </a:fld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E0CACD7-3122-40BE-B4CD-F92559FD3575}" type="slidenum">
              <a:t>&lt;#&gt;</a:t>
            </a:fld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BE7DF1D-760D-4024-B69E-6089D87396E3}" type="slidenum">
              <a:t>&lt;#&gt;</a:t>
            </a:fld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CFE338D-5274-4BC4-B71C-C19147D9CEB6}" type="slidenum">
              <a:t>&lt;#&gt;</a:t>
            </a:fld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E273492-6A71-4A58-87B6-05EF8172FCCE}" type="slidenum">
              <a:t>&lt;#&gt;</a:t>
            </a:fld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E81F6CE-72B3-4B88-B3E3-6E3190C19352}" type="slidenum">
              <a:t>&lt;#&gt;</a:t>
            </a:fld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79067B3-524D-4538-AD2B-5E65CFC1C90D}" type="slidenum">
              <a:t>&lt;#&gt;</a:t>
            </a:fld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D3181AD-4E0D-45B8-9F5C-379EAC88161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F6F3A14-8C2A-4307-B7A5-570EA1607412}" type="slidenum">
              <a:t>&lt;#&gt;</a:t>
            </a:fld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B4E7FDB-173B-4AE2-B9E2-FA9086598182}" type="slidenum">
              <a:t>&lt;#&gt;</a:t>
            </a:fld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084B65E-2472-4141-B12B-850D7C911AA7}" type="slidenum">
              <a:t>&lt;#&gt;</a:t>
            </a:fld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29D8CA7-A13D-4666-85AA-A222404CD642}" type="slidenum">
              <a:t>&lt;#&gt;</a:t>
            </a:fld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BDA2826-DAB3-4844-BCF8-D0C627ABB4BD}" type="slidenum">
              <a:t>&lt;#&gt;</a:t>
            </a:fld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281CA82-C95D-48AA-8382-C89184DDE533}" type="slidenum">
              <a:t>&lt;#&gt;</a:t>
            </a:fld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41AA0D8-5EC9-43E6-A9A1-1A1833DCD8DC}" type="slidenum">
              <a:t>&lt;#&gt;</a:t>
            </a:fld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F215CBA-BF69-4764-BF23-EC14CCB6F239}" type="slidenum">
              <a:t>&lt;#&gt;</a:t>
            </a:fld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044E83A-15C4-4D08-8B3B-F8967DF04D13}" type="slidenum">
              <a:t>&lt;#&gt;</a:t>
            </a:fld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7E87AF3-A488-452C-89A8-1CD76F2DC81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B76BA6A-EE47-4F6C-9B32-194947AEA868}" type="slidenum">
              <a:t>&lt;#&gt;</a:t>
            </a:fld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36D5E2-B0B0-430B-9CF9-A1A065AD8BC1}" type="slidenum">
              <a:t>&lt;#&gt;</a:t>
            </a:fld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B78085-E7EC-4FF1-9E63-E41CD946318A}" type="slidenum">
              <a:t>&lt;#&gt;</a:t>
            </a:fld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2F2949-8E6C-48F7-A12C-A2A279A3FA81}" type="slidenum">
              <a:t>&lt;#&gt;</a:t>
            </a:fld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099DE8-9A4E-47E1-860E-AE8EE50F1547}" type="slidenum">
              <a:t>&lt;#&gt;</a:t>
            </a:fld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0D0F4F-D158-4515-94EA-997540FB5813}" type="slidenum">
              <a:t>&lt;#&gt;</a:t>
            </a:fld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2F32D3-3F07-46AF-9F52-41EB496E9026}" type="slidenum">
              <a:t>&lt;#&gt;</a:t>
            </a:fld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81C8F8-A6D8-4F6B-A2CF-A4F079F0D8F8}" type="slidenum">
              <a:t>&lt;#&gt;</a:t>
            </a:fld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F73D7F-CF25-47D7-B9E4-DF5872B599F3}" type="slidenum">
              <a:t>&lt;#&gt;</a:t>
            </a:fld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030B0B-0CFF-4842-AB64-2788ED76F12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BD8F2-3CF9-48E2-BD21-49F53CF774C4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3521D1-879E-4892-92E5-09E6974B6A60}" type="slidenum">
              <a:t>&lt;#&gt;</a:t>
            </a:fld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BBBA67-235B-494C-B128-295BF7B4F90B}" type="slidenum">
              <a:t>&lt;#&gt;</a:t>
            </a:fld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FD4091-4A9F-46A2-A027-97986ED300B1}" type="slidenum">
              <a:t>&lt;#&gt;</a:t>
            </a:fld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A2D607A-47D5-4F0A-9F10-2F95308FE98C}" type="slidenum">
              <a:t>&lt;#&gt;</a:t>
            </a:fld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023C8FE-D59E-4591-AE3E-141CB7B4C07C}" type="slidenum">
              <a:t>&lt;#&gt;</a:t>
            </a:fld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20AED6F-94B4-4BCA-ADE4-AFBACD773B47}" type="slidenum">
              <a:t>&lt;#&gt;</a:t>
            </a:fld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845936D-60FD-4841-BE85-C7675CFDA7BD}" type="slidenum">
              <a:t>&lt;#&gt;</a:t>
            </a:fld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C2465ED-B077-4957-9D31-BC4164DD161D}" type="slidenum">
              <a:t>&lt;#&gt;</a:t>
            </a:fld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3716057-B05B-4938-B5B6-94EFA66D161C}" type="slidenum">
              <a:t>&lt;#&gt;</a:t>
            </a:fld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4A27C18-C49D-4268-88DD-2E0813CE8E5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0F003-28C4-408D-8349-25AB96DFCB76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E9693BF-E9BA-47E6-8042-765AF8B23C8F}" type="slidenum">
              <a:t>&lt;#&gt;</a:t>
            </a:fld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F1568C7-9262-4CFD-BD4E-745E26AC44DF}" type="slidenum">
              <a:t>&lt;#&gt;</a:t>
            </a:fld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AA85B3A-E29F-4246-8F99-C2A7FE99E641}" type="slidenum">
              <a:t>&lt;#&gt;</a:t>
            </a:fld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F1DAE6E-3F13-4A0C-B62C-4320645E0247}" type="slidenum">
              <a:t>&lt;#&gt;</a:t>
            </a:fld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C07B94F-0BA7-47B1-A16B-59D8BE41AD0F}" type="slidenum">
              <a:t>&lt;#&gt;</a:t>
            </a:fld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00BADAB-EAD4-42DF-9A23-F2161CB97D35}" type="slidenum">
              <a:t>&lt;#&gt;</a:t>
            </a:fld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8ADAE47-26D1-4ADA-86A3-F6A88887BF0E}" type="slidenum">
              <a:t>&lt;#&gt;</a:t>
            </a:fld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CF50C96-0FF2-49A9-AA01-C2226A833BED}" type="slidenum">
              <a:t>&lt;#&gt;</a:t>
            </a:fld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4A6E6D3-9C34-42CE-B416-994074CC7F65}" type="slidenum">
              <a:t>&lt;#&gt;</a:t>
            </a:fld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BAC221C-4271-44BB-98E8-7F9F47A47CD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9B5A9-ABA4-44AF-843E-D3D1A4C7E762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103F0FD-3D13-4CD7-BC02-0560A7F5D4FC}" type="slidenum">
              <a:t>&lt;#&gt;</a:t>
            </a:fld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CD77F6A-AC3C-4F15-8C60-869E02A0665E}" type="slidenum">
              <a:t>&lt;#&gt;</a:t>
            </a:fld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8990AF5-CC22-468F-989E-49287D0DCEB0}" type="slidenum">
              <a:t>&lt;#&gt;</a:t>
            </a:fld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644F874-2E3D-4FE1-8E94-5279D900C601}" type="slidenum">
              <a:t>&lt;#&gt;</a:t>
            </a:fld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ED2BD73-3932-4678-BD86-1D7948257C93}" type="slidenum">
              <a:t>&lt;#&gt;</a:t>
            </a:fld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CB8659C-A4BB-4FB0-860E-409CA60DFCD9}" type="slidenum">
              <a:t>&lt;#&gt;</a:t>
            </a:fld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0755A9E-B6CF-4B19-983D-32A65EB352B2}" type="slidenum">
              <a:t>&lt;#&gt;</a:t>
            </a:fld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34E231-6CA4-4166-ABA7-5CCC757CAE0C}" type="slidenum">
              <a:t>&lt;#&gt;</a:t>
            </a:fld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C22946-ADD2-4425-925F-C83A73C0D379}" type="slidenum">
              <a:t>&lt;#&gt;</a:t>
            </a:fld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5A5571-B802-44C8-8D17-A918D18F6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3.xml"/><Relationship Id="rId5" Type="http://schemas.openxmlformats.org/officeDocument/2006/relationships/slideLayout" Target="../slideLayouts/slideLayout734.xml"/><Relationship Id="rId6" Type="http://schemas.openxmlformats.org/officeDocument/2006/relationships/slideLayout" Target="../slideLayouts/slideLayout735.xml"/><Relationship Id="rId7" Type="http://schemas.openxmlformats.org/officeDocument/2006/relationships/slideLayout" Target="../slideLayouts/slideLayout736.xml"/><Relationship Id="rId8" Type="http://schemas.openxmlformats.org/officeDocument/2006/relationships/slideLayout" Target="../slideLayouts/slideLayout737.xml"/><Relationship Id="rId9" Type="http://schemas.openxmlformats.org/officeDocument/2006/relationships/slideLayout" Target="../slideLayouts/slideLayout738.xml"/><Relationship Id="rId10" Type="http://schemas.openxmlformats.org/officeDocument/2006/relationships/slideLayout" Target="../slideLayouts/slideLayout739.xml"/><Relationship Id="rId11" Type="http://schemas.openxmlformats.org/officeDocument/2006/relationships/slideLayout" Target="../slideLayouts/slideLayout740.xml"/><Relationship Id="rId12" Type="http://schemas.openxmlformats.org/officeDocument/2006/relationships/slideLayout" Target="../slideLayouts/slideLayout741.xml"/><Relationship Id="rId13" Type="http://schemas.openxmlformats.org/officeDocument/2006/relationships/slideLayout" Target="../slideLayouts/slideLayout742.xml"/><Relationship Id="rId14" Type="http://schemas.openxmlformats.org/officeDocument/2006/relationships/slideLayout" Target="../slideLayouts/slideLayout743.xml"/><Relationship Id="rId15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69.xml"/><Relationship Id="rId5" Type="http://schemas.openxmlformats.org/officeDocument/2006/relationships/slideLayout" Target="../slideLayouts/slideLayout770.xml"/><Relationship Id="rId6" Type="http://schemas.openxmlformats.org/officeDocument/2006/relationships/slideLayout" Target="../slideLayouts/slideLayout771.xml"/><Relationship Id="rId7" Type="http://schemas.openxmlformats.org/officeDocument/2006/relationships/slideLayout" Target="../slideLayouts/slideLayout772.xml"/><Relationship Id="rId8" Type="http://schemas.openxmlformats.org/officeDocument/2006/relationships/slideLayout" Target="../slideLayouts/slideLayout773.xml"/><Relationship Id="rId9" Type="http://schemas.openxmlformats.org/officeDocument/2006/relationships/slideLayout" Target="../slideLayouts/slideLayout774.xml"/><Relationship Id="rId10" Type="http://schemas.openxmlformats.org/officeDocument/2006/relationships/slideLayout" Target="../slideLayouts/slideLayout775.xml"/><Relationship Id="rId11" Type="http://schemas.openxmlformats.org/officeDocument/2006/relationships/slideLayout" Target="../slideLayouts/slideLayout776.xml"/><Relationship Id="rId12" Type="http://schemas.openxmlformats.org/officeDocument/2006/relationships/slideLayout" Target="../slideLayouts/slideLayout777.xml"/><Relationship Id="rId13" Type="http://schemas.openxmlformats.org/officeDocument/2006/relationships/slideLayout" Target="../slideLayouts/slideLayout778.xml"/><Relationship Id="rId14" Type="http://schemas.openxmlformats.org/officeDocument/2006/relationships/slideLayout" Target="../slideLayouts/slideLayout779.xml"/><Relationship Id="rId15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81.xml"/><Relationship Id="rId5" Type="http://schemas.openxmlformats.org/officeDocument/2006/relationships/slideLayout" Target="../slideLayouts/slideLayout782.xml"/><Relationship Id="rId6" Type="http://schemas.openxmlformats.org/officeDocument/2006/relationships/slideLayout" Target="../slideLayouts/slideLayout783.xml"/><Relationship Id="rId7" Type="http://schemas.openxmlformats.org/officeDocument/2006/relationships/slideLayout" Target="../slideLayouts/slideLayout784.xml"/><Relationship Id="rId8" Type="http://schemas.openxmlformats.org/officeDocument/2006/relationships/slideLayout" Target="../slideLayouts/slideLayout785.xml"/><Relationship Id="rId9" Type="http://schemas.openxmlformats.org/officeDocument/2006/relationships/slideLayout" Target="../slideLayouts/slideLayout786.xml"/><Relationship Id="rId10" Type="http://schemas.openxmlformats.org/officeDocument/2006/relationships/slideLayout" Target="../slideLayouts/slideLayout787.xml"/><Relationship Id="rId11" Type="http://schemas.openxmlformats.org/officeDocument/2006/relationships/slideLayout" Target="../slideLayouts/slideLayout788.xml"/><Relationship Id="rId12" Type="http://schemas.openxmlformats.org/officeDocument/2006/relationships/slideLayout" Target="../slideLayouts/slideLayout789.xml"/><Relationship Id="rId13" Type="http://schemas.openxmlformats.org/officeDocument/2006/relationships/slideLayout" Target="../slideLayouts/slideLayout790.xml"/><Relationship Id="rId14" Type="http://schemas.openxmlformats.org/officeDocument/2006/relationships/slideLayout" Target="../slideLayouts/slideLayout791.xml"/><Relationship Id="rId15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93.xml"/><Relationship Id="rId5" Type="http://schemas.openxmlformats.org/officeDocument/2006/relationships/slideLayout" Target="../slideLayouts/slideLayout794.xml"/><Relationship Id="rId6" Type="http://schemas.openxmlformats.org/officeDocument/2006/relationships/slideLayout" Target="../slideLayouts/slideLayout795.xml"/><Relationship Id="rId7" Type="http://schemas.openxmlformats.org/officeDocument/2006/relationships/slideLayout" Target="../slideLayouts/slideLayout796.xml"/><Relationship Id="rId8" Type="http://schemas.openxmlformats.org/officeDocument/2006/relationships/slideLayout" Target="../slideLayouts/slideLayout797.xml"/><Relationship Id="rId9" Type="http://schemas.openxmlformats.org/officeDocument/2006/relationships/slideLayout" Target="../slideLayouts/slideLayout798.xml"/><Relationship Id="rId10" Type="http://schemas.openxmlformats.org/officeDocument/2006/relationships/slideLayout" Target="../slideLayouts/slideLayout799.xml"/><Relationship Id="rId11" Type="http://schemas.openxmlformats.org/officeDocument/2006/relationships/slideLayout" Target="../slideLayouts/slideLayout800.xml"/><Relationship Id="rId12" Type="http://schemas.openxmlformats.org/officeDocument/2006/relationships/slideLayout" Target="../slideLayouts/slideLayout801.xml"/><Relationship Id="rId13" Type="http://schemas.openxmlformats.org/officeDocument/2006/relationships/slideLayout" Target="../slideLayouts/slideLayout802.xml"/><Relationship Id="rId14" Type="http://schemas.openxmlformats.org/officeDocument/2006/relationships/slideLayout" Target="../slideLayouts/slideLayout803.xml"/><Relationship Id="rId15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05.xml"/><Relationship Id="rId5" Type="http://schemas.openxmlformats.org/officeDocument/2006/relationships/slideLayout" Target="../slideLayouts/slideLayout806.xml"/><Relationship Id="rId6" Type="http://schemas.openxmlformats.org/officeDocument/2006/relationships/slideLayout" Target="../slideLayouts/slideLayout807.xml"/><Relationship Id="rId7" Type="http://schemas.openxmlformats.org/officeDocument/2006/relationships/slideLayout" Target="../slideLayouts/slideLayout808.xml"/><Relationship Id="rId8" Type="http://schemas.openxmlformats.org/officeDocument/2006/relationships/slideLayout" Target="../slideLayouts/slideLayout809.xml"/><Relationship Id="rId9" Type="http://schemas.openxmlformats.org/officeDocument/2006/relationships/slideLayout" Target="../slideLayouts/slideLayout810.xml"/><Relationship Id="rId10" Type="http://schemas.openxmlformats.org/officeDocument/2006/relationships/slideLayout" Target="../slideLayouts/slideLayout811.xml"/><Relationship Id="rId11" Type="http://schemas.openxmlformats.org/officeDocument/2006/relationships/slideLayout" Target="../slideLayouts/slideLayout812.xml"/><Relationship Id="rId12" Type="http://schemas.openxmlformats.org/officeDocument/2006/relationships/slideLayout" Target="../slideLayouts/slideLayout813.xml"/><Relationship Id="rId13" Type="http://schemas.openxmlformats.org/officeDocument/2006/relationships/slideLayout" Target="../slideLayouts/slideLayout814.xml"/><Relationship Id="rId14" Type="http://schemas.openxmlformats.org/officeDocument/2006/relationships/slideLayout" Target="../slideLayouts/slideLayout815.xml"/><Relationship Id="rId15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29.xml"/><Relationship Id="rId5" Type="http://schemas.openxmlformats.org/officeDocument/2006/relationships/slideLayout" Target="../slideLayouts/slideLayout830.xml"/><Relationship Id="rId6" Type="http://schemas.openxmlformats.org/officeDocument/2006/relationships/slideLayout" Target="../slideLayouts/slideLayout831.xml"/><Relationship Id="rId7" Type="http://schemas.openxmlformats.org/officeDocument/2006/relationships/slideLayout" Target="../slideLayouts/slideLayout832.xml"/><Relationship Id="rId8" Type="http://schemas.openxmlformats.org/officeDocument/2006/relationships/slideLayout" Target="../slideLayouts/slideLayout833.xml"/><Relationship Id="rId9" Type="http://schemas.openxmlformats.org/officeDocument/2006/relationships/slideLayout" Target="../slideLayouts/slideLayout834.xml"/><Relationship Id="rId10" Type="http://schemas.openxmlformats.org/officeDocument/2006/relationships/slideLayout" Target="../slideLayouts/slideLayout835.xml"/><Relationship Id="rId11" Type="http://schemas.openxmlformats.org/officeDocument/2006/relationships/slideLayout" Target="../slideLayouts/slideLayout836.xml"/><Relationship Id="rId12" Type="http://schemas.openxmlformats.org/officeDocument/2006/relationships/slideLayout" Target="../slideLayouts/slideLayout837.xml"/><Relationship Id="rId13" Type="http://schemas.openxmlformats.org/officeDocument/2006/relationships/slideLayout" Target="../slideLayouts/slideLayout838.xml"/><Relationship Id="rId14" Type="http://schemas.openxmlformats.org/officeDocument/2006/relationships/slideLayout" Target="../slideLayouts/slideLayout839.xml"/><Relationship Id="rId15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77.xml"/><Relationship Id="rId5" Type="http://schemas.openxmlformats.org/officeDocument/2006/relationships/slideLayout" Target="../slideLayouts/slideLayout878.xml"/><Relationship Id="rId6" Type="http://schemas.openxmlformats.org/officeDocument/2006/relationships/slideLayout" Target="../slideLayouts/slideLayout879.xml"/><Relationship Id="rId7" Type="http://schemas.openxmlformats.org/officeDocument/2006/relationships/slideLayout" Target="../slideLayouts/slideLayout880.xml"/><Relationship Id="rId8" Type="http://schemas.openxmlformats.org/officeDocument/2006/relationships/slideLayout" Target="../slideLayouts/slideLayout881.xml"/><Relationship Id="rId9" Type="http://schemas.openxmlformats.org/officeDocument/2006/relationships/slideLayout" Target="../slideLayouts/slideLayout882.xml"/><Relationship Id="rId10" Type="http://schemas.openxmlformats.org/officeDocument/2006/relationships/slideLayout" Target="../slideLayouts/slideLayout883.xml"/><Relationship Id="rId11" Type="http://schemas.openxmlformats.org/officeDocument/2006/relationships/slideLayout" Target="../slideLayouts/slideLayout884.xml"/><Relationship Id="rId12" Type="http://schemas.openxmlformats.org/officeDocument/2006/relationships/slideLayout" Target="../slideLayouts/slideLayout885.xml"/><Relationship Id="rId13" Type="http://schemas.openxmlformats.org/officeDocument/2006/relationships/slideLayout" Target="../slideLayouts/slideLayout886.xml"/><Relationship Id="rId14" Type="http://schemas.openxmlformats.org/officeDocument/2006/relationships/slideLayout" Target="../slideLayouts/slideLayout887.xml"/><Relationship Id="rId15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89.xml"/><Relationship Id="rId5" Type="http://schemas.openxmlformats.org/officeDocument/2006/relationships/slideLayout" Target="../slideLayouts/slideLayout890.xml"/><Relationship Id="rId6" Type="http://schemas.openxmlformats.org/officeDocument/2006/relationships/slideLayout" Target="../slideLayouts/slideLayout891.xml"/><Relationship Id="rId7" Type="http://schemas.openxmlformats.org/officeDocument/2006/relationships/slideLayout" Target="../slideLayouts/slideLayout892.xml"/><Relationship Id="rId8" Type="http://schemas.openxmlformats.org/officeDocument/2006/relationships/slideLayout" Target="../slideLayouts/slideLayout893.xml"/><Relationship Id="rId9" Type="http://schemas.openxmlformats.org/officeDocument/2006/relationships/slideLayout" Target="../slideLayouts/slideLayout894.xml"/><Relationship Id="rId10" Type="http://schemas.openxmlformats.org/officeDocument/2006/relationships/slideLayout" Target="../slideLayouts/slideLayout895.xml"/><Relationship Id="rId11" Type="http://schemas.openxmlformats.org/officeDocument/2006/relationships/slideLayout" Target="../slideLayouts/slideLayout896.xml"/><Relationship Id="rId12" Type="http://schemas.openxmlformats.org/officeDocument/2006/relationships/slideLayout" Target="../slideLayouts/slideLayout897.xml"/><Relationship Id="rId13" Type="http://schemas.openxmlformats.org/officeDocument/2006/relationships/slideLayout" Target="../slideLayouts/slideLayout898.xml"/><Relationship Id="rId14" Type="http://schemas.openxmlformats.org/officeDocument/2006/relationships/slideLayout" Target="../slideLayouts/slideLayout899.xml"/><Relationship Id="rId15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01.xml"/><Relationship Id="rId5" Type="http://schemas.openxmlformats.org/officeDocument/2006/relationships/slideLayout" Target="../slideLayouts/slideLayout902.xml"/><Relationship Id="rId6" Type="http://schemas.openxmlformats.org/officeDocument/2006/relationships/slideLayout" Target="../slideLayouts/slideLayout903.xml"/><Relationship Id="rId7" Type="http://schemas.openxmlformats.org/officeDocument/2006/relationships/slideLayout" Target="../slideLayouts/slideLayout904.xml"/><Relationship Id="rId8" Type="http://schemas.openxmlformats.org/officeDocument/2006/relationships/slideLayout" Target="../slideLayouts/slideLayout905.xml"/><Relationship Id="rId9" Type="http://schemas.openxmlformats.org/officeDocument/2006/relationships/slideLayout" Target="../slideLayouts/slideLayout906.xml"/><Relationship Id="rId10" Type="http://schemas.openxmlformats.org/officeDocument/2006/relationships/slideLayout" Target="../slideLayouts/slideLayout907.xml"/><Relationship Id="rId11" Type="http://schemas.openxmlformats.org/officeDocument/2006/relationships/slideLayout" Target="../slideLayouts/slideLayout908.xml"/><Relationship Id="rId12" Type="http://schemas.openxmlformats.org/officeDocument/2006/relationships/slideLayout" Target="../slideLayouts/slideLayout909.xml"/><Relationship Id="rId13" Type="http://schemas.openxmlformats.org/officeDocument/2006/relationships/slideLayout" Target="../slideLayouts/slideLayout910.xml"/><Relationship Id="rId14" Type="http://schemas.openxmlformats.org/officeDocument/2006/relationships/slideLayout" Target="../slideLayouts/slideLayout911.xml"/><Relationship Id="rId15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13.xml"/><Relationship Id="rId5" Type="http://schemas.openxmlformats.org/officeDocument/2006/relationships/slideLayout" Target="../slideLayouts/slideLayout914.xml"/><Relationship Id="rId6" Type="http://schemas.openxmlformats.org/officeDocument/2006/relationships/slideLayout" Target="../slideLayouts/slideLayout915.xml"/><Relationship Id="rId7" Type="http://schemas.openxmlformats.org/officeDocument/2006/relationships/slideLayout" Target="../slideLayouts/slideLayout916.xml"/><Relationship Id="rId8" Type="http://schemas.openxmlformats.org/officeDocument/2006/relationships/slideLayout" Target="../slideLayouts/slideLayout917.xml"/><Relationship Id="rId9" Type="http://schemas.openxmlformats.org/officeDocument/2006/relationships/slideLayout" Target="../slideLayouts/slideLayout918.xml"/><Relationship Id="rId10" Type="http://schemas.openxmlformats.org/officeDocument/2006/relationships/slideLayout" Target="../slideLayouts/slideLayout919.xml"/><Relationship Id="rId11" Type="http://schemas.openxmlformats.org/officeDocument/2006/relationships/slideLayout" Target="../slideLayouts/slideLayout920.xml"/><Relationship Id="rId12" Type="http://schemas.openxmlformats.org/officeDocument/2006/relationships/slideLayout" Target="../slideLayouts/slideLayout921.xml"/><Relationship Id="rId13" Type="http://schemas.openxmlformats.org/officeDocument/2006/relationships/slideLayout" Target="../slideLayouts/slideLayout922.xml"/><Relationship Id="rId14" Type="http://schemas.openxmlformats.org/officeDocument/2006/relationships/slideLayout" Target="../slideLayouts/slideLayout923.xml"/><Relationship Id="rId15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25.xml"/><Relationship Id="rId5" Type="http://schemas.openxmlformats.org/officeDocument/2006/relationships/slideLayout" Target="../slideLayouts/slideLayout926.xml"/><Relationship Id="rId6" Type="http://schemas.openxmlformats.org/officeDocument/2006/relationships/slideLayout" Target="../slideLayouts/slideLayout927.xml"/><Relationship Id="rId7" Type="http://schemas.openxmlformats.org/officeDocument/2006/relationships/slideLayout" Target="../slideLayouts/slideLayout928.xml"/><Relationship Id="rId8" Type="http://schemas.openxmlformats.org/officeDocument/2006/relationships/slideLayout" Target="../slideLayouts/slideLayout929.xml"/><Relationship Id="rId9" Type="http://schemas.openxmlformats.org/officeDocument/2006/relationships/slideLayout" Target="../slideLayouts/slideLayout930.xml"/><Relationship Id="rId10" Type="http://schemas.openxmlformats.org/officeDocument/2006/relationships/slideLayout" Target="../slideLayouts/slideLayout931.xml"/><Relationship Id="rId11" Type="http://schemas.openxmlformats.org/officeDocument/2006/relationships/slideLayout" Target="../slideLayouts/slideLayout932.xml"/><Relationship Id="rId12" Type="http://schemas.openxmlformats.org/officeDocument/2006/relationships/slideLayout" Target="../slideLayouts/slideLayout933.xml"/><Relationship Id="rId13" Type="http://schemas.openxmlformats.org/officeDocument/2006/relationships/slideLayout" Target="../slideLayouts/slideLayout934.xml"/><Relationship Id="rId14" Type="http://schemas.openxmlformats.org/officeDocument/2006/relationships/slideLayout" Target="../slideLayouts/slideLayout935.xml"/><Relationship Id="rId15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37.xml"/><Relationship Id="rId5" Type="http://schemas.openxmlformats.org/officeDocument/2006/relationships/slideLayout" Target="../slideLayouts/slideLayout938.xml"/><Relationship Id="rId6" Type="http://schemas.openxmlformats.org/officeDocument/2006/relationships/slideLayout" Target="../slideLayouts/slideLayout939.xml"/><Relationship Id="rId7" Type="http://schemas.openxmlformats.org/officeDocument/2006/relationships/slideLayout" Target="../slideLayouts/slideLayout940.xml"/><Relationship Id="rId8" Type="http://schemas.openxmlformats.org/officeDocument/2006/relationships/slideLayout" Target="../slideLayouts/slideLayout941.xml"/><Relationship Id="rId9" Type="http://schemas.openxmlformats.org/officeDocument/2006/relationships/slideLayout" Target="../slideLayouts/slideLayout942.xml"/><Relationship Id="rId10" Type="http://schemas.openxmlformats.org/officeDocument/2006/relationships/slideLayout" Target="../slideLayouts/slideLayout943.xml"/><Relationship Id="rId11" Type="http://schemas.openxmlformats.org/officeDocument/2006/relationships/slideLayout" Target="../slideLayouts/slideLayout944.xml"/><Relationship Id="rId12" Type="http://schemas.openxmlformats.org/officeDocument/2006/relationships/slideLayout" Target="../slideLayouts/slideLayout945.xml"/><Relationship Id="rId13" Type="http://schemas.openxmlformats.org/officeDocument/2006/relationships/slideLayout" Target="../slideLayouts/slideLayout946.xml"/><Relationship Id="rId14" Type="http://schemas.openxmlformats.org/officeDocument/2006/relationships/slideLayout" Target="../slideLayouts/slideLayout947.xml"/><Relationship Id="rId15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49.xml"/><Relationship Id="rId5" Type="http://schemas.openxmlformats.org/officeDocument/2006/relationships/slideLayout" Target="../slideLayouts/slideLayout950.xml"/><Relationship Id="rId6" Type="http://schemas.openxmlformats.org/officeDocument/2006/relationships/slideLayout" Target="../slideLayouts/slideLayout951.xml"/><Relationship Id="rId7" Type="http://schemas.openxmlformats.org/officeDocument/2006/relationships/slideLayout" Target="../slideLayouts/slideLayout952.xml"/><Relationship Id="rId8" Type="http://schemas.openxmlformats.org/officeDocument/2006/relationships/slideLayout" Target="../slideLayouts/slideLayout953.xml"/><Relationship Id="rId9" Type="http://schemas.openxmlformats.org/officeDocument/2006/relationships/slideLayout" Target="../slideLayouts/slideLayout954.xml"/><Relationship Id="rId10" Type="http://schemas.openxmlformats.org/officeDocument/2006/relationships/slideLayout" Target="../slideLayouts/slideLayout955.xml"/><Relationship Id="rId11" Type="http://schemas.openxmlformats.org/officeDocument/2006/relationships/slideLayout" Target="../slideLayouts/slideLayout956.xml"/><Relationship Id="rId12" Type="http://schemas.openxmlformats.org/officeDocument/2006/relationships/slideLayout" Target="../slideLayouts/slideLayout957.xml"/><Relationship Id="rId13" Type="http://schemas.openxmlformats.org/officeDocument/2006/relationships/slideLayout" Target="../slideLayouts/slideLayout958.xml"/><Relationship Id="rId14" Type="http://schemas.openxmlformats.org/officeDocument/2006/relationships/slideLayout" Target="../slideLayouts/slideLayout959.xml"/><Relationship Id="rId15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61.xml"/><Relationship Id="rId5" Type="http://schemas.openxmlformats.org/officeDocument/2006/relationships/slideLayout" Target="../slideLayouts/slideLayout962.xml"/><Relationship Id="rId6" Type="http://schemas.openxmlformats.org/officeDocument/2006/relationships/slideLayout" Target="../slideLayouts/slideLayout963.xml"/><Relationship Id="rId7" Type="http://schemas.openxmlformats.org/officeDocument/2006/relationships/slideLayout" Target="../slideLayouts/slideLayout964.xml"/><Relationship Id="rId8" Type="http://schemas.openxmlformats.org/officeDocument/2006/relationships/slideLayout" Target="../slideLayouts/slideLayout965.xml"/><Relationship Id="rId9" Type="http://schemas.openxmlformats.org/officeDocument/2006/relationships/slideLayout" Target="../slideLayouts/slideLayout966.xml"/><Relationship Id="rId10" Type="http://schemas.openxmlformats.org/officeDocument/2006/relationships/slideLayout" Target="../slideLayouts/slideLayout967.xml"/><Relationship Id="rId11" Type="http://schemas.openxmlformats.org/officeDocument/2006/relationships/slideLayout" Target="../slideLayouts/slideLayout968.xml"/><Relationship Id="rId12" Type="http://schemas.openxmlformats.org/officeDocument/2006/relationships/slideLayout" Target="../slideLayouts/slideLayout969.xml"/><Relationship Id="rId13" Type="http://schemas.openxmlformats.org/officeDocument/2006/relationships/slideLayout" Target="../slideLayouts/slideLayout970.xml"/><Relationship Id="rId14" Type="http://schemas.openxmlformats.org/officeDocument/2006/relationships/slideLayout" Target="../slideLayouts/slideLayout971.xml"/><Relationship Id="rId15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3.xml"/><Relationship Id="rId5" Type="http://schemas.openxmlformats.org/officeDocument/2006/relationships/slideLayout" Target="../slideLayouts/slideLayout974.xml"/><Relationship Id="rId6" Type="http://schemas.openxmlformats.org/officeDocument/2006/relationships/slideLayout" Target="../slideLayouts/slideLayout975.xml"/><Relationship Id="rId7" Type="http://schemas.openxmlformats.org/officeDocument/2006/relationships/slideLayout" Target="../slideLayouts/slideLayout976.xml"/><Relationship Id="rId8" Type="http://schemas.openxmlformats.org/officeDocument/2006/relationships/slideLayout" Target="../slideLayouts/slideLayout977.xml"/><Relationship Id="rId9" Type="http://schemas.openxmlformats.org/officeDocument/2006/relationships/slideLayout" Target="../slideLayouts/slideLayout978.xml"/><Relationship Id="rId10" Type="http://schemas.openxmlformats.org/officeDocument/2006/relationships/slideLayout" Target="../slideLayouts/slideLayout979.xml"/><Relationship Id="rId11" Type="http://schemas.openxmlformats.org/officeDocument/2006/relationships/slideLayout" Target="../slideLayouts/slideLayout980.xml"/><Relationship Id="rId12" Type="http://schemas.openxmlformats.org/officeDocument/2006/relationships/slideLayout" Target="../slideLayouts/slideLayout981.xml"/><Relationship Id="rId13" Type="http://schemas.openxmlformats.org/officeDocument/2006/relationships/slideLayout" Target="../slideLayouts/slideLayout982.xml"/><Relationship Id="rId14" Type="http://schemas.openxmlformats.org/officeDocument/2006/relationships/slideLayout" Target="../slideLayouts/slideLayout983.xml"/><Relationship Id="rId15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85.xml"/><Relationship Id="rId5" Type="http://schemas.openxmlformats.org/officeDocument/2006/relationships/slideLayout" Target="../slideLayouts/slideLayout986.xml"/><Relationship Id="rId6" Type="http://schemas.openxmlformats.org/officeDocument/2006/relationships/slideLayout" Target="../slideLayouts/slideLayout987.xml"/><Relationship Id="rId7" Type="http://schemas.openxmlformats.org/officeDocument/2006/relationships/slideLayout" Target="../slideLayouts/slideLayout988.xml"/><Relationship Id="rId8" Type="http://schemas.openxmlformats.org/officeDocument/2006/relationships/slideLayout" Target="../slideLayouts/slideLayout989.xml"/><Relationship Id="rId9" Type="http://schemas.openxmlformats.org/officeDocument/2006/relationships/slideLayout" Target="../slideLayouts/slideLayout990.xml"/><Relationship Id="rId10" Type="http://schemas.openxmlformats.org/officeDocument/2006/relationships/slideLayout" Target="../slideLayouts/slideLayout991.xml"/><Relationship Id="rId11" Type="http://schemas.openxmlformats.org/officeDocument/2006/relationships/slideLayout" Target="../slideLayouts/slideLayout992.xml"/><Relationship Id="rId12" Type="http://schemas.openxmlformats.org/officeDocument/2006/relationships/slideLayout" Target="../slideLayouts/slideLayout993.xml"/><Relationship Id="rId13" Type="http://schemas.openxmlformats.org/officeDocument/2006/relationships/slideLayout" Target="../slideLayouts/slideLayout994.xml"/><Relationship Id="rId14" Type="http://schemas.openxmlformats.org/officeDocument/2006/relationships/slideLayout" Target="../slideLayouts/slideLayout995.xml"/><Relationship Id="rId15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97.xml"/><Relationship Id="rId5" Type="http://schemas.openxmlformats.org/officeDocument/2006/relationships/slideLayout" Target="../slideLayouts/slideLayout998.xml"/><Relationship Id="rId6" Type="http://schemas.openxmlformats.org/officeDocument/2006/relationships/slideLayout" Target="../slideLayouts/slideLayout999.xml"/><Relationship Id="rId7" Type="http://schemas.openxmlformats.org/officeDocument/2006/relationships/slideLayout" Target="../slideLayouts/slideLayout1000.xml"/><Relationship Id="rId8" Type="http://schemas.openxmlformats.org/officeDocument/2006/relationships/slideLayout" Target="../slideLayouts/slideLayout1001.xml"/><Relationship Id="rId9" Type="http://schemas.openxmlformats.org/officeDocument/2006/relationships/slideLayout" Target="../slideLayouts/slideLayout1002.xml"/><Relationship Id="rId10" Type="http://schemas.openxmlformats.org/officeDocument/2006/relationships/slideLayout" Target="../slideLayouts/slideLayout1003.xml"/><Relationship Id="rId11" Type="http://schemas.openxmlformats.org/officeDocument/2006/relationships/slideLayout" Target="../slideLayouts/slideLayout1004.xml"/><Relationship Id="rId12" Type="http://schemas.openxmlformats.org/officeDocument/2006/relationships/slideLayout" Target="../slideLayouts/slideLayout1005.xml"/><Relationship Id="rId13" Type="http://schemas.openxmlformats.org/officeDocument/2006/relationships/slideLayout" Target="../slideLayouts/slideLayout1006.xml"/><Relationship Id="rId14" Type="http://schemas.openxmlformats.org/officeDocument/2006/relationships/slideLayout" Target="../slideLayouts/slideLayout1007.xml"/><Relationship Id="rId15" Type="http://schemas.openxmlformats.org/officeDocument/2006/relationships/slideLayout" Target="../slideLayouts/slideLayout100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9B3C-F642-49C0-8579-D30FFF59B14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8830-FB1C-4124-ABC8-0C156587371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D536-33BB-44D6-8B7C-F32DEC5FC74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1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A796-250A-495C-9FB2-F172645774A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8C32-DDCF-40F6-9531-E77FEFF75A3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2E6D-E742-44F3-AE23-7521448C87E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4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6A96-2D55-4301-B236-C8923F46A4E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sldNum" idx="2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D124-249F-49C2-83BA-38B5F10AA0D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3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6E43-A806-442D-8F91-CE08DCD9904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sldNum" idx="2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D856-6DBF-40FC-85C1-C4D2F6CFE82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15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6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17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818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1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22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823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5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826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828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829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2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834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82B0-D1F3-42D8-B3BC-72D1160A734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7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2A43-2553-4E1E-8965-7094A8E179F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2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FB3F-EF29-4FBF-A01D-D5E49E1E700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6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sldNum" idx="2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740B-63BB-4370-A952-3CC99CB62C1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sldNum" idx="2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2AEE-44FA-46BC-9DE9-69682AAAC49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5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sldNum" idx="2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99E4-E107-427F-ABD8-A6A9C7B2658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9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sldNum" idx="3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C0AD-DCB2-4B57-B1A0-78FED1DE3C4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3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4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sldNum" idx="3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830B-A8F1-41E2-8AC0-9CB1129D406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8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sldNum" idx="3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D3F6-BCFC-4B26-8FBB-FB044D33FE3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sldNum" idx="3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91F8-FD2C-4FCB-9FE6-39F0E1080F4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sldNum" idx="3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F611-C913-4FF9-BC84-44569638B85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FBC3-6F8D-4E54-AB45-120B494C80D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3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314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5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316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317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18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19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20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321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322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3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324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325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6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327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328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9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0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1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2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3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3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7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37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sldNum" idx="3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8770-6173-475E-8CF5-0A7BC5456F2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 type="sldNum" idx="3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6584-A989-4EA6-911E-987F43CC3E6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 type="sldNum" idx="3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CE59-2D69-4A30-8A2C-A02162F5F7C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sldNum" idx="3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FC11-0B94-4DDE-A9B4-FE8CAE007AE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 type="sldNum" idx="3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41B4-1F35-496C-A26A-BE85C335E4A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sldNum" idx="4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0448-4AC5-4AD7-985C-63214136559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Num" idx="4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A7A3-F2A7-4E11-9956-658FC030704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4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07DB-EC39-43A8-BB33-45464E38718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 type="sldNum" idx="4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C45D-E005-4AED-B233-A7150357BEC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129B-0DEA-43DD-A300-7A9A8BCD1D9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 type="sldNum" idx="4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65E2-6863-4BAB-8FDA-E19D8D1CF44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2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813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14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815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16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7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18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19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20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821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2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23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24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5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26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827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8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9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0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1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32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83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7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7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 type="sldNum" idx="4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4E24-990F-4F70-95C3-F433628DCCA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2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 type="sldNum" idx="4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DEBA-AC20-41BB-BCEA-A33FF0C7623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sldNum" idx="4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5B88-18F1-4807-A732-8A3828082E9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0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sldNum" idx="4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3C6A-D494-4F79-B63B-51766221C08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4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5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 type="sldNum" idx="4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6803-1155-452B-AFA5-0F5EDF31BEC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9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 type="sldNum" idx="5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A7D7-DE22-426A-8BA5-DD321899EC5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4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 type="sldNum" idx="5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C4D3-B973-45AA-BB56-A500BEE0F60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8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8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 type="sldNum" idx="5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92D4-45CF-4F12-97C2-94CB0664594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491D-D901-4011-B1CA-B41D8BB140A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2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2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sldNum" idx="5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A97F-6091-46A6-B5F1-8AB11ED318D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7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sldNum" idx="5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C641-3137-4B48-9BCF-F78E09B235D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1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312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3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314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315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6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7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8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319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320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1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322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323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4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325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326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7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8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9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0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331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33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 type="sldNum" idx="5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A454-C185-4072-9607-A000C3665C7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1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sldNum" idx="5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0E64-F275-4459-8078-1F22E102920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6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6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 type="sldNum" idx="5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3720-03EF-462F-9A23-ACD09D9F48A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0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 type="sldNum" idx="5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4A13-A2E5-463F-88A3-F300516CADB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4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5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 type="sldNum" idx="5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FDAD-0484-41E9-BAA2-062244F17DE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9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 type="sldNum" idx="6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6FB0-F0C2-45A8-BAAE-FC0DAD2D3F0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3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3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 type="sldNum" idx="6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E2B4-BB3F-4D7A-AF88-280CD0DFD82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1183-02F0-47F5-9F6A-EA7DE11BD74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7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 type="sldNum" idx="6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136A-D841-4A86-B3C1-FC015ED1F0F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2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2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 type="sldNum" idx="6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2078-3EE6-4E4E-A425-88A532CF7AE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6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 type="sldNum" idx="6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2244-80D8-40F5-AC4D-5755195D8AC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4"/>
    <p:sldLayoutId id="2147484443" r:id="rId5"/>
    <p:sldLayoutId id="2147484444" r:id="rId6"/>
    <p:sldLayoutId id="2147484445" r:id="rId7"/>
    <p:sldLayoutId id="2147484446" r:id="rId8"/>
    <p:sldLayoutId id="2147484447" r:id="rId9"/>
    <p:sldLayoutId id="2147484448" r:id="rId10"/>
    <p:sldLayoutId id="2147484449" r:id="rId11"/>
    <p:sldLayoutId id="2147484450" r:id="rId12"/>
    <p:sldLayoutId id="2147484451" r:id="rId13"/>
    <p:sldLayoutId id="2147484452" r:id="rId14"/>
    <p:sldLayoutId id="2147484453" r:id="rId15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811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1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81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81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6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818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819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0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82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82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82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82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6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7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8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9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83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8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sldNum" idx="6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EC91-DC17-4865-9280-F156C91E574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1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1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 type="sldNum" idx="6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485F-A41E-43D1-9128-50610E84B27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4"/>
    <p:sldLayoutId id="2147484482" r:id="rId5"/>
    <p:sldLayoutId id="2147484483" r:id="rId6"/>
    <p:sldLayoutId id="2147484484" r:id="rId7"/>
    <p:sldLayoutId id="2147484485" r:id="rId8"/>
    <p:sldLayoutId id="2147484486" r:id="rId9"/>
    <p:sldLayoutId id="2147484487" r:id="rId10"/>
    <p:sldLayoutId id="2147484488" r:id="rId11"/>
    <p:sldLayoutId id="2147484489" r:id="rId12"/>
    <p:sldLayoutId id="2147484490" r:id="rId13"/>
    <p:sldLayoutId id="2147484491" r:id="rId14"/>
    <p:sldLayoutId id="2147484492" r:id="rId15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5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6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 type="sldNum" idx="6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6F7F-14CD-4D5B-97FF-53AC0487FAB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4"/>
    <p:sldLayoutId id="2147484495" r:id="rId5"/>
    <p:sldLayoutId id="2147484496" r:id="rId6"/>
    <p:sldLayoutId id="2147484497" r:id="rId7"/>
    <p:sldLayoutId id="2147484498" r:id="rId8"/>
    <p:sldLayoutId id="2147484499" r:id="rId9"/>
    <p:sldLayoutId id="2147484500" r:id="rId10"/>
    <p:sldLayoutId id="2147484501" r:id="rId11"/>
    <p:sldLayoutId id="2147484502" r:id="rId12"/>
    <p:sldLayoutId id="2147484503" r:id="rId13"/>
    <p:sldLayoutId id="2147484504" r:id="rId14"/>
    <p:sldLayoutId id="2147484505" r:id="rId15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0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0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0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 type="sldNum" idx="6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5ABB-0330-4670-AF0A-7D51B3786E5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4"/>
    <p:sldLayoutId id="2147484508" r:id="rId5"/>
    <p:sldLayoutId id="2147484509" r:id="rId6"/>
    <p:sldLayoutId id="2147484510" r:id="rId7"/>
    <p:sldLayoutId id="2147484511" r:id="rId8"/>
    <p:sldLayoutId id="2147484512" r:id="rId9"/>
    <p:sldLayoutId id="2147484513" r:id="rId10"/>
    <p:sldLayoutId id="2147484514" r:id="rId11"/>
    <p:sldLayoutId id="2147484515" r:id="rId12"/>
    <p:sldLayoutId id="2147484516" r:id="rId13"/>
    <p:sldLayoutId id="2147484517" r:id="rId14"/>
    <p:sldLayoutId id="2147484518" r:id="rId15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 type="sldNum" idx="6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B6F9-D35E-4B97-93CC-26B6081FFE8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4"/>
    <p:sldLayoutId id="2147484521" r:id="rId5"/>
    <p:sldLayoutId id="2147484522" r:id="rId6"/>
    <p:sldLayoutId id="2147484523" r:id="rId7"/>
    <p:sldLayoutId id="2147484524" r:id="rId8"/>
    <p:sldLayoutId id="2147484525" r:id="rId9"/>
    <p:sldLayoutId id="2147484526" r:id="rId10"/>
    <p:sldLayoutId id="2147484527" r:id="rId11"/>
    <p:sldLayoutId id="2147484528" r:id="rId12"/>
    <p:sldLayoutId id="2147484529" r:id="rId13"/>
    <p:sldLayoutId id="2147484530" r:id="rId14"/>
    <p:sldLayoutId id="2147484531" r:id="rId15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9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9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 type="sldNum" idx="7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3FD6-A208-43BD-BB81-D82F31BEE70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521B-9566-4907-9052-3D94CFD7672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3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3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 type="sldNum" idx="7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B5C0-6811-462A-87EE-06B02A19D97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4"/>
    <p:sldLayoutId id="2147484547" r:id="rId5"/>
    <p:sldLayoutId id="2147484548" r:id="rId6"/>
    <p:sldLayoutId id="2147484549" r:id="rId7"/>
    <p:sldLayoutId id="2147484550" r:id="rId8"/>
    <p:sldLayoutId id="2147484551" r:id="rId9"/>
    <p:sldLayoutId id="2147484552" r:id="rId10"/>
    <p:sldLayoutId id="2147484553" r:id="rId11"/>
    <p:sldLayoutId id="2147484554" r:id="rId12"/>
    <p:sldLayoutId id="2147484555" r:id="rId13"/>
    <p:sldLayoutId id="2147484556" r:id="rId14"/>
    <p:sldLayoutId id="2147484557" r:id="rId15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7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8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8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 type="sldNum" idx="7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02DF-1A11-49AA-BFDE-9441EB89005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2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2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 type="sldNum" idx="7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0C6B-5225-40D8-905E-01F8F2C6228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6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7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2" name="PlaceHolder 3"/>
          <p:cNvSpPr>
            <a:spLocks noGrp="1"/>
          </p:cNvSpPr>
          <p:nvPr>
            <p:ph type="sldNum" idx="7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77F9-AC82-4912-9633-A4EAFCCD2A1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9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310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1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12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3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4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15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16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17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318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9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20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21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2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323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24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5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6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7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8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29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4"/>
    <p:sldLayoutId id="2147484599" r:id="rId5"/>
    <p:sldLayoutId id="2147484600" r:id="rId6"/>
    <p:sldLayoutId id="2147484601" r:id="rId7"/>
    <p:sldLayoutId id="2147484602" r:id="rId8"/>
    <p:sldLayoutId id="2147484603" r:id="rId9"/>
    <p:sldLayoutId id="2147484604" r:id="rId10"/>
    <p:sldLayoutId id="2147484605" r:id="rId11"/>
    <p:sldLayoutId id="2147484606" r:id="rId12"/>
    <p:sldLayoutId id="2147484607" r:id="rId13"/>
    <p:sldLayoutId id="2147484608" r:id="rId14"/>
    <p:sldLayoutId id="2147484609" r:id="rId15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3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5" name="PlaceHolder 3"/>
          <p:cNvSpPr>
            <a:spLocks noGrp="1"/>
          </p:cNvSpPr>
          <p:nvPr>
            <p:ph type="sldNum" idx="7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8DFE-87B3-43D5-820D-1774B0705F3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4"/>
    <p:sldLayoutId id="2147484612" r:id="rId5"/>
    <p:sldLayoutId id="2147484613" r:id="rId6"/>
    <p:sldLayoutId id="2147484614" r:id="rId7"/>
    <p:sldLayoutId id="2147484615" r:id="rId8"/>
    <p:sldLayoutId id="2147484616" r:id="rId9"/>
    <p:sldLayoutId id="2147484617" r:id="rId10"/>
    <p:sldLayoutId id="2147484618" r:id="rId11"/>
    <p:sldLayoutId id="2147484619" r:id="rId12"/>
    <p:sldLayoutId id="2147484620" r:id="rId13"/>
    <p:sldLayoutId id="2147484621" r:id="rId14"/>
    <p:sldLayoutId id="2147484622" r:id="rId15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1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1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 type="sldNum" idx="7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D277-4673-4B00-9EAF-CA5650EDB05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4"/>
    <p:sldLayoutId id="2147484625" r:id="rId5"/>
    <p:sldLayoutId id="2147484626" r:id="rId6"/>
    <p:sldLayoutId id="2147484627" r:id="rId7"/>
    <p:sldLayoutId id="2147484628" r:id="rId8"/>
    <p:sldLayoutId id="2147484629" r:id="rId9"/>
    <p:sldLayoutId id="2147484630" r:id="rId10"/>
    <p:sldLayoutId id="2147484631" r:id="rId11"/>
    <p:sldLayoutId id="2147484632" r:id="rId12"/>
    <p:sldLayoutId id="2147484633" r:id="rId13"/>
    <p:sldLayoutId id="2147484634" r:id="rId14"/>
    <p:sldLayoutId id="2147484635" r:id="rId15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5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6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6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 type="sldNum" idx="7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409A-B995-49AA-992A-1B5769ABEF2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4"/>
    <p:sldLayoutId id="2147484638" r:id="rId5"/>
    <p:sldLayoutId id="2147484639" r:id="rId6"/>
    <p:sldLayoutId id="2147484640" r:id="rId7"/>
    <p:sldLayoutId id="2147484641" r:id="rId8"/>
    <p:sldLayoutId id="2147484642" r:id="rId9"/>
    <p:sldLayoutId id="2147484643" r:id="rId10"/>
    <p:sldLayoutId id="2147484644" r:id="rId11"/>
    <p:sldLayoutId id="2147484645" r:id="rId12"/>
    <p:sldLayoutId id="2147484646" r:id="rId13"/>
    <p:sldLayoutId id="2147484647" r:id="rId14"/>
    <p:sldLayoutId id="2147484648" r:id="rId15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0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0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0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 type="sldNum" idx="7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4418-CA3E-4372-A378-64C4AFEFFF6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4"/>
    <p:sldLayoutId id="2147484651" r:id="rId5"/>
    <p:sldLayoutId id="2147484652" r:id="rId6"/>
    <p:sldLayoutId id="2147484653" r:id="rId7"/>
    <p:sldLayoutId id="2147484654" r:id="rId8"/>
    <p:sldLayoutId id="2147484655" r:id="rId9"/>
    <p:sldLayoutId id="2147484656" r:id="rId10"/>
    <p:sldLayoutId id="2147484657" r:id="rId11"/>
    <p:sldLayoutId id="2147484658" r:id="rId12"/>
    <p:sldLayoutId id="2147484659" r:id="rId13"/>
    <p:sldLayoutId id="2147484660" r:id="rId14"/>
    <p:sldLayoutId id="2147484661" r:id="rId15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4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 type="sldNum" idx="7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AE24-7D2F-429D-ABCC-34998443082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4"/>
    <p:sldLayoutId id="2147484664" r:id="rId5"/>
    <p:sldLayoutId id="2147484665" r:id="rId6"/>
    <p:sldLayoutId id="2147484666" r:id="rId7"/>
    <p:sldLayoutId id="2147484667" r:id="rId8"/>
    <p:sldLayoutId id="2147484668" r:id="rId9"/>
    <p:sldLayoutId id="2147484669" r:id="rId10"/>
    <p:sldLayoutId id="2147484670" r:id="rId11"/>
    <p:sldLayoutId id="2147484671" r:id="rId12"/>
    <p:sldLayoutId id="2147484672" r:id="rId13"/>
    <p:sldLayoutId id="2147484673" r:id="rId14"/>
    <p:sldLayoutId id="2147484674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1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1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1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2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2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2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8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 type="sldNum" idx="8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3D5B-E882-4F2A-BC51-18E62A90F9D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4"/>
    <p:sldLayoutId id="2147484677" r:id="rId5"/>
    <p:sldLayoutId id="2147484678" r:id="rId6"/>
    <p:sldLayoutId id="2147484679" r:id="rId7"/>
    <p:sldLayoutId id="2147484680" r:id="rId8"/>
    <p:sldLayoutId id="2147484681" r:id="rId9"/>
    <p:sldLayoutId id="2147484682" r:id="rId10"/>
    <p:sldLayoutId id="2147484683" r:id="rId11"/>
    <p:sldLayoutId id="2147484684" r:id="rId12"/>
    <p:sldLayoutId id="2147484685" r:id="rId13"/>
    <p:sldLayoutId id="2147484686" r:id="rId14"/>
    <p:sldLayoutId id="2147484687" r:id="rId15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3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3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3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 type="sldNum" idx="8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FF36-6986-4D05-9BC8-8C81A634996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4"/>
    <p:sldLayoutId id="2147484690" r:id="rId5"/>
    <p:sldLayoutId id="2147484691" r:id="rId6"/>
    <p:sldLayoutId id="2147484692" r:id="rId7"/>
    <p:sldLayoutId id="2147484693" r:id="rId8"/>
    <p:sldLayoutId id="2147484694" r:id="rId9"/>
    <p:sldLayoutId id="2147484695" r:id="rId10"/>
    <p:sldLayoutId id="2147484696" r:id="rId11"/>
    <p:sldLayoutId id="2147484697" r:id="rId12"/>
    <p:sldLayoutId id="2147484698" r:id="rId13"/>
    <p:sldLayoutId id="2147484699" r:id="rId14"/>
    <p:sldLayoutId id="2147484700" r:id="rId15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7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8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 type="sldNum" idx="8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3704-DF2D-4B1E-A125-DF896015EA5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4"/>
    <p:sldLayoutId id="2147484703" r:id="rId5"/>
    <p:sldLayoutId id="2147484704" r:id="rId6"/>
    <p:sldLayoutId id="2147484705" r:id="rId7"/>
    <p:sldLayoutId id="2147484706" r:id="rId8"/>
    <p:sldLayoutId id="2147484707" r:id="rId9"/>
    <p:sldLayoutId id="2147484708" r:id="rId10"/>
    <p:sldLayoutId id="2147484709" r:id="rId11"/>
    <p:sldLayoutId id="2147484710" r:id="rId12"/>
    <p:sldLayoutId id="2147484711" r:id="rId13"/>
    <p:sldLayoutId id="2147484712" r:id="rId14"/>
    <p:sldLayoutId id="2147484713" r:id="rId15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2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2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 type="sldNum" idx="8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26F2-5067-4326-98A6-A6CA4C47EF8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4"/>
    <p:sldLayoutId id="2147484716" r:id="rId5"/>
    <p:sldLayoutId id="2147484717" r:id="rId6"/>
    <p:sldLayoutId id="2147484718" r:id="rId7"/>
    <p:sldLayoutId id="2147484719" r:id="rId8"/>
    <p:sldLayoutId id="2147484720" r:id="rId9"/>
    <p:sldLayoutId id="2147484721" r:id="rId10"/>
    <p:sldLayoutId id="2147484722" r:id="rId11"/>
    <p:sldLayoutId id="2147484723" r:id="rId12"/>
    <p:sldLayoutId id="2147484724" r:id="rId13"/>
    <p:sldLayoutId id="2147484725" r:id="rId14"/>
    <p:sldLayoutId id="2147484726" r:id="rId15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6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6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 type="sldNum" idx="8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45BD-AEFA-4C0A-B8AF-385FBE33A3A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4"/>
    <p:sldLayoutId id="2147484729" r:id="rId5"/>
    <p:sldLayoutId id="2147484730" r:id="rId6"/>
    <p:sldLayoutId id="2147484731" r:id="rId7"/>
    <p:sldLayoutId id="2147484732" r:id="rId8"/>
    <p:sldLayoutId id="2147484733" r:id="rId9"/>
    <p:sldLayoutId id="2147484734" r:id="rId10"/>
    <p:sldLayoutId id="2147484735" r:id="rId11"/>
    <p:sldLayoutId id="2147484736" r:id="rId12"/>
    <p:sldLayoutId id="2147484737" r:id="rId13"/>
    <p:sldLayoutId id="2147484738" r:id="rId14"/>
    <p:sldLayoutId id="2147484739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4E22-993B-44D0-95BC-844D1842FF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75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2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619272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三章　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神经肌肉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9" name="PlaceHolder 2"/>
          <p:cNvSpPr>
            <a:spLocks noGrp="1"/>
          </p:cNvSpPr>
          <p:nvPr>
            <p:ph type="subTitle"/>
          </p:nvPr>
        </p:nvSpPr>
        <p:spPr>
          <a:xfrm>
            <a:off x="755640" y="5445000"/>
            <a:ext cx="671040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延边大学护理学院     崔文香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脑脊液测定正常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859" name="对象 2"/>
          <p:cNvGraphicFramePr/>
          <p:nvPr/>
        </p:nvGraphicFramePr>
        <p:xfrm>
          <a:off x="179280" y="1268280"/>
          <a:ext cx="8591760" cy="54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0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591760" cy="54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2" name=""/>
          <p:cNvSpPr txBox="1"/>
          <p:nvPr/>
        </p:nvSpPr>
        <p:spPr>
          <a:xfrm>
            <a:off x="468000" y="162864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胚胎时期神经细胞的分化和繁殖以惊人的速度进行，每分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500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；胚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月时，神经细胞数目达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亿个，之后不再有神经细胞数量的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婴儿期，各种刺激引起的神经冲动传导缓慢，且易于泛化，不易形成兴奋灶，因而婴儿易产生疲劳而进入睡眠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4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生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角膜反射、瞳孔对光反射、结膜反射及吞咽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以后逐渐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觅食反射、拥抱反射、握持反射、吸吮反射，迈步反射及颈肢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不存在，以后逐渐出现并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腹壁反射、提睾反射及腱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6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病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包括巴宾斯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abinski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戈登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ordon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奥苯海姆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ppenhei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岁以内可为阳性，个别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阳性可为生理反应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若单侧阳性，结合临床考虑是否为病理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8" name=""/>
          <p:cNvSpPr txBox="1"/>
          <p:nvPr/>
        </p:nvSpPr>
        <p:spPr>
          <a:xfrm>
            <a:off x="1907640" y="2997000"/>
            <a:ext cx="5543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节 化脓性脑膜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5B72-9062-4401-94B0-0452FA74C1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各种化脓性细菌感染引起的急性脑膜炎症，是小儿、尤其婴幼儿时期常见的中枢神经系统感染性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菌的侵袭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0074-C917-4765-BDC7-DBC5A4CC9161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5" name="Oval 5"/>
          <p:cNvSpPr/>
          <p:nvPr/>
        </p:nvSpPr>
        <p:spPr>
          <a:xfrm>
            <a:off x="3276720" y="2133720"/>
            <a:ext cx="2590560" cy="10792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致病菌的侵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6" name="Rectangle 11"/>
          <p:cNvSpPr/>
          <p:nvPr/>
        </p:nvSpPr>
        <p:spPr>
          <a:xfrm>
            <a:off x="43488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0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7" name="Rectangle 11"/>
          <p:cNvSpPr/>
          <p:nvPr/>
        </p:nvSpPr>
        <p:spPr>
          <a:xfrm>
            <a:off x="6084720" y="3800520"/>
            <a:ext cx="269748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8" name="Rectangle 11"/>
          <p:cNvSpPr/>
          <p:nvPr/>
        </p:nvSpPr>
        <p:spPr>
          <a:xfrm>
            <a:off x="3276720" y="38005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9" name="Rectangle 11"/>
          <p:cNvSpPr/>
          <p:nvPr/>
        </p:nvSpPr>
        <p:spPr>
          <a:xfrm>
            <a:off x="43488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肠道革兰阴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金黄色葡萄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0" name="Rectangle 11"/>
          <p:cNvSpPr/>
          <p:nvPr/>
        </p:nvSpPr>
        <p:spPr>
          <a:xfrm>
            <a:off x="32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流感嗜血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1" name="Rectangle 11"/>
          <p:cNvSpPr/>
          <p:nvPr/>
        </p:nvSpPr>
        <p:spPr>
          <a:xfrm>
            <a:off x="6084720" y="5084640"/>
            <a:ext cx="269748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脑膜炎双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肺炎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2" name="Line 3"/>
          <p:cNvSpPr/>
          <p:nvPr/>
        </p:nvSpPr>
        <p:spPr>
          <a:xfrm flipH="1">
            <a:off x="241092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3" name="Line 3"/>
          <p:cNvSpPr/>
          <p:nvPr/>
        </p:nvSpPr>
        <p:spPr>
          <a:xfrm>
            <a:off x="4572000" y="3357720"/>
            <a:ext cx="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4" name="Line 3"/>
          <p:cNvSpPr/>
          <p:nvPr/>
        </p:nvSpPr>
        <p:spPr>
          <a:xfrm>
            <a:off x="6300720" y="3141720"/>
            <a:ext cx="43200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5" name="Line 3"/>
          <p:cNvSpPr/>
          <p:nvPr/>
        </p:nvSpPr>
        <p:spPr>
          <a:xfrm>
            <a:off x="197964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6" name="Line 3"/>
          <p:cNvSpPr/>
          <p:nvPr/>
        </p:nvSpPr>
        <p:spPr>
          <a:xfrm>
            <a:off x="457200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7" name="Line 3"/>
          <p:cNvSpPr/>
          <p:nvPr/>
        </p:nvSpPr>
        <p:spPr>
          <a:xfrm>
            <a:off x="7380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机体免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A34E-CA2C-441D-9B8E-C22AEF617D42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1" name="Oval 5"/>
          <p:cNvSpPr/>
          <p:nvPr/>
        </p:nvSpPr>
        <p:spPr>
          <a:xfrm>
            <a:off x="3419640" y="2205000"/>
            <a:ext cx="2286000" cy="10666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机体免疫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2" name="Rectangle 11"/>
          <p:cNvSpPr/>
          <p:nvPr/>
        </p:nvSpPr>
        <p:spPr>
          <a:xfrm>
            <a:off x="111600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M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3" name="Rectangle 11"/>
          <p:cNvSpPr/>
          <p:nvPr/>
        </p:nvSpPr>
        <p:spPr>
          <a:xfrm>
            <a:off x="507672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A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4" name="Rectangle 11"/>
          <p:cNvSpPr/>
          <p:nvPr/>
        </p:nvSpPr>
        <p:spPr>
          <a:xfrm>
            <a:off x="115416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大肠埃希菌败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5" name="Rectangle 11"/>
          <p:cNvSpPr/>
          <p:nvPr/>
        </p:nvSpPr>
        <p:spPr>
          <a:xfrm>
            <a:off x="50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呼吸道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胃肠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6" name="Line 3"/>
          <p:cNvSpPr/>
          <p:nvPr/>
        </p:nvSpPr>
        <p:spPr>
          <a:xfrm flipH="1">
            <a:off x="277128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7" name="Line 3"/>
          <p:cNvSpPr/>
          <p:nvPr/>
        </p:nvSpPr>
        <p:spPr>
          <a:xfrm>
            <a:off x="5867280" y="3141720"/>
            <a:ext cx="43344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8" name="Line 3"/>
          <p:cNvSpPr/>
          <p:nvPr/>
        </p:nvSpPr>
        <p:spPr>
          <a:xfrm>
            <a:off x="2484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9" name="Line 3"/>
          <p:cNvSpPr/>
          <p:nvPr/>
        </p:nvSpPr>
        <p:spPr>
          <a:xfrm>
            <a:off x="673272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F765-DAA9-4FA3-B3C1-37035883DC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826560" y="285480"/>
            <a:ext cx="8317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</a:t>
            </a:r>
            <a:r>
              <a:rPr b="0" i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致病菌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2" name="Text Box 30"/>
          <p:cNvSpPr/>
          <p:nvPr/>
        </p:nvSpPr>
        <p:spPr>
          <a:xfrm>
            <a:off x="6300720" y="3573360"/>
            <a:ext cx="3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3" name="图片 1" descr=""/>
          <p:cNvPicPr/>
          <p:nvPr/>
        </p:nvPicPr>
        <p:blipFill>
          <a:blip r:embed="rId1"/>
          <a:stretch/>
        </p:blipFill>
        <p:spPr>
          <a:xfrm>
            <a:off x="588960" y="1844640"/>
            <a:ext cx="8132760" cy="4249800"/>
          </a:xfrm>
          <a:prstGeom prst="rect">
            <a:avLst/>
          </a:prstGeom>
          <a:ln w="0">
            <a:noFill/>
          </a:ln>
        </p:spPr>
      </p:pic>
      <p:sp>
        <p:nvSpPr>
          <p:cNvPr id="3904" name="AutoShape 5"/>
          <p:cNvSpPr/>
          <p:nvPr/>
        </p:nvSpPr>
        <p:spPr>
          <a:xfrm>
            <a:off x="2411280" y="2254320"/>
            <a:ext cx="432000" cy="3095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5" name="图片 2" descr=""/>
          <p:cNvPicPr/>
          <p:nvPr/>
        </p:nvPicPr>
        <p:blipFill>
          <a:blip r:embed="rId2"/>
          <a:stretch/>
        </p:blipFill>
        <p:spPr>
          <a:xfrm>
            <a:off x="1284120" y="3706920"/>
            <a:ext cx="48132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典型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8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89DC-C8FE-45C9-AF49-582F9ED022D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9" name="Oval 5"/>
          <p:cNvSpPr/>
          <p:nvPr/>
        </p:nvSpPr>
        <p:spPr>
          <a:xfrm>
            <a:off x="3203640" y="1268280"/>
            <a:ext cx="25923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典型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0" name="Rectangle 11"/>
          <p:cNvSpPr/>
          <p:nvPr/>
        </p:nvSpPr>
        <p:spPr>
          <a:xfrm>
            <a:off x="425520" y="29019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感染中毒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急性脑功能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1" name="Rectangle 11"/>
          <p:cNvSpPr/>
          <p:nvPr/>
        </p:nvSpPr>
        <p:spPr>
          <a:xfrm>
            <a:off x="607536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2" name="Rectangle 11"/>
          <p:cNvSpPr/>
          <p:nvPr/>
        </p:nvSpPr>
        <p:spPr>
          <a:xfrm>
            <a:off x="326700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3" name="Rectangle 11"/>
          <p:cNvSpPr/>
          <p:nvPr/>
        </p:nvSpPr>
        <p:spPr>
          <a:xfrm>
            <a:off x="71280" y="4197240"/>
            <a:ext cx="320544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发热、烦躁不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进行性加重的意识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4" name="Rectangle 11"/>
          <p:cNvSpPr/>
          <p:nvPr/>
        </p:nvSpPr>
        <p:spPr>
          <a:xfrm>
            <a:off x="3348000" y="4197240"/>
            <a:ext cx="269712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痛、呕吐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婴儿则有前囟饱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与张力增高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围增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5" name="Rectangle 11"/>
          <p:cNvSpPr/>
          <p:nvPr/>
        </p:nvSpPr>
        <p:spPr>
          <a:xfrm>
            <a:off x="6146640" y="4197240"/>
            <a:ext cx="288936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颈项强直最常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其他如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Kernig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Brudzinski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6" name="Line 3"/>
          <p:cNvSpPr/>
          <p:nvPr/>
        </p:nvSpPr>
        <p:spPr>
          <a:xfrm flipH="1">
            <a:off x="2401560" y="2252520"/>
            <a:ext cx="53028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7" name="Line 3"/>
          <p:cNvSpPr/>
          <p:nvPr/>
        </p:nvSpPr>
        <p:spPr>
          <a:xfrm>
            <a:off x="4562640" y="246852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8" name="Line 3"/>
          <p:cNvSpPr/>
          <p:nvPr/>
        </p:nvSpPr>
        <p:spPr>
          <a:xfrm>
            <a:off x="6291360" y="2252520"/>
            <a:ext cx="43164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9" name="Line 3"/>
          <p:cNvSpPr/>
          <p:nvPr/>
        </p:nvSpPr>
        <p:spPr>
          <a:xfrm>
            <a:off x="1763640" y="378936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0" name="Line 3"/>
          <p:cNvSpPr/>
          <p:nvPr/>
        </p:nvSpPr>
        <p:spPr>
          <a:xfrm>
            <a:off x="4562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1" name="Line 3"/>
          <p:cNvSpPr/>
          <p:nvPr/>
        </p:nvSpPr>
        <p:spPr>
          <a:xfrm>
            <a:off x="7370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/>
          </p:nvPr>
        </p:nvSpPr>
        <p:spPr>
          <a:xfrm>
            <a:off x="2700000" y="1557000"/>
            <a:ext cx="45356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化脓性脑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脑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癫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吉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巴雷综合征                注意力缺陷多动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812" name="Group 4"/>
          <p:cNvGrpSpPr/>
          <p:nvPr/>
        </p:nvGrpSpPr>
        <p:grpSpPr>
          <a:xfrm>
            <a:off x="1819440" y="2579760"/>
            <a:ext cx="688320" cy="593640"/>
            <a:chOff x="1819440" y="2579760"/>
            <a:chExt cx="688320" cy="593640"/>
          </a:xfrm>
        </p:grpSpPr>
        <p:sp>
          <p:nvSpPr>
            <p:cNvPr id="3813" name="AutoShape 5"/>
            <p:cNvSpPr/>
            <p:nvPr/>
          </p:nvSpPr>
          <p:spPr>
            <a:xfrm>
              <a:off x="1824840" y="258984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4" name="AutoShape 6"/>
            <p:cNvSpPr/>
            <p:nvPr/>
          </p:nvSpPr>
          <p:spPr>
            <a:xfrm>
              <a:off x="1819440" y="257976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5" name="AutoShape 7"/>
            <p:cNvSpPr/>
            <p:nvPr/>
          </p:nvSpPr>
          <p:spPr>
            <a:xfrm>
              <a:off x="1859400" y="26146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16" name="Text Box 8"/>
          <p:cNvSpPr/>
          <p:nvPr/>
        </p:nvSpPr>
        <p:spPr>
          <a:xfrm>
            <a:off x="1980720" y="2637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7" name="AutoShape 9"/>
          <p:cNvSpPr/>
          <p:nvPr/>
        </p:nvSpPr>
        <p:spPr>
          <a:xfrm>
            <a:off x="1819440" y="334152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8" name="Text Box 10"/>
          <p:cNvSpPr/>
          <p:nvPr/>
        </p:nvSpPr>
        <p:spPr>
          <a:xfrm>
            <a:off x="1954080" y="3424320"/>
            <a:ext cx="354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19" name="Group 11"/>
          <p:cNvGrpSpPr/>
          <p:nvPr/>
        </p:nvGrpSpPr>
        <p:grpSpPr>
          <a:xfrm>
            <a:off x="1803240" y="4110120"/>
            <a:ext cx="687240" cy="593640"/>
            <a:chOff x="1803240" y="4110120"/>
            <a:chExt cx="687240" cy="593640"/>
          </a:xfrm>
        </p:grpSpPr>
        <p:sp>
          <p:nvSpPr>
            <p:cNvPr id="3820" name="AutoShape 12"/>
            <p:cNvSpPr/>
            <p:nvPr/>
          </p:nvSpPr>
          <p:spPr>
            <a:xfrm>
              <a:off x="1808640" y="412020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1" name="AutoShape 13"/>
            <p:cNvSpPr/>
            <p:nvPr/>
          </p:nvSpPr>
          <p:spPr>
            <a:xfrm>
              <a:off x="1803240" y="41101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2" name="AutoShape 14"/>
            <p:cNvSpPr/>
            <p:nvPr/>
          </p:nvSpPr>
          <p:spPr>
            <a:xfrm>
              <a:off x="1843200" y="414504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23" name="Text Box 15"/>
          <p:cNvSpPr/>
          <p:nvPr/>
        </p:nvSpPr>
        <p:spPr>
          <a:xfrm>
            <a:off x="1971720" y="418608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4" name="AutoShape 16"/>
          <p:cNvSpPr/>
          <p:nvPr/>
        </p:nvSpPr>
        <p:spPr>
          <a:xfrm>
            <a:off x="1803240" y="487188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5" name="Text Box 17"/>
          <p:cNvSpPr/>
          <p:nvPr/>
        </p:nvSpPr>
        <p:spPr>
          <a:xfrm>
            <a:off x="1963440" y="492912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6" name="Line 18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7" name="Line 19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9" name="Line 21"/>
          <p:cNvSpPr/>
          <p:nvPr/>
        </p:nvSpPr>
        <p:spPr>
          <a:xfrm>
            <a:off x="2484360" y="5445000"/>
            <a:ext cx="4824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0" name="Line 21"/>
          <p:cNvSpPr/>
          <p:nvPr/>
        </p:nvSpPr>
        <p:spPr>
          <a:xfrm>
            <a:off x="2484360" y="6093000"/>
            <a:ext cx="48722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1" name="Group 4"/>
          <p:cNvGrpSpPr/>
          <p:nvPr/>
        </p:nvGrpSpPr>
        <p:grpSpPr>
          <a:xfrm>
            <a:off x="1835280" y="5589720"/>
            <a:ext cx="688320" cy="593640"/>
            <a:chOff x="1835280" y="5589720"/>
            <a:chExt cx="688320" cy="593640"/>
          </a:xfrm>
        </p:grpSpPr>
        <p:sp>
          <p:nvSpPr>
            <p:cNvPr id="3832" name="AutoShape 5"/>
            <p:cNvSpPr/>
            <p:nvPr/>
          </p:nvSpPr>
          <p:spPr>
            <a:xfrm>
              <a:off x="1840680" y="55998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3" name="AutoShape 6"/>
            <p:cNvSpPr/>
            <p:nvPr/>
          </p:nvSpPr>
          <p:spPr>
            <a:xfrm>
              <a:off x="1835280" y="55897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4" name="AutoShape 7"/>
            <p:cNvSpPr/>
            <p:nvPr/>
          </p:nvSpPr>
          <p:spPr>
            <a:xfrm>
              <a:off x="1875240" y="562464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35" name="Text Box 8"/>
          <p:cNvSpPr/>
          <p:nvPr/>
        </p:nvSpPr>
        <p:spPr>
          <a:xfrm>
            <a:off x="2014920" y="5661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6" name="Group 11"/>
          <p:cNvGrpSpPr/>
          <p:nvPr/>
        </p:nvGrpSpPr>
        <p:grpSpPr>
          <a:xfrm>
            <a:off x="1763640" y="1773360"/>
            <a:ext cx="687240" cy="593640"/>
            <a:chOff x="1763640" y="1773360"/>
            <a:chExt cx="687240" cy="593640"/>
          </a:xfrm>
        </p:grpSpPr>
        <p:sp>
          <p:nvSpPr>
            <p:cNvPr id="3837" name="AutoShape 12"/>
            <p:cNvSpPr/>
            <p:nvPr/>
          </p:nvSpPr>
          <p:spPr>
            <a:xfrm>
              <a:off x="1769040" y="1783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8" name="AutoShape 13"/>
            <p:cNvSpPr/>
            <p:nvPr/>
          </p:nvSpPr>
          <p:spPr>
            <a:xfrm>
              <a:off x="1763640" y="1773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9" name="AutoShape 14"/>
            <p:cNvSpPr/>
            <p:nvPr/>
          </p:nvSpPr>
          <p:spPr>
            <a:xfrm>
              <a:off x="1803600" y="1808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0" name="Text Box 15"/>
          <p:cNvSpPr/>
          <p:nvPr/>
        </p:nvSpPr>
        <p:spPr>
          <a:xfrm>
            <a:off x="1932120" y="184932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1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典型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24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710E-98B5-484F-96AC-17EE6809411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5" name="Oval 5"/>
          <p:cNvSpPr/>
          <p:nvPr/>
        </p:nvSpPr>
        <p:spPr>
          <a:xfrm>
            <a:off x="250920" y="3284640"/>
            <a:ext cx="22701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非典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6" name="Rectangle 11"/>
          <p:cNvSpPr/>
          <p:nvPr/>
        </p:nvSpPr>
        <p:spPr>
          <a:xfrm>
            <a:off x="4211640" y="1700280"/>
            <a:ext cx="460836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体温可高可低或不发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甚至体温不升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7" name="Rectangle 11"/>
          <p:cNvSpPr/>
          <p:nvPr/>
        </p:nvSpPr>
        <p:spPr>
          <a:xfrm>
            <a:off x="4211640" y="4344480"/>
            <a:ext cx="460044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惊厥可不典型，如仅见面部、肢体局灶或多灶性抽动、局部或全身性肌阵挛，或呈眨眼、呼吸不规则、屏气等各种不显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8" name="Rectangle 11"/>
          <p:cNvSpPr/>
          <p:nvPr/>
        </p:nvSpPr>
        <p:spPr>
          <a:xfrm>
            <a:off x="4211640" y="2565360"/>
            <a:ext cx="4608360" cy="11509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表现不明显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幼婴不会诉头痛，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仅有吐奶、尖叫或颅缝分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9" name="Line 3"/>
          <p:cNvSpPr/>
          <p:nvPr/>
        </p:nvSpPr>
        <p:spPr>
          <a:xfrm flipV="1">
            <a:off x="2411280" y="2133360"/>
            <a:ext cx="149544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0" name="Rectangle 11"/>
          <p:cNvSpPr/>
          <p:nvPr/>
        </p:nvSpPr>
        <p:spPr>
          <a:xfrm>
            <a:off x="4211640" y="5448240"/>
            <a:ext cx="46083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不明显，与婴儿肌肉不发达，肌力弱和反应低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1" name="Line 3"/>
          <p:cNvSpPr/>
          <p:nvPr/>
        </p:nvSpPr>
        <p:spPr>
          <a:xfrm>
            <a:off x="2700360" y="4076640"/>
            <a:ext cx="1295280" cy="216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2" name="Line 3"/>
          <p:cNvSpPr/>
          <p:nvPr/>
        </p:nvSpPr>
        <p:spPr>
          <a:xfrm flipV="1">
            <a:off x="2700360" y="3141720"/>
            <a:ext cx="129528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3" name="Line 3"/>
          <p:cNvSpPr/>
          <p:nvPr/>
        </p:nvSpPr>
        <p:spPr>
          <a:xfrm>
            <a:off x="2268360" y="4724280"/>
            <a:ext cx="1727280" cy="1008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6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6623-CE7A-4442-BD70-61097CD29A2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7" name="Oval 5"/>
          <p:cNvSpPr/>
          <p:nvPr/>
        </p:nvSpPr>
        <p:spPr>
          <a:xfrm>
            <a:off x="2843280" y="2205000"/>
            <a:ext cx="2270160" cy="107964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8" name="Rectangle 11"/>
          <p:cNvSpPr/>
          <p:nvPr/>
        </p:nvSpPr>
        <p:spPr>
          <a:xfrm>
            <a:off x="250920" y="4292640"/>
            <a:ext cx="1944720" cy="450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硬膜下积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9" name="Rectangle 11"/>
          <p:cNvSpPr/>
          <p:nvPr/>
        </p:nvSpPr>
        <p:spPr>
          <a:xfrm>
            <a:off x="4284720" y="4293720"/>
            <a:ext cx="172728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积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0" name="Rectangle 11"/>
          <p:cNvSpPr/>
          <p:nvPr/>
        </p:nvSpPr>
        <p:spPr>
          <a:xfrm>
            <a:off x="2411280" y="4292640"/>
            <a:ext cx="1729080" cy="43164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室管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1" name="Rectangle 11"/>
          <p:cNvSpPr/>
          <p:nvPr/>
        </p:nvSpPr>
        <p:spPr>
          <a:xfrm>
            <a:off x="6429240" y="4074120"/>
            <a:ext cx="25005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抗利尿激素不适当分泌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2" name="Line 3"/>
          <p:cNvSpPr/>
          <p:nvPr/>
        </p:nvSpPr>
        <p:spPr>
          <a:xfrm>
            <a:off x="5364000" y="2997360"/>
            <a:ext cx="1729080" cy="1008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3" name="Line 3"/>
          <p:cNvSpPr/>
          <p:nvPr/>
        </p:nvSpPr>
        <p:spPr>
          <a:xfrm flipH="1">
            <a:off x="3276720" y="3284640"/>
            <a:ext cx="2872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4" name="Line 3"/>
          <p:cNvSpPr/>
          <p:nvPr/>
        </p:nvSpPr>
        <p:spPr>
          <a:xfrm>
            <a:off x="4643280" y="3284640"/>
            <a:ext cx="2890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5" name="Line 3"/>
          <p:cNvSpPr/>
          <p:nvPr/>
        </p:nvSpPr>
        <p:spPr>
          <a:xfrm flipH="1">
            <a:off x="1186920" y="3141720"/>
            <a:ext cx="158436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DC42-FF3A-4D42-9610-BA7CC2A5803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他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皮肤瘀点、瘀斑涂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周血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清降钙素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神经影像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49" name="Picture 4" descr="图片19"/>
          <p:cNvPicPr/>
          <p:nvPr/>
        </p:nvPicPr>
        <p:blipFill>
          <a:blip r:embed="rId1"/>
          <a:stretch/>
        </p:blipFill>
        <p:spPr>
          <a:xfrm>
            <a:off x="565164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3CD5-B186-4A2F-A941-2D86C691DDB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上腺素皮质激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及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治疗：①硬脑膜下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室管膜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FB42-A386-405F-B9B9-1831C758B48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小儿患病前有无呼吸道、消化道或皮肤的感染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测量患儿生命体征，评估患儿有无发病各项症状，并判断症状的程度和性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对患儿健康的需求；是否有焦虑和恐惧的心理状况。评估家庭对疾病治疗和护理的经济承受能力和社会的支持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708E-6A51-4FAC-8E5D-DFEB227E8C7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/>
          </p:nvPr>
        </p:nvSpPr>
        <p:spPr>
          <a:xfrm>
            <a:off x="171360" y="1628640"/>
            <a:ext cx="889344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细菌感染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惊厥发作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          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摄入不足、机体消耗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疾病预后不良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8EA7-C576-4E42-8A6B-61FA885F3884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6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96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96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6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7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7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5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76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3977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3978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9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0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1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2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3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8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8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8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1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2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993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994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5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6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97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8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9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00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01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02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3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4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5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6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7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08" name="AutoShape 53"/>
          <p:cNvSpPr/>
          <p:nvPr/>
        </p:nvSpPr>
        <p:spPr>
          <a:xfrm>
            <a:off x="3465360" y="16765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9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病室安静清洁、空气新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遵医嘱及时给予退热和抗生素等药物治疗，并了解各种药物的使用配伍要求、适应证、禁忌证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2" name="矩形 55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D662-0822-459C-9B21-99E14C606E93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1" name="AutoShape 53"/>
          <p:cNvSpPr/>
          <p:nvPr/>
        </p:nvSpPr>
        <p:spPr>
          <a:xfrm>
            <a:off x="3622680" y="24955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2" name="圆角矩形 54"/>
          <p:cNvSpPr/>
          <p:nvPr/>
        </p:nvSpPr>
        <p:spPr>
          <a:xfrm>
            <a:off x="4716360" y="1849320"/>
            <a:ext cx="3143520" cy="1284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命体征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并发症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3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3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3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9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0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1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42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43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4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5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6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7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8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5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5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5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5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6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57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8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9" name="矩形 81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60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06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06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6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6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E9B6-37E2-4F3E-9E7B-4232576342BF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9" name="AutoShape 53"/>
          <p:cNvSpPr/>
          <p:nvPr/>
        </p:nvSpPr>
        <p:spPr>
          <a:xfrm>
            <a:off x="3933720" y="32590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0" name="圆角矩形 55"/>
          <p:cNvSpPr/>
          <p:nvPr/>
        </p:nvSpPr>
        <p:spPr>
          <a:xfrm>
            <a:off x="4788000" y="2006640"/>
            <a:ext cx="4127400" cy="2735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环境和患儿安静，护理操作动作尽量轻柔、集中进行，修剪患儿指甲，专人守护和陪伴患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协助患儿洗漱、大小便及个人卫生等生活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7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7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7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7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8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8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8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6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8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8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8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9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3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4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95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96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97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8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9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0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1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2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0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0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0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9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0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2" name="矩形 138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1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1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1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9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2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1A12-2A9B-4D96-97B5-F1FEDFD74F7A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3" name="AutoShape 53"/>
          <p:cNvSpPr/>
          <p:nvPr/>
        </p:nvSpPr>
        <p:spPr>
          <a:xfrm>
            <a:off x="3940200" y="4199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4" name="圆角矩形 54"/>
          <p:cNvSpPr/>
          <p:nvPr/>
        </p:nvSpPr>
        <p:spPr>
          <a:xfrm>
            <a:off x="4876920" y="3100320"/>
            <a:ext cx="4005000" cy="2225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高热量、高蛋白、高维生素、易消化的清淡流质或半流质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2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2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2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3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3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3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4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4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4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9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150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151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2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3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54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5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6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3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4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65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6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6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6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6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7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3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74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-1440" y="1844280"/>
            <a:ext cx="914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说出小儿化脓性脑膜炎、病毒性脑膜炎及癫痫持续状态的定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描述小儿化脓性脑膜炎和吉兰</a:t>
            </a:r>
            <a:r>
              <a:rPr b="0" lang="en-US" sz="2000" spc="-1" strike="noStrike">
                <a:solidFill>
                  <a:srgbClr val="03517d"/>
                </a:solidFill>
                <a:latin typeface="黑体"/>
                <a:ea typeface="黑体"/>
              </a:rPr>
              <a:t>-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巴雷综合征脑脊液的特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化脓性脑膜炎及病毒性脑膜炎的临床特点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小儿癫痫的分型、注意力缺陷多动症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正确选择神经系统检查方法评估神经系统各种神经疾病存在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根据小儿不同年龄、疾病特征及护理问题实施相应的护理措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7824-A06B-4EDC-B6C1-6AB62BDF5B5B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7" name="AutoShape 53"/>
          <p:cNvSpPr/>
          <p:nvPr/>
        </p:nvSpPr>
        <p:spPr>
          <a:xfrm flipV="1">
            <a:off x="3100320" y="5068080"/>
            <a:ext cx="1000080" cy="88920"/>
          </a:xfrm>
          <a:prstGeom prst="rightArrow">
            <a:avLst>
              <a:gd name="adj1" fmla="val 50000"/>
              <a:gd name="adj2" fmla="val 2233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8" name="圆角矩形 54"/>
          <p:cNvSpPr/>
          <p:nvPr/>
        </p:nvSpPr>
        <p:spPr>
          <a:xfrm>
            <a:off x="4302000" y="4338720"/>
            <a:ext cx="464364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患儿不同年龄，采用不同方式实施心理安慰、关心和爱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家长安慰，消除顾虑。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6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4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9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9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9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1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2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03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04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05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6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7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8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9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0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7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8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9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0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2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2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2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2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7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28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2299-D4BA-4827-B39B-6B148833EC7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1" name="AutoShape 53"/>
          <p:cNvSpPr/>
          <p:nvPr/>
        </p:nvSpPr>
        <p:spPr>
          <a:xfrm>
            <a:off x="314316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2" name="圆角矩形 54"/>
          <p:cNvSpPr/>
          <p:nvPr/>
        </p:nvSpPr>
        <p:spPr>
          <a:xfrm>
            <a:off x="4000680" y="3611520"/>
            <a:ext cx="5000400" cy="2889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积极防治上呼吸道、消化道等感染性疾病，预防皮肤外伤和脐部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与家属一起根据患儿具体情况制订系统且行之有效的功能训练计划，指导家长具体的护理措施，促进机体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0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8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5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6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57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58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59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0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1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62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3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4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1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2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73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4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7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7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7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1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2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4" name="圆角矩形 3"/>
          <p:cNvSpPr/>
          <p:nvPr/>
        </p:nvSpPr>
        <p:spPr>
          <a:xfrm>
            <a:off x="11160" y="1069920"/>
            <a:ext cx="9132840" cy="546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女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月，因发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，呕吐伴抽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前开始发热，体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8.5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持续不降，伴有流涕、咳嗽，烦躁不安。呕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，为胃内容物，量多，呈喷射状。入院当天突然出现抽搐，表现为意识丧失、双眼上翻、四肢强直，持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钟。患病以来精神萎靡，大小便正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体格检查：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 39.45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 4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P 15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W 9.0k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精神萎靡，嗜睡。皮肤黏膜未见瘀点、瘀斑。前囟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×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隆起。双侧瞳孔等大等圆，对光反射迟钝。咽部红。颈抵抗，双肺呼吸音粗，心音有力律齐，未闻及病理性杂音。腹软，肝肋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5cm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剑突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质中，脾未扪及。脊柱四肢发育正常。四肢肌张力增高，腱反射活跃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Kerni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rudzinski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巴氏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辅助检查：脑脊液检查结果：压力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430mmH2O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外观浑浊；白细胞数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2000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8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1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；蛋白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900mg0.9g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糖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264mmmol/L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氯化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010 mmmol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血常规检查结果：白细胞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7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28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尿常规、便常规。肝功均正常。胸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线片未见异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问题：</a:t>
            </a: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．患儿最可能的临床诊断是什么？说出诊断依据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5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287" name=""/>
          <p:cNvSpPr txBox="1"/>
          <p:nvPr/>
        </p:nvSpPr>
        <p:spPr>
          <a:xfrm>
            <a:off x="2572920" y="2708280"/>
            <a:ext cx="46069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节 病毒性脑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EC09-228D-45F6-B6BE-33017228E45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encephalit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病毒感染引起的颅内急性炎症。若病变主要累及脑实质则称为病毒性脑炎，若病变主要累及脑膜则称为病毒性脑膜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meningiti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大多数患儿病程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种病毒感染均可引起脑炎、脑膜炎，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肠道病毒（柯萨奇病毒、埃可病毒）感染，其次为单纯疱疹病毒、腮腺炎病毒和虫媒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21DB-D324-497A-9C4C-82106EF800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 type="title"/>
          </p:nvPr>
        </p:nvSpPr>
        <p:spPr>
          <a:xfrm>
            <a:off x="4246560" y="299520"/>
            <a:ext cx="48261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5" name="矩形 1"/>
          <p:cNvSpPr/>
          <p:nvPr/>
        </p:nvSpPr>
        <p:spPr>
          <a:xfrm>
            <a:off x="4246560" y="337644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6" name="矩形 27"/>
          <p:cNvSpPr/>
          <p:nvPr/>
        </p:nvSpPr>
        <p:spPr>
          <a:xfrm>
            <a:off x="4992840" y="2467080"/>
            <a:ext cx="18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释放入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7" name="矩形 28"/>
          <p:cNvSpPr/>
          <p:nvPr/>
        </p:nvSpPr>
        <p:spPr>
          <a:xfrm>
            <a:off x="4246560" y="1579680"/>
            <a:ext cx="3346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局部的初期复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8" name="矩形 29"/>
          <p:cNvSpPr/>
          <p:nvPr/>
        </p:nvSpPr>
        <p:spPr>
          <a:xfrm>
            <a:off x="2046240" y="1928880"/>
            <a:ext cx="201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胃肠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9" name="矩形 30"/>
          <p:cNvSpPr/>
          <p:nvPr/>
        </p:nvSpPr>
        <p:spPr>
          <a:xfrm>
            <a:off x="343080" y="1558800"/>
            <a:ext cx="1626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0" name="矩形 31"/>
          <p:cNvSpPr/>
          <p:nvPr/>
        </p:nvSpPr>
        <p:spPr>
          <a:xfrm>
            <a:off x="1900080" y="1236600"/>
            <a:ext cx="1509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呼吸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1" name="矩形 32"/>
          <p:cNvSpPr/>
          <p:nvPr/>
        </p:nvSpPr>
        <p:spPr>
          <a:xfrm>
            <a:off x="6378480" y="3425760"/>
            <a:ext cx="2997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发热等全身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2" name="矩形 33"/>
          <p:cNvSpPr/>
          <p:nvPr/>
        </p:nvSpPr>
        <p:spPr>
          <a:xfrm>
            <a:off x="4246560" y="5538960"/>
            <a:ext cx="3094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3" name="矩形 34"/>
          <p:cNvSpPr/>
          <p:nvPr/>
        </p:nvSpPr>
        <p:spPr>
          <a:xfrm>
            <a:off x="5118120" y="434808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血脑屏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304" name="直接箭头连接符 3"/>
          <p:cNvCxnSpPr/>
          <p:nvPr/>
        </p:nvCxnSpPr>
        <p:spPr>
          <a:xfrm>
            <a:off x="1318680" y="1949040"/>
            <a:ext cx="2791440" cy="108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5" name="直接箭头连接符 5"/>
          <p:cNvCxnSpPr/>
          <p:nvPr/>
        </p:nvCxnSpPr>
        <p:spPr>
          <a:xfrm>
            <a:off x="4992480" y="2184480"/>
            <a:ext cx="1080" cy="124200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6" name="直接箭头连接符 7"/>
          <p:cNvCxnSpPr/>
          <p:nvPr/>
        </p:nvCxnSpPr>
        <p:spPr>
          <a:xfrm>
            <a:off x="4992480" y="4114800"/>
            <a:ext cx="1080" cy="151992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sp>
        <p:nvSpPr>
          <p:cNvPr id="4307" name="直接连接符 9"/>
          <p:cNvSpPr/>
          <p:nvPr/>
        </p:nvSpPr>
        <p:spPr>
          <a:xfrm>
            <a:off x="5792760" y="3795840"/>
            <a:ext cx="585720" cy="0"/>
          </a:xfrm>
          <a:prstGeom prst="line">
            <a:avLst/>
          </a:prstGeom>
          <a:ln w="9360">
            <a:solidFill>
              <a:srgbClr val="006b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9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膜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先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上呼吸道或消化道感染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史，表现为发热、恶心、呕吐。继而婴儿出现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烦躁不安，易被激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年长儿表现头痛、颈背疼痛，脑膜刺激征阳性。很少发生严重意识障碍和惊厥，无局限性神经系统体征。病程大多为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490680" y="162828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驱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全身感染症状，如发热、头痛、呕吐、腹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枢神经系统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惊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意识障碍  ③颅内压增高    ④运动功能障碍   ⑤神经情绪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程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，多数患儿可完全恢复，但少数遗留癫痫、肢体瘫痪、智力倒退等后遗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06C0-2092-490D-A84F-EE10876193E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428796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/MR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315" name="Picture 4" descr="图片19"/>
          <p:cNvPicPr/>
          <p:nvPr/>
        </p:nvPicPr>
        <p:blipFill>
          <a:blip r:embed="rId1"/>
          <a:stretch/>
        </p:blipFill>
        <p:spPr>
          <a:xfrm>
            <a:off x="550872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5" name=""/>
          <p:cNvSpPr txBox="1"/>
          <p:nvPr/>
        </p:nvSpPr>
        <p:spPr>
          <a:xfrm>
            <a:off x="323640" y="2565360"/>
            <a:ext cx="8591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神经系统解剖生理特点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1819-F099-4C22-A6E2-DFE77189D352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治疗与支持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降温、镇静止痉、控制脑水肿、降低颅内压，卧床休息，维持体温正常及水、电解质平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病毒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阿昔洛韦、干扰素、更昔洛韦、利巴韦林或静脉注射免疫球蛋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D505-F131-41F8-B805-18B97EE83E3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228240" y="1832040"/>
            <a:ext cx="899172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有无呼吸道或胃肠道感染史，有无动物接触史或蚊虫叮咬史，预防接种史和流行病学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史：起病前有无上呼吸道感染、胃肠道感染史，是否进行预防接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身体状况：患儿生命体征，精神状态、神志；有无头痛、呕吐、惊厥；囟门是否紧张、隆起、有无脑膜刺激征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C659-AD23-4BCE-9D0C-F87B4F35A5AE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247680" y="1730520"/>
            <a:ext cx="8740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病毒血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惊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急性意识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脑实质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昏迷、瘫痪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于机体需要量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呕吐、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E92D-5979-4B6B-95E2-C8920B58704D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7" name="AutoShape 53"/>
          <p:cNvSpPr/>
          <p:nvPr/>
        </p:nvSpPr>
        <p:spPr>
          <a:xfrm>
            <a:off x="3454560" y="15667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8" name="圆角矩形 54"/>
          <p:cNvSpPr/>
          <p:nvPr/>
        </p:nvSpPr>
        <p:spPr>
          <a:xfrm>
            <a:off x="4214880" y="1357200"/>
            <a:ext cx="4929120" cy="78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2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3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3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3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33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33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4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4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34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34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5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35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35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6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36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36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6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37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37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7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7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38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38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4FAE-8AF0-4521-885A-74026BACA6D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9" name="AutoShape 53"/>
          <p:cNvSpPr/>
          <p:nvPr/>
        </p:nvSpPr>
        <p:spPr>
          <a:xfrm>
            <a:off x="3591000" y="219564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0" name="圆角矩形 54"/>
          <p:cNvSpPr/>
          <p:nvPr/>
        </p:nvSpPr>
        <p:spPr>
          <a:xfrm>
            <a:off x="4643280" y="1552680"/>
            <a:ext cx="3143520" cy="1284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惊厥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约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9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9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9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0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0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0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0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0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0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1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1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1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2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2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3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3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3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3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3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4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4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44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44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4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6C94-BF1A-4075-BD08-BEDD5E12026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1" name="AutoShape 53"/>
          <p:cNvSpPr/>
          <p:nvPr/>
        </p:nvSpPr>
        <p:spPr>
          <a:xfrm>
            <a:off x="3946680" y="29383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2" name="圆角矩形 55"/>
          <p:cNvSpPr/>
          <p:nvPr/>
        </p:nvSpPr>
        <p:spPr>
          <a:xfrm>
            <a:off x="4788000" y="2052720"/>
            <a:ext cx="4127400" cy="180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去除影响患儿情绪的不良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保护性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53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454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455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6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7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58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9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0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1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62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63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4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5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6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7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8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9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70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71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2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3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4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5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6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77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78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79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0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1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82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3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4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85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86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87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8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9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90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1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2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93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4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95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96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97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8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9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0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1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2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03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04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05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6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7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8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9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0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98CF-ACF3-46AF-A77C-CF0A06A4B9A5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3" name="AutoShape 53"/>
          <p:cNvSpPr/>
          <p:nvPr/>
        </p:nvSpPr>
        <p:spPr>
          <a:xfrm>
            <a:off x="4316400" y="3656160"/>
            <a:ext cx="530280" cy="63360"/>
          </a:xfrm>
          <a:prstGeom prst="rightArrow">
            <a:avLst>
              <a:gd name="adj1" fmla="val 50000"/>
              <a:gd name="adj2" fmla="val 2220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4" name="圆角矩形 54"/>
          <p:cNvSpPr/>
          <p:nvPr/>
        </p:nvSpPr>
        <p:spPr>
          <a:xfrm>
            <a:off x="5046840" y="3083040"/>
            <a:ext cx="4005000" cy="1253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呈功能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及早进行肢体功能锻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15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16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17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8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9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0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1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2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23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24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25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6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7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8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9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0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1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32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33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4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5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36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7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8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9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540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541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2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3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4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5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6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47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548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549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0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1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2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3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4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55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6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57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558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559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0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1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62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3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64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65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66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67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8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9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70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1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2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3B22-DFFA-4EAD-A48E-EA087977B80D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5" name="AutoShape 53"/>
          <p:cNvSpPr/>
          <p:nvPr/>
        </p:nvSpPr>
        <p:spPr>
          <a:xfrm flipV="1">
            <a:off x="3429000" y="4368240"/>
            <a:ext cx="727200" cy="44280"/>
          </a:xfrm>
          <a:prstGeom prst="rightArrow">
            <a:avLst>
              <a:gd name="adj1" fmla="val 50000"/>
              <a:gd name="adj2" fmla="val 2307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6" name="圆角矩形 54"/>
          <p:cNvSpPr/>
          <p:nvPr/>
        </p:nvSpPr>
        <p:spPr>
          <a:xfrm>
            <a:off x="4546440" y="3456000"/>
            <a:ext cx="436896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昏迷患儿侧卧位，定时翻身及按摩皮肤，防止出现压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77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78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79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0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1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2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3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4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5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86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87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8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9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0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1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2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93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94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95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6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7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8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9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0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1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02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03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4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5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6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7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8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9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10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11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2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3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14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5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6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17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8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19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20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21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2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3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4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5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6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27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28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29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0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1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2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3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4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9059-D98B-458B-9E06-DD5707BB86A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7" name="AutoShape 53"/>
          <p:cNvSpPr/>
          <p:nvPr/>
        </p:nvSpPr>
        <p:spPr>
          <a:xfrm>
            <a:off x="4295880" y="49989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8" name="圆角矩形 54"/>
          <p:cNvSpPr/>
          <p:nvPr/>
        </p:nvSpPr>
        <p:spPr>
          <a:xfrm>
            <a:off x="5351400" y="4479840"/>
            <a:ext cx="3564000" cy="11271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瞳孔及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意识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64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64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4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4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64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64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5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65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65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6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6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7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7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7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7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8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8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8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8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9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9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9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B4D3-4D7E-439F-A401-6434CDAB6B52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9" name="AutoShape 53"/>
          <p:cNvSpPr/>
          <p:nvPr/>
        </p:nvSpPr>
        <p:spPr>
          <a:xfrm>
            <a:off x="3103560" y="57913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0" name="圆角矩形 54"/>
          <p:cNvSpPr/>
          <p:nvPr/>
        </p:nvSpPr>
        <p:spPr>
          <a:xfrm>
            <a:off x="4316400" y="4511520"/>
            <a:ext cx="4599000" cy="1892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向患儿和家长介绍病情、用药指导及护理方法，指导并鼓励家长坚持智力训练和瘫痪肢体的功能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70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70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0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71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71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1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71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71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2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2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72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72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3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73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73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4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4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74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74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5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75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75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5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7" name=""/>
          <p:cNvSpPr txBox="1"/>
          <p:nvPr/>
        </p:nvSpPr>
        <p:spPr>
          <a:xfrm>
            <a:off x="395280" y="1681200"/>
            <a:ext cx="835200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85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57160" indent="-85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8" name="内容占位符 2"/>
          <p:cNvSpPr/>
          <p:nvPr/>
        </p:nvSpPr>
        <p:spPr>
          <a:xfrm>
            <a:off x="617400" y="2349360"/>
            <a:ext cx="790920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系统发育是小儿神经心理行为发展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有器官中神经系统发育居领先地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脑的生长是形态发育与结构功能逐渐成熟的过程，主要是神经细胞体积的增大和与之相连的突触数量的增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0" name="圆角矩形 3"/>
          <p:cNvSpPr/>
          <p:nvPr/>
        </p:nvSpPr>
        <p:spPr>
          <a:xfrm>
            <a:off x="11160" y="1306440"/>
            <a:ext cx="9132840" cy="5118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男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因“发热、神昏抽搐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时”由某医院急诊科收入院，患儿入院时高热，处于中度昏迷状态，频繁抽搐伴意识丧失，喉中痰鸣，大便秘结。查体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39℃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14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3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P105/56mmHg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瞳孔直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m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两侧对称，对光反应迟钝，各生理反射减弱，双侧巴氏征阳性，脑膜刺激征阳性，双眼视盘轻度水肿。脑脊液检查：压力升高，外观清亮，白细胞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以淋巴细胞为主，糖和氯化物正常，蛋白质轻度增高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前曾患有上呼吸道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问题：该患儿的主要护理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1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63" name=""/>
          <p:cNvSpPr txBox="1"/>
          <p:nvPr/>
        </p:nvSpPr>
        <p:spPr>
          <a:xfrm>
            <a:off x="2868120" y="2997000"/>
            <a:ext cx="40165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四节　癫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0FA8-5510-48BD-AE8C-126A41373C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癫 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387360" y="1557000"/>
            <a:ext cx="847728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eizure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于脑部神经元发作性异常放电引起脑功能障碍的一组临床症状，表现为意识障碍、抽搐、精神行为异常等，多数癫痫发作持续时间短暂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pileps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原因引起的脑部慢性疾患，是脑内神经元反复发作性异常放电导致突发性、暂时性脑功能失常，临床出现意识、运动、感觉、精神或自主神经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8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内结构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5F22-8057-4579-8632-CCC7B89316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1" name="矩形 1"/>
          <p:cNvSpPr/>
          <p:nvPr/>
        </p:nvSpPr>
        <p:spPr>
          <a:xfrm>
            <a:off x="395280" y="2871720"/>
            <a:ext cx="84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发生机制十分复杂，迄今尚未完全阐明。许多研究结果表明它的电生理本质是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神经元过度同步放电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结果，与神经生化、神经生理、神经生物学、免疫学等均密切相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3" name="PlaceHolder 2"/>
          <p:cNvSpPr>
            <a:spLocks noGrp="1"/>
          </p:cNvSpPr>
          <p:nvPr>
            <p:ph/>
          </p:nvPr>
        </p:nvSpPr>
        <p:spPr>
          <a:xfrm>
            <a:off x="47304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局灶性发作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单纯局灶性发作：临床以局灶性运动性发作最常见，发作时间平均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秒，发作后无不适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复杂局灶性发作：发作时有意识、知觉损害。意识部分丧失，多起源于颞区或额颞区，伴有精神行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5970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全面部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强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神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肌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张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痉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520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良性癫痫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最常见的一种癫痫综合征。从口面部开始，很快发展至全身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，意识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婴儿痉挛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频繁的强直痉挛发作，表现为屈曲性、伸展性及混合性三种。以屈曲性及混合性发作多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Lennox-Gastaut</a:t>
            </a: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综合征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多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常见肌阵挛、强直、失张力及非典型失神等多种发作，也可有大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3026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持续状态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tatus epilepticu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一次发作持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或反复发作间歇期意识不能完全恢复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者，称为癫痫持续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常因突然停药、药物中毒、高热等诱发。临床多见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持续状态，颅内、外急性疾病均可引起，为儿科急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B8E7-B5C5-4C26-B4E8-EF924FC1CF4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确诊癫痫发作与癫痫最重要的检查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像学检查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I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颅脑影像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783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3850" name="内容占位符 2" descr=""/>
          <p:cNvPicPr/>
          <p:nvPr/>
        </p:nvPicPr>
        <p:blipFill>
          <a:blip r:embed="rId1"/>
          <a:stretch/>
        </p:blipFill>
        <p:spPr>
          <a:xfrm>
            <a:off x="838080" y="1332000"/>
            <a:ext cx="733428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0878-BBFB-4922-9894-D76CC369034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癫痫药物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药物治疗原则是早期用药，根据发作类型选药，以单一用药为主，从小剂量开始直至完全控制发作，长期规律服药，定期复查、监测药物血浓度，注意药物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针对经合理规范的抗癫痫药物治疗其疗效不佳者，属于难治性癫痫，其中部分患儿可以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78E9-8C89-437D-AA9D-630B4E2089E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饥饿、过饱、饮酒、劳累等诱发因素，家庭居住的气候、环境条件，家族中有无类似病史的成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生命体征，了解患儿发作时的临床表现、发作时间及次数等，了解相关影像学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了解可能引发疾病的社会及环境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53CE-8691-40F8-AFDB-7B4AFFB2037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2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窒息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喉痉挛、呼吸道分泌物增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癫痫发作时抽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水肿、酸中毒、呼吸衰竭、循环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知识缺乏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儿家长缺乏癫痫发作的急救知识及正确服用抗癫痫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EEE9-55C4-40D8-A175-2129DE64ED2B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5" name="AutoShape 53"/>
          <p:cNvSpPr/>
          <p:nvPr/>
        </p:nvSpPr>
        <p:spPr>
          <a:xfrm>
            <a:off x="3571920" y="1914480"/>
            <a:ext cx="488880" cy="46080"/>
          </a:xfrm>
          <a:prstGeom prst="rightArrow">
            <a:avLst>
              <a:gd name="adj1" fmla="val 50000"/>
              <a:gd name="adj2" fmla="val 2205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6" name="圆角矩形 54"/>
          <p:cNvSpPr/>
          <p:nvPr/>
        </p:nvSpPr>
        <p:spPr>
          <a:xfrm>
            <a:off x="4214880" y="1563840"/>
            <a:ext cx="4929120" cy="780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97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798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799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0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1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02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3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4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05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06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07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8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9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0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1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2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13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814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15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6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7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8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9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0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21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22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23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4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5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6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7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8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9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0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1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32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33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4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5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36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7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38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3376-CB64-4CE6-8AB1-ED9FFCACDED9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1" name="AutoShape 53"/>
          <p:cNvSpPr/>
          <p:nvPr/>
        </p:nvSpPr>
        <p:spPr>
          <a:xfrm>
            <a:off x="3368520" y="28098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2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操作时勿强行按压肢体，以免引起骨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护患儿肢体，防止皮肤破损、骨折或脱臼、坠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活动与休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43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44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45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6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7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48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9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0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1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52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53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4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5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56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7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8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9" name="Group 4"/>
          <p:cNvGrpSpPr/>
          <p:nvPr/>
        </p:nvGrpSpPr>
        <p:grpSpPr>
          <a:xfrm>
            <a:off x="196920" y="1565280"/>
            <a:ext cx="2997720" cy="748800"/>
            <a:chOff x="196920" y="1565280"/>
            <a:chExt cx="2997720" cy="748800"/>
          </a:xfrm>
        </p:grpSpPr>
        <p:grpSp>
          <p:nvGrpSpPr>
            <p:cNvPr id="4860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61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2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3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64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5" name="Text Box 10"/>
            <p:cNvSpPr/>
            <p:nvPr/>
          </p:nvSpPr>
          <p:spPr>
            <a:xfrm>
              <a:off x="155412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气道通畅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6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67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68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69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0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1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72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3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4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75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6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77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78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79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0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1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2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3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84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207B-0CC1-4BDC-925F-BF3688407F4F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7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8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癫痫发作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循环衰竭的征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患儿经抗癫痫治疗后，癫痫发作、智力和运动发育等状况的转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9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90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91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2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3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94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5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6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97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98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99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0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1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02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3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4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05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06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07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8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9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0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1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2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13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14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15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6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7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8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9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0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21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2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23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24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25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6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7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28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9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30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CA7C-EA1D-4FAC-8A46-D53317CAE214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3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4" name="圆角矩形 54"/>
          <p:cNvSpPr/>
          <p:nvPr/>
        </p:nvSpPr>
        <p:spPr>
          <a:xfrm>
            <a:off x="4495680" y="3833640"/>
            <a:ext cx="4324320" cy="2654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围生期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家长合理安排患儿的生活与学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除患儿的精神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35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936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937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8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9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0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1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2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43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944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945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6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7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8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9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0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1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52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53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4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5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6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7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8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9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60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61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2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3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4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5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6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67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8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69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70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71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2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3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74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5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76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78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五节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7E4F-9898-445C-9760-342128B928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  <a:ea typeface="黑体"/>
            </a:endParaRPr>
          </a:p>
        </p:txBody>
      </p:sp>
      <p:sp>
        <p:nvSpPr>
          <p:cNvPr id="4981" name="PlaceHolder 2"/>
          <p:cNvSpPr>
            <a:spLocks noGrp="1"/>
          </p:cNvSpPr>
          <p:nvPr>
            <p:ph/>
          </p:nvPr>
        </p:nvSpPr>
        <p:spPr>
          <a:xfrm>
            <a:off x="390600" y="2276280"/>
            <a:ext cx="8477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感染性多发性神经根神经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uillain-Barre syndrome, GB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小儿最常见的急性周围神经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3" name="PlaceHolder 2"/>
          <p:cNvSpPr>
            <a:spLocks noGrp="1"/>
          </p:cNvSpPr>
          <p:nvPr>
            <p:ph/>
          </p:nvPr>
        </p:nvSpPr>
        <p:spPr>
          <a:xfrm>
            <a:off x="394920" y="242064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因尚未完全明确。多数学者认为本病是免疫介导的迟发型超敏反应，感染是启动免疫反应的首要因素。最主要的感染因子为空肠弯曲菌、巨细胞病毒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、带状疱疹病毒、肺炎支原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2" name="内容占位符 2"/>
          <p:cNvSpPr/>
          <p:nvPr/>
        </p:nvSpPr>
        <p:spPr>
          <a:xfrm>
            <a:off x="500040" y="1844640"/>
            <a:ext cx="8110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生时已具备功能，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构造已接近成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髓末端：新生儿期位于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下缘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上移至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8F98-2C66-4AFE-9D28-A06A148138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5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6" name="矩形 1"/>
          <p:cNvSpPr/>
          <p:nvPr/>
        </p:nvSpPr>
        <p:spPr>
          <a:xfrm>
            <a:off x="668160" y="2349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感染、创伤、手术等刺激因素改变机体的免疫系统，导致淋巴细胞对髓鞘敏感，出现髓鞘损伤和神经脱髓鞘的现象，运动、感觉神经冲动传导速度减慢甚至停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运动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进行性肌无力是最突出的表现。多数患儿自肢体远端开始呈上行性麻痹进展，急性起病者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4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即可出现严重的肢体瘫痪以及呼吸机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脑神经麻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对称或不对称的脑神经麻痹，以面神经受损引起的面瘫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0" name="PlaceHolder 2"/>
          <p:cNvSpPr>
            <a:spLocks noGrp="1"/>
          </p:cNvSpPr>
          <p:nvPr>
            <p:ph/>
          </p:nvPr>
        </p:nvSpPr>
        <p:spPr>
          <a:xfrm>
            <a:off x="4906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感觉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早期即有肌肉疼痛，下肢远端出现不同程度的感觉异常和麻木感。年长儿可表现为手套或袜套状分布感觉减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自主神经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较轻微，可出现视物不清，多汗、面色潮红、腹痛、便秘，一过性尿潴留，血压轻度升高或心率失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A1B2-9C87-4751-BFEE-E88EA101DE6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蛋白细胞分离现象，是本病特征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肌电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系统检查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肌力评定、运动能力和深浅感觉等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994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8DF8-7D47-4A0B-95C6-708D5362C64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7" name="PlaceHolder 2"/>
          <p:cNvSpPr>
            <a:spLocks noGrp="1"/>
          </p:cNvSpPr>
          <p:nvPr>
            <p:ph/>
          </p:nvPr>
        </p:nvSpPr>
        <p:spPr>
          <a:xfrm>
            <a:off x="311040" y="136044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药物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疾病初期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）大剂量应用人血免疫球蛋白可明显延缓本病进展速度，减轻极期症状的严重程度，降低气管切开及机械通气的概率。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4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脉注射，连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对症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神经根水肿，可给予甘露醇或短期应用肾上腺皮质激素；积极治疗呼吸肌麻痹，严重病例应及时给予机械通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551E-F069-47EF-9F60-AFE16EF9198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9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0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病毒感染、创伤、手术等刺激因素，询问家庭居住的气候、环境条件，家族中有无类似病史的成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患儿肌力变化，注意呼吸及运动感觉功能，了解实验室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家长对该病的预后、疾病的护理方法、药物的副作用等知识的认识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AEA7-D01A-4949-8952-8E8C321C2012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感觉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效性呼吸型态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呼吸肌瘫痪、咳嗽反射消失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吞咽困难影响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皮肤完整性受损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长期卧床、感觉异常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4E8B-77C4-49D7-A9E8-1D1B85F2C8E9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6" name="AutoShape 53"/>
          <p:cNvSpPr/>
          <p:nvPr/>
        </p:nvSpPr>
        <p:spPr>
          <a:xfrm>
            <a:off x="4124160" y="19890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7" name="圆角矩形 54"/>
          <p:cNvSpPr/>
          <p:nvPr/>
        </p:nvSpPr>
        <p:spPr>
          <a:xfrm>
            <a:off x="4670280" y="1400040"/>
            <a:ext cx="4245120" cy="18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于功能位置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帮助患儿做肢体被动运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恢复期鼓励、指导、督促患儿自主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08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09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10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1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2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13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4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5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16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17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18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9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0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1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2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3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24" name="Group 4"/>
          <p:cNvGrpSpPr/>
          <p:nvPr/>
        </p:nvGrpSpPr>
        <p:grpSpPr>
          <a:xfrm>
            <a:off x="196920" y="1581120"/>
            <a:ext cx="3392640" cy="748800"/>
            <a:chOff x="196920" y="1581120"/>
            <a:chExt cx="3392640" cy="748800"/>
          </a:xfrm>
        </p:grpSpPr>
        <p:grpSp>
          <p:nvGrpSpPr>
            <p:cNvPr id="5025" name="Group 5"/>
            <p:cNvGrpSpPr/>
            <p:nvPr/>
          </p:nvGrpSpPr>
          <p:grpSpPr>
            <a:xfrm>
              <a:off x="196920" y="1581120"/>
              <a:ext cx="792720" cy="748800"/>
              <a:chOff x="196920" y="1581120"/>
              <a:chExt cx="792720" cy="748800"/>
            </a:xfrm>
          </p:grpSpPr>
          <p:sp>
            <p:nvSpPr>
              <p:cNvPr id="5026" name="AutoShape 6"/>
              <p:cNvSpPr/>
              <p:nvPr/>
            </p:nvSpPr>
            <p:spPr>
              <a:xfrm>
                <a:off x="203400" y="15937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7" name="AutoShape 7"/>
              <p:cNvSpPr/>
              <p:nvPr/>
            </p:nvSpPr>
            <p:spPr>
              <a:xfrm>
                <a:off x="196920" y="158112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8" name="AutoShape 8"/>
              <p:cNvSpPr/>
              <p:nvPr/>
            </p:nvSpPr>
            <p:spPr>
              <a:xfrm>
                <a:off x="243000" y="162540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9" name="Line 9"/>
            <p:cNvSpPr/>
            <p:nvPr/>
          </p:nvSpPr>
          <p:spPr>
            <a:xfrm>
              <a:off x="796680" y="222984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0" name="Text Box 10"/>
            <p:cNvSpPr/>
            <p:nvPr/>
          </p:nvSpPr>
          <p:spPr>
            <a:xfrm>
              <a:off x="1702080" y="16437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1" name="Text Box 11"/>
            <p:cNvSpPr/>
            <p:nvPr/>
          </p:nvSpPr>
          <p:spPr>
            <a:xfrm>
              <a:off x="381960" y="1638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32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33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34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5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6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37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8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9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0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1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42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43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44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5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6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7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8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9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EACD-6818-4BC3-8C85-555F0C920DCC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2" name="AutoShape 53"/>
          <p:cNvSpPr/>
          <p:nvPr/>
        </p:nvSpPr>
        <p:spPr>
          <a:xfrm>
            <a:off x="3624120" y="27972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3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室内空气新鲜，温、湿度适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呼吸道通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呼吸困难者给予低流量氧气吸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54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55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56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7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8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59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0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1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62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63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64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5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6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67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8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9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0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071" name="Group 5"/>
            <p:cNvGrpSpPr/>
            <p:nvPr/>
          </p:nvGrpSpPr>
          <p:grpSpPr>
            <a:xfrm>
              <a:off x="196920" y="1565280"/>
              <a:ext cx="792360" cy="748800"/>
              <a:chOff x="196920" y="1565280"/>
              <a:chExt cx="792360" cy="748800"/>
            </a:xfrm>
          </p:grpSpPr>
          <p:sp>
            <p:nvSpPr>
              <p:cNvPr id="5072" name="AutoShape 6"/>
              <p:cNvSpPr/>
              <p:nvPr/>
            </p:nvSpPr>
            <p:spPr>
              <a:xfrm>
                <a:off x="203400" y="157788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3" name="AutoShape 7"/>
              <p:cNvSpPr/>
              <p:nvPr/>
            </p:nvSpPr>
            <p:spPr>
              <a:xfrm>
                <a:off x="196920" y="15652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4" name="AutoShape 8"/>
              <p:cNvSpPr/>
              <p:nvPr/>
            </p:nvSpPr>
            <p:spPr>
              <a:xfrm>
                <a:off x="243000" y="1609560"/>
                <a:ext cx="689760" cy="647280"/>
              </a:xfrm>
              <a:prstGeom prst="hexagon">
                <a:avLst>
                  <a:gd name="adj" fmla="val 2668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75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6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7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8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79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80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1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2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83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4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5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86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7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88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89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90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1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2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93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94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95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FB12-03D2-447E-988F-990514AE2F1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8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9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高蛋白、高能量、高维生素易消化饮食，少量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00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01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02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3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4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5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6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7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08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09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10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1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2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3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4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5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16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17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18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9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0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1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2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3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24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25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26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7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8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9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0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1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32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3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34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35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36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7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8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39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0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41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55" name="图片 5" descr="5.jpg"/>
          <p:cNvPicPr/>
          <p:nvPr/>
        </p:nvPicPr>
        <p:blipFill>
          <a:blip r:embed="rId1"/>
          <a:stretch/>
        </p:blipFill>
        <p:spPr>
          <a:xfrm>
            <a:off x="1227240" y="1488960"/>
            <a:ext cx="676584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7E2C-FD70-41DB-A8A1-193B249F60F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4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5" name="圆角矩形 54"/>
          <p:cNvSpPr/>
          <p:nvPr/>
        </p:nvSpPr>
        <p:spPr>
          <a:xfrm>
            <a:off x="4284720" y="4103640"/>
            <a:ext cx="4324320" cy="2338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预防压疮。教会家长帮助患儿进行训练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恢复期患儿坚持瘫痪肢体的主动锻炼，定期进行门诊复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46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47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48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9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0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1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2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3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4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55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56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7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8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9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0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1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62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63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64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5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6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67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8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9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70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71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72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3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4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5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6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7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78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9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0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81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82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3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4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5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6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87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189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六节　注意力缺陷多动症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40A9-C4E5-48A7-B93E-CE374508EA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注意力缺陷多动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390600" y="1989000"/>
            <a:ext cx="8477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轻微脑功能障碍综合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inimal brain dysfunction syndrome, M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以与年龄不相称的多动、注意力不集中、任性、易冲动为主要特征的行为障碍，是一种常见的小儿行为异常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533160" y="2492280"/>
            <a:ext cx="83818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病由多种因素引起。有研究证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明显的遗传倾向；此外，与各种原因导致的脑损伤有关，如妊娠及分娩期脑轻微损伤、神经发育延迟或损害等；不良社会和家庭环境等也可能是致病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6834-BDEC-4E6F-8766-398D89A202E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6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7" name="矩形 1"/>
          <p:cNvSpPr/>
          <p:nvPr/>
        </p:nvSpPr>
        <p:spPr>
          <a:xfrm>
            <a:off x="668160" y="234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4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多肽性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有关，它主要分布在额叶，它的异常提示额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元功能低下引发注意障碍。分子生物学研究多巴胺代谢异常或敏感性增高，其他研究多集中在丘脑、网状激活系统和前中脑束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注意缺陷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的表现欲年龄明显不相称，注意集中困难和注意持续时间短暂，是本症的核心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活动过多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为患者经常显得不安宁，小动作多，不能安静坐着，在座位上扭来扭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行为冲动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冲动，在信息不充分的情况下快速地做出行为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42472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学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神经系统发育异常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的精细动作、协调运动、空间位置觉等发育较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品行障碍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行障碍表现为攻击性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4FB5-4732-475E-9798-8CC38CB2B07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4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35164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graphicFrame>
        <p:nvGraphicFramePr>
          <p:cNvPr id="5205" name=""/>
          <p:cNvGraphicFramePr/>
          <p:nvPr/>
        </p:nvGraphicFramePr>
        <p:xfrm>
          <a:off x="287280" y="1628640"/>
          <a:ext cx="8567640" cy="4646880"/>
        </p:xfrm>
        <a:graphic>
          <a:graphicData uri="http://schemas.openxmlformats.org/drawingml/2006/table">
            <a:tbl>
              <a:tblPr/>
              <a:tblGrid>
                <a:gridCol w="4554720"/>
                <a:gridCol w="4012920"/>
              </a:tblGrid>
              <a:tr h="454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意力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多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易受外来影响而激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教室常常离开座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监督时难以有始有终地完成任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未加思考即开始行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持久性集中注意力（作业、游戏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集体活动中常不按次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听不进别人说什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在问题尚未说完时即抢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经常丢失生活和学习用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安静地玩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学校课堂注意力分散、成绩不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做出过分的行动如爬高、乱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能组织达到一定目的的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与危险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一事未完又做另一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坐立不安、动手动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干扰别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说话过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06" name="矩形 2"/>
          <p:cNvSpPr/>
          <p:nvPr/>
        </p:nvSpPr>
        <p:spPr>
          <a:xfrm>
            <a:off x="2925360" y="109224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H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诊断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BAC1-B65D-4E78-9420-3A0B3ADA9802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9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长、教师、医务人员密切配合，尽可能寻找并去除致病诱因，减轻患儿精神负担，减少不良刺激，发现优点及时表扬，增强其自信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用药护理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需要药物治疗的患儿应指导用药方法，并注意对药物的疗效及副作用进行监测。以精神兴奋剂最为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22FE-A6E9-4467-90BF-3D00387F697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1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2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仔细询问产前、产时及产后是否存在导致轻度脑损害的因素，评估患儿生活及居住环境，了解患儿父母的行为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意障碍、多动、情绪冲动、学习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及家长的心理状态。家长及周围人群往往对患儿产生厌烦心理，加上周围人群的歧视，会导致患儿失去自信心，产生自悲心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7" name=""/>
          <p:cNvSpPr txBox="1"/>
          <p:nvPr/>
        </p:nvSpPr>
        <p:spPr>
          <a:xfrm>
            <a:off x="395280" y="1699920"/>
            <a:ext cx="8352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及正常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脑脊液成分与成人相同，为无色碱性液体，内含蛋白质、糖、淋巴细胞和盐类物质，其比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小儿脑脊液随着年龄的增长和脑室的发育逐渐增加，新生儿脑积液的量少、压力低，故抽取脑脊液较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EFBB-B40D-4510-9A44-94B6FA670C9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0597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思维紊乱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注意力不集中、活动过度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常有攻击破坏行为和学习成绩落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社会交往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任性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外伤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多动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08FF-87AA-4EFB-ADB6-320999EC826F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8" name="矩形 1"/>
          <p:cNvSpPr/>
          <p:nvPr/>
        </p:nvSpPr>
        <p:spPr>
          <a:xfrm>
            <a:off x="264960" y="1219320"/>
            <a:ext cx="84614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常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其参与文体活动，以释放多余精力并训练其注意力，同时增强其自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患儿制定简单可行的生活制度，循序渐进地培养其注意力和控制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针对其特点合理安排课程和学习计划，改进学习方法，提高学习成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指导患儿及家长采用专业的行为矫正治疗，矫正患儿的多动和冲动，提高其学习能力和社会交往能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0093-B7CE-41E4-97DC-CF6A0C735FDF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1" name="矩形 1"/>
          <p:cNvSpPr/>
          <p:nvPr/>
        </p:nvSpPr>
        <p:spPr>
          <a:xfrm>
            <a:off x="407880" y="1557360"/>
            <a:ext cx="848196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向患儿及家长介绍本病的相关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解释药物治疗同时加强教育及心理护理的重要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同情、关心爱护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有不良习惯和学习困难的患儿，不断增强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于患儿的一些攻击性和破坏性行为要严加制止，但应注意方式方法，保护患儿的自尊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庭、学校、社会应协调一致，以取得最佳的教育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6:56:19Z</dcterms:modified>
  <cp:revision>2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