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obo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4-12-17T15:34:24.953000000" idx="1">
    <p:pos x="5760" y="35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CC75F-1E1A-454B-B5E7-CC7899ECBD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7633-22FF-4F23-A24C-2E2EA566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5F12-A837-4A8E-AD65-76F6DC78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65E5-07AF-451E-88EB-98D1A17DD3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6487-CFDF-4BF3-B24D-434FE52D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CCDA-41C3-47C3-B8EE-2C0D7A4B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74F0D-0434-4DD4-9CCF-82794702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3752-9E94-42E5-8C4C-32BA7B47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E629-5B21-4BEF-83E5-008AC5BA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0FB7A-E940-4166-BAAB-578A9770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3FFF-8317-428D-8B8A-45B0446A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A2F03-188F-40E6-8A6C-0D38782F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F004-5AB8-410F-AE77-627D606AB67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8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第十一章</a:t>
            </a:r>
            <a:br>
              <a:rPr sz="4400"/>
            </a:b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内分泌系统功能监护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640" y="1844280"/>
            <a:ext cx="54914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节 临床监护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87640" y="304560"/>
            <a:ext cx="232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圆角矩形 3"/>
          <p:cNvSpPr/>
          <p:nvPr/>
        </p:nvSpPr>
        <p:spPr>
          <a:xfrm>
            <a:off x="395280" y="141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患者，唐女士，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因“心悸、双手颤抖半年余”入院，患者入院前半年开始出现心悸、双手颤抖，易出汗、烦躁和激动；近半年食欲增加，体重却下降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k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夜间睡眠时间明显减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68360" y="3141720"/>
            <a:ext cx="7775640" cy="1800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查体：患者双眼突出、甲状腺双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度肿大，全身皮肤黏膜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提示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剪去单角的矩形 6"/>
          <p:cNvSpPr/>
          <p:nvPr/>
        </p:nvSpPr>
        <p:spPr>
          <a:xfrm>
            <a:off x="39528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4360" y="1408680"/>
            <a:ext cx="64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349236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1559880"/>
            <a:ext cx="6408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病经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史和家族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1345680"/>
            <a:ext cx="6409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黏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颈部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肢、脊柱、骨关节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殖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32000" y="1130400"/>
            <a:ext cx="655308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： 激素及代谢产物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液和尿生化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影像学检查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检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检查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性动脉造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射性核素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0000" y="2074320"/>
            <a:ext cx="7056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体温：甲亢危象体温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甲状腺功能低下体温低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脉搏：重点监测脉率、心率和心律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：呼吸频率、节律和形态，不同疾病呼吸异常表现不一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血压：多种内分泌疾病均可引起血压异常，防低血压休克和高血压危象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患者有无嗜睡、意识模糊、表情淡漠、谵妄幻觉、定向障碍、癫痫样抽搐的表现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55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史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静脉血葡萄糖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腹葡萄糖测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服葡萄糖耐量试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al glucose tolerance test ,OGT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：是指在清晨给成人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求之前禁食至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采集空腹静脉血后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服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，然后分别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采集静脉血测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毛细血管血葡萄糖测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时间的快速血糖仪血糖值有着不同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7072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应激性高血糖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R 3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患者为什么会出现高血糖现象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应用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临床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应激性高血糖患者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r>
              <a:rPr b="1" lang="en-US" sz="3400" spc="-1" strike="noStrike">
                <a:solidFill>
                  <a:srgbClr val="ffffff"/>
                </a:solidFill>
                <a:latin typeface="Verdana"/>
                <a:ea typeface="宋体"/>
              </a:rPr>
              <a:t>(diabetes mellitus DM)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尿病是一组由多病因引起的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慢性高血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特征的代谢性疾病，是由于胰岛素分泌和（或）作用缺陷所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7" name="Picture 4" descr="$GZZH4~LP0AM6`ZD1V4IJDP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1629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化血红蛋白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bA1c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826920" y="1557360"/>
            <a:ext cx="7561440" cy="4392720"/>
          </a:xfrm>
          <a:prstGeom prst="wedgeRoundRectCallout">
            <a:avLst>
              <a:gd name="adj1" fmla="val -19365"/>
              <a:gd name="adj2" fmla="val -19462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映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正常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完全符合糖尿病条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一 应激性高血糖的概念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：是指机体在受到严重创伤、脑血管意外、急性心肌梗死、感染、休克等强烈刺激时出现的以血糖升高、尿糖以及糖耐量降低为主要表现的病理现象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可的标准为：当机体受到强烈刺激时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空腹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9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随机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1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为应激性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的区别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6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糖高，糖化血红蛋白正常，是应激性高血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两者同时增高，可能是糖尿病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971640" y="3068640"/>
            <a:ext cx="7200720" cy="3044880"/>
          </a:xfrm>
          <a:prstGeom prst="wedgeRoundRectCallout">
            <a:avLst>
              <a:gd name="adj1" fmla="val -21847"/>
              <a:gd name="adj2" fmla="val -49893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应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考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该患者更符合“应激性高血糖”的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63360"/>
            <a:ext cx="86104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共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糖以及高血糖引起的高渗、高感染、糖耐量降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在多种应激疾病中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为急性、短时间的血糖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以外周“胰岛素抵抗”为突出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数应激性高血糖患者血清胰岛素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肽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伴随高代谢，以糖异生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二 应激性高血糖的发生机制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6140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神经内分泌参与的激素调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 action="ppaction://hlinksldjump"/>
              </a:rPr>
              <a:t>胰岛素抵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 action="ppaction://hlinksldjump"/>
              </a:rPr>
              <a:t>细胞因子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 action="ppaction://hlinksldjump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3" descr="C:\Users\Administrator\Desktop\最终2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内分泌参与的激素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81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4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内分泌系统疾病的护理评估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内分泌与激素对维持内环境稳定性的重要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应激性高血糖对机体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应激性高血糖患者病情，为其制订护理计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55F7-83C7-4B35-AD83-7EC593947F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50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浆中葡萄糖的合成与分解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11-2"/>
          <p:cNvPicPr/>
          <p:nvPr/>
        </p:nvPicPr>
        <p:blipFill>
          <a:blip r:embed="rId3"/>
          <a:stretch/>
        </p:blipFill>
        <p:spPr>
          <a:xfrm>
            <a:off x="684360" y="1127160"/>
            <a:ext cx="73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472464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机体对胰岛素抵抗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3440" y="1617480"/>
            <a:ext cx="805320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外周组织对葡萄糖的摄取和利用降低，体内存在“高胰岛素、高血糖”水平现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胰岛素抵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IR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三种形式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胰岛素的效应器官（靶器官）对胰岛素的敏感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反应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敏感性和反应性均降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研究表明：危重患者常出现胰岛素抵抗现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细胞因子的作用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肿瘤坏死因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NF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1(IL-1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6(IL-6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些药物如利尿剂、抗结核药物、肠内肠外营养支持、甲状腺素、生长激素、糖皮质激素、甘露醇等均可导致血糖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3" descr="1305091749532094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5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349855532"/>
          <p:cNvPicPr/>
          <p:nvPr/>
        </p:nvPicPr>
        <p:blipFill>
          <a:blip r:embed="rId2"/>
          <a:stretch/>
        </p:blipFill>
        <p:spPr>
          <a:xfrm>
            <a:off x="5943600" y="533520"/>
            <a:ext cx="2732040" cy="262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dministrator\Desktop\最终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三 应激性高血糖的危害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1640" y="1484280"/>
            <a:ext cx="7467480" cy="7336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电解质和酸碱平衡紊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2920" y="2565360"/>
            <a:ext cx="7391520" cy="1373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力下降，伤口愈合延迟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发生感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4292640"/>
            <a:ext cx="7467480" cy="7336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严重者可导致酮症酸中毒或高渗高血糖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四 应激性高血糖的控制策略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控制原发病，尽早脱离应激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选小剂量胰岛素静脉微量泵入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用药添加胰岛素对抗（胰：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685800" y="1676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97180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积极控制原发病，尽早脱离应激原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4120" y="1700280"/>
            <a:ext cx="7972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术中循环稳定，改进手术技术，缩短手术时间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术后做好镇静、镇痛、降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好术后血液循环，维持水电解质酸碱平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改善心肺功能，降低肺高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预防和抗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危重患者血糖目标</a:t>
            </a: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84360" y="3068640"/>
            <a:ext cx="8229600" cy="2808360"/>
          </a:xfrm>
          <a:prstGeom prst="wedgeRectCallout">
            <a:avLst>
              <a:gd name="adj1" fmla="val -25694"/>
              <a:gd name="adj2" fmla="val -84990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糖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开始静脉小剂量胰岛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血糖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目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2440"/>
            <a:ext cx="7201080" cy="18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胰岛素的配制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9%NS50ml+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U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1U/ml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ml/h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U/h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7" name="Picture 4" descr="2005101370889721"/>
          <p:cNvPicPr/>
          <p:nvPr/>
        </p:nvPicPr>
        <p:blipFill>
          <a:blip r:embed="rId1"/>
          <a:stretch/>
        </p:blipFill>
        <p:spPr>
          <a:xfrm>
            <a:off x="4595760" y="4191120"/>
            <a:ext cx="4548240" cy="241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48520" y="2514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095880" y="2133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1866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aramond"/>
                <a:ea typeface="宋体"/>
              </a:rPr>
              <a:t>胰岛素的用量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根据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血糖水平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变化幅度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调节胰岛素的用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2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QQ图片20141218203706"/>
          <p:cNvPicPr/>
          <p:nvPr/>
        </p:nvPicPr>
        <p:blipFill>
          <a:blip r:embed="rId2"/>
          <a:stretch/>
        </p:blipFill>
        <p:spPr>
          <a:xfrm>
            <a:off x="533520" y="2743200"/>
            <a:ext cx="807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67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内分泌系统应用生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648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下降的幅度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糖下降的速度太快，容易造成脑水肿和低血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601956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354440" y="4913280"/>
            <a:ext cx="1227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/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02920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ac8d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516096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态调整胰岛素用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76212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6969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505320" y="1828800"/>
            <a:ext cx="790560" cy="1976400"/>
            <a:chOff x="3505320" y="1828800"/>
            <a:chExt cx="790560" cy="1976400"/>
          </a:xfrm>
        </p:grpSpPr>
        <p:sp>
          <p:nvSpPr>
            <p:cNvPr id="253" name="Freeform 6"/>
            <p:cNvSpPr/>
            <p:nvPr/>
          </p:nvSpPr>
          <p:spPr>
            <a:xfrm>
              <a:off x="3697560" y="18288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505320" y="22748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3000" y="40384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U/h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U/h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34120" y="4114800"/>
            <a:ext cx="281916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~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速度不变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降低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345120" y="1219320"/>
            <a:ext cx="3213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最近两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糖值调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332160" y="2362320"/>
            <a:ext cx="114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4876920" y="2209680"/>
            <a:ext cx="790560" cy="1976400"/>
            <a:chOff x="4876920" y="2209680"/>
            <a:chExt cx="790560" cy="1976400"/>
          </a:xfrm>
        </p:grpSpPr>
        <p:sp>
          <p:nvSpPr>
            <p:cNvPr id="260" name="Freeform 13"/>
            <p:cNvSpPr/>
            <p:nvPr/>
          </p:nvSpPr>
          <p:spPr>
            <a:xfrm>
              <a:off x="5069160" y="22096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4876920" y="26557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15"/>
          <p:cNvSpPr/>
          <p:nvPr/>
        </p:nvSpPr>
        <p:spPr>
          <a:xfrm>
            <a:off x="4952880" y="2819520"/>
            <a:ext cx="43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55680"/>
            <a:ext cx="7853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266" name="Group 4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267" name="AutoShape 5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ad7e7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6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7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用法用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9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7272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血糖下降幅度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10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动态调整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Text Box 11"/>
            <p:cNvSpPr/>
            <p:nvPr/>
          </p:nvSpPr>
          <p:spPr>
            <a:xfrm>
              <a:off x="762120" y="3471840"/>
              <a:ext cx="1730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2759040" y="3484440"/>
              <a:ext cx="1730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4746600" y="3484440"/>
              <a:ext cx="173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6" name="AutoShape 14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15" descr="QQ图片20141218203706"/>
          <p:cNvPicPr/>
          <p:nvPr/>
        </p:nvPicPr>
        <p:blipFill>
          <a:blip r:embed="rId1"/>
          <a:stretch/>
        </p:blipFill>
        <p:spPr>
          <a:xfrm>
            <a:off x="685800" y="2895480"/>
            <a:ext cx="5486400" cy="246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6"/>
          <p:cNvSpPr/>
          <p:nvPr/>
        </p:nvSpPr>
        <p:spPr>
          <a:xfrm>
            <a:off x="5257800" y="3733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17" descr="7(HJ_G]HNNNZ2XIHVCH9{25"/>
          <p:cNvPicPr/>
          <p:nvPr/>
        </p:nvPicPr>
        <p:blipFill>
          <a:blip r:embed="rId2"/>
          <a:stretch/>
        </p:blipFill>
        <p:spPr>
          <a:xfrm>
            <a:off x="685800" y="297180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4"/>
          <a:stretch/>
        </p:blipFill>
        <p:spPr>
          <a:xfrm>
            <a:off x="6858000" y="3276720"/>
            <a:ext cx="2000160" cy="100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最终2.jpg"/>
          <p:cNvPicPr/>
          <p:nvPr/>
        </p:nvPicPr>
        <p:blipFill>
          <a:blip r:embed="rId5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 应激性高血糖患者的护理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893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观察病情变化，积极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监测血糖的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正确的营养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低血糖的预防及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加强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1880" y="431280"/>
            <a:ext cx="695484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观察病情变化，预防并发症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03440" y="1372680"/>
            <a:ext cx="773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密观察患者生命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呼吸道管理，根据情况实施胸部物理治疗，预防呼吸系统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确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和每小时尿量，合理补液，预防休克的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电解质和酸碱的变化  遵医嘱正确采集血标本送检，定时监测血酮、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，及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基础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441324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监测频率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533520" y="1447920"/>
            <a:ext cx="8152920" cy="4800240"/>
            <a:chOff x="533520" y="1447920"/>
            <a:chExt cx="8152920" cy="4800240"/>
          </a:xfrm>
        </p:grpSpPr>
        <p:sp>
          <p:nvSpPr>
            <p:cNvPr id="291" name="AutoShape 4"/>
            <p:cNvSpPr/>
            <p:nvPr/>
          </p:nvSpPr>
          <p:spPr>
            <a:xfrm>
              <a:off x="533520" y="1447920"/>
              <a:ext cx="8152920" cy="1489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712080" y="158544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608c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08920" y="1663920"/>
              <a:ext cx="785160" cy="608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e1ed"/>
                </a:gs>
                <a:gs pos="50000">
                  <a:srgbClr val="8ac8de">
                    <a:alpha val="0"/>
                  </a:srgbClr>
                </a:gs>
                <a:gs pos="100000">
                  <a:srgbClr val="bfe1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1291320" y="191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98760" y="1678320"/>
              <a:ext cx="59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治疗初期，应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时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稳定后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胰岛素输注速度改变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测一次血糖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AutoShape 9"/>
            <p:cNvSpPr/>
            <p:nvPr/>
          </p:nvSpPr>
          <p:spPr>
            <a:xfrm>
              <a:off x="533520" y="3094560"/>
              <a:ext cx="8152920" cy="148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AutoShape 10"/>
            <p:cNvSpPr/>
            <p:nvPr/>
          </p:nvSpPr>
          <p:spPr>
            <a:xfrm>
              <a:off x="712080" y="323028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808920" y="330876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1292400" y="356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98760" y="3296160"/>
              <a:ext cx="599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糖变化迅速（即使在理想范围）或在严重范围，如＜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3.5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或＞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0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则需要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0.5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测一次血糖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AutoShape 14"/>
            <p:cNvSpPr/>
            <p:nvPr/>
          </p:nvSpPr>
          <p:spPr>
            <a:xfrm>
              <a:off x="533520" y="4759200"/>
              <a:ext cx="8152920" cy="14889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AutoShape 15"/>
            <p:cNvSpPr/>
            <p:nvPr/>
          </p:nvSpPr>
          <p:spPr>
            <a:xfrm>
              <a:off x="712080" y="4896360"/>
              <a:ext cx="1570680" cy="12182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b523"/>
                </a:gs>
                <a:gs pos="100000">
                  <a:srgbClr val="9a7e1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808920" y="497484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db94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1291320" y="52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2498760" y="4962240"/>
              <a:ext cx="59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行肠内或肠外营养的危重患者，常规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次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检测血糖，警惕进食后高血糖和进食中断后的低血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0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"/>
          <p:cNvPicPr/>
          <p:nvPr/>
        </p:nvPicPr>
        <p:blipFill>
          <a:blip r:embed="rId2"/>
          <a:stretch/>
        </p:blipFill>
        <p:spPr>
          <a:xfrm>
            <a:off x="1066680" y="1600200"/>
            <a:ext cx="7086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34720" y="431640"/>
            <a:ext cx="501012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3" name="Picture 4" descr="4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7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57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正确的营养支持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应激性高血糖的危重患者，应尽早进行合理的肠内、肠外营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高能量、高葡萄糖的饮食，建议选择低碳水化合物、高单不饱和脂肪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UF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的配方，其中膳食纤维和其他微量元素在控制血糖中也有着重要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的研究和实验证明：糖尿病专用配方能很好的控制血糖的水平，减少胰岛素用量，而降低了低血糖的风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论鼻饲还是静脉滴注营养液，在使用过程中都应当持续、匀速输注，避免血糖波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低血糖的预防及处理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947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在处理危重患者的应激性高血糖的过程中，应密切观察病情，定时监测血糖，及时调整胰岛素入量，防止因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胰岛素使用过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而引起低血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C361-002A-4C15-A5BF-995F4A35D5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808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内分泌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泌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1628640"/>
            <a:ext cx="4968720" cy="28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99" y="6120"/>
                </a:moveTo>
                <a:lnTo>
                  <a:pt x="-331" y="857"/>
                </a:lnTo>
              </a:path>
              <a:path w="21600" h="21600">
                <a:moveTo>
                  <a:pt x="-331" y="0"/>
                </a:moveTo>
                <a:lnTo>
                  <a:pt x="-33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系统由内分泌腺和内分泌细胞组成，是机体的重要调节系统，与神经系统、免疫系统相互配合，共同调节机体的生长、发育、代谢、运动、生殖等，维持内环境的相对稳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ki-20130822155932-628659008"/>
          <p:cNvPicPr/>
          <p:nvPr/>
        </p:nvPicPr>
        <p:blipFill>
          <a:blip r:embed="rId1"/>
          <a:stretch/>
        </p:blipFill>
        <p:spPr>
          <a:xfrm>
            <a:off x="611280" y="255600"/>
            <a:ext cx="8137440" cy="595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048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低血糖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应立即暂停胰岛素的泵入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予以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静脉滴注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严重者静脉推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60ml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2205000"/>
            <a:ext cx="63752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ddb52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ddb523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1BD0-174B-4E8B-B06B-8BC83DF40E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264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内分泌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矩形 8"/>
          <p:cNvSpPr/>
          <p:nvPr/>
        </p:nvSpPr>
        <p:spPr>
          <a:xfrm flipH="1">
            <a:off x="6012000" y="2602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内分泌与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16360" y="1844640"/>
            <a:ext cx="3888000" cy="2879640"/>
          </a:xfrm>
          <a:prstGeom prst="borderCallout1">
            <a:avLst>
              <a:gd name="adj1" fmla="val 18750"/>
              <a:gd name="adj2" fmla="val -8333"/>
              <a:gd name="adj3" fmla="val 57550"/>
              <a:gd name="adj4" fmla="val -517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腺是指人体内一些无输出导管的腺体，主要包括垂体、甲状腺、甲状旁腺、胸腺、肾上腺、胰岛、性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D45E-2160-4491-A829-47B3B919AE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44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08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72000" y="1700280"/>
            <a:ext cx="424800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0" y="15176"/>
                </a:moveTo>
                <a:lnTo>
                  <a:pt x="-387" y="647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是指内分泌腺或内分泌细胞分泌的高效生物活性物质，它是传递信息的化学信号物质，其作用有明显的特异性，只针对特定的受体发挥作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的作用方式有四种形式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内分泌、旁分泌、自分泌、胞内分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979F-FDC5-40B0-86B7-C2E98B1268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6" descr="1COJDI9}L[2LEY[IZ_AE8[8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417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素对血糖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6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95280" y="1341360"/>
            <a:ext cx="367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2T00:16:59Z</dcterms:modified>
  <cp:revision>1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