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66222-1A7E-47EA-89EB-91D686FAB2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BDC05-A44F-412B-8471-B6C2374B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2556A-B729-403F-A56B-25D1E81E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17CDF-3B5F-4ADC-A94B-D4C2167181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E414-006E-4943-816B-14A119FE42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5546-7570-401C-83EF-5AA5571E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E8C1-39C1-4C33-A940-9ED5552F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F43A-4788-4A5B-B906-6F2C315B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DDDD-4E06-4E44-9A51-CA6E0BB5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23F4-3342-4F27-92F4-E1E33BC3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85CD-8001-4A2A-93DE-6F5B5D8A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41A57-B97E-471C-B658-D5C6AFB9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9778-78DF-4936-B081-D112A751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407A-A63C-4FC3-808B-4B6C5D32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632E-21A1-43A8-A33B-58AAB706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58AC-E631-4268-999B-E631BC42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B4D4-18EF-4B28-8F77-E045887B3B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F2CE-64C6-43FA-9190-019A258F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5B110-649B-4F0B-BD4B-8E548F82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14D06-CDDA-4EEF-AAA1-AEF9FC9B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49AB7-4D2A-4018-B822-73BAACD0B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EA7F4-817B-44DA-92B3-2EC54959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9368F-25AE-419D-852E-4B315F57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EBD25-6A91-4C89-814D-2ADB895A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3D51-5260-4B65-A4AC-64623DA70B7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36360" y="409680"/>
            <a:ext cx="9144000" cy="60386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36360" y="0"/>
            <a:ext cx="9144000" cy="2089080"/>
            <a:chOff x="36360" y="0"/>
            <a:chExt cx="9144000" cy="2089080"/>
          </a:xfrm>
        </p:grpSpPr>
        <p:grpSp>
          <p:nvGrpSpPr>
            <p:cNvPr id="52" name="Group 5"/>
            <p:cNvGrpSpPr/>
            <p:nvPr/>
          </p:nvGrpSpPr>
          <p:grpSpPr>
            <a:xfrm>
              <a:off x="64800" y="0"/>
              <a:ext cx="9115560" cy="1790640"/>
              <a:chOff x="64800" y="0"/>
              <a:chExt cx="9115560" cy="1790640"/>
            </a:xfrm>
          </p:grpSpPr>
          <p:sp>
            <p:nvSpPr>
              <p:cNvPr id="53" name="Rectangle 91"/>
              <p:cNvSpPr/>
              <p:nvPr/>
            </p:nvSpPr>
            <p:spPr>
              <a:xfrm flipV="1">
                <a:off x="6480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2"/>
              <p:cNvSpPr/>
              <p:nvPr/>
            </p:nvSpPr>
            <p:spPr>
              <a:xfrm flipV="1">
                <a:off x="6480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" name="Freeform 93"/>
            <p:cNvSpPr/>
            <p:nvPr/>
          </p:nvSpPr>
          <p:spPr>
            <a:xfrm>
              <a:off x="3636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" name="Group 9"/>
          <p:cNvGrpSpPr/>
          <p:nvPr/>
        </p:nvGrpSpPr>
        <p:grpSpPr>
          <a:xfrm>
            <a:off x="36360" y="4689360"/>
            <a:ext cx="9144000" cy="2168280"/>
            <a:chOff x="36360" y="4689360"/>
            <a:chExt cx="9144000" cy="2168280"/>
          </a:xfrm>
        </p:grpSpPr>
        <p:grpSp>
          <p:nvGrpSpPr>
            <p:cNvPr id="57" name="Group 10"/>
            <p:cNvGrpSpPr/>
            <p:nvPr/>
          </p:nvGrpSpPr>
          <p:grpSpPr>
            <a:xfrm>
              <a:off x="64800" y="5045400"/>
              <a:ext cx="9115560" cy="1812240"/>
              <a:chOff x="64800" y="5045400"/>
              <a:chExt cx="9115560" cy="1812240"/>
            </a:xfrm>
          </p:grpSpPr>
          <p:sp>
            <p:nvSpPr>
              <p:cNvPr id="58" name="Rectangle 96"/>
              <p:cNvSpPr/>
              <p:nvPr/>
            </p:nvSpPr>
            <p:spPr>
              <a:xfrm>
                <a:off x="6480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" name="Rectangle 97"/>
              <p:cNvSpPr/>
              <p:nvPr/>
            </p:nvSpPr>
            <p:spPr>
              <a:xfrm>
                <a:off x="6480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3"/>
            <p:cNvGrpSpPr/>
            <p:nvPr/>
          </p:nvGrpSpPr>
          <p:grpSpPr>
            <a:xfrm>
              <a:off x="36360" y="4689360"/>
              <a:ext cx="9097920" cy="403560"/>
              <a:chOff x="36360" y="4689360"/>
              <a:chExt cx="9097920" cy="403560"/>
            </a:xfrm>
          </p:grpSpPr>
          <p:sp>
            <p:nvSpPr>
              <p:cNvPr id="61" name="Freeform 99"/>
              <p:cNvSpPr/>
              <p:nvPr/>
            </p:nvSpPr>
            <p:spPr>
              <a:xfrm flipV="1">
                <a:off x="3636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" name="Freeform 100"/>
              <p:cNvSpPr/>
              <p:nvPr/>
            </p:nvSpPr>
            <p:spPr>
              <a:xfrm flipV="1">
                <a:off x="3636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pic>
        <p:nvPicPr>
          <p:cNvPr id="63" name="Picture 116" descr=""/>
          <p:cNvPicPr/>
          <p:nvPr/>
        </p:nvPicPr>
        <p:blipFill>
          <a:blip r:embed="rId5"/>
          <a:stretch/>
        </p:blipFill>
        <p:spPr>
          <a:xfrm>
            <a:off x="36036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1B41-BF03-4386-A2C1-EB6F5008A12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45352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三章  以社区为中心的护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护理评估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地考察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文献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需求信息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知情人访谈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讨论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点人群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实地考察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又称 “挡风玻璃调查法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有一个初步的、快速的、整体的印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开车或走路的方式对自己的管辖区域进行观察，并且做出一个观察报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对社区的环境、布局有一个了解，查找到可能的环境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查阅文献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的数据来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人口普查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ensus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统计数据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居民的出生、死亡、结婚、离婚、收养等的官方记录文件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数据的其它来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年政府或相关机构在自己感兴趣的领域如：犯罪、住房、就业等进行的各种形式调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口普查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ensus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在国家统一规定的时间内，按照统一的方法、统一的项目、统一的调查表和统一的标准时点，对全国人口普遍地、逐户逐人地进行的一次性调查登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现在的、本社区的统计数据与过去的、其他不同地区的数据进行比较，分析和解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比较，可以发现社区的独特属性，这些特性为发现社区潜在的健康危险因素提供线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文献获得途径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这些调查结果、调查报告和统计报告，通常都可从公共图书馆或网络上得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国家统计局、卫生和计划生育委员会统计中心每年都会编辑国家健康调查数据，以描述整个国家的健康趋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社区人群服务使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需求情况、以及关注热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只有直接从群体中收集这些信息才会更真实和深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知情人访谈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士访问社区的主要知情人。他们可以是知识丰富的居民、当地官员或健康服务的提供者。注意：这些人的观点并不代表所有居民的观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社区讨论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举办社区论坛以讨论所选择的问题。社区护士还可以将调查问卷通过邮寄的方式寄给社区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重点人群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特别是对社区中偏远地方的人群和弱势群体，以及那些欠发达地区的群体的意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收集评估信息的策略主要由人群的规模、性质、收集信息的目的以及社区护士所拥有的资源所决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三、社区护理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整理与复核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分析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报告评估结果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整理与复核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将资料进行分类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马斯洛基本需要层次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高登功能性健康形态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行病学分类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整理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采用文字描述法、表格法、图形法等形式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72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分析资料应遵循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原始资料要经过统计学处理，文字资料要进行含义的解释与流行病学分析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去粗取精，去伪存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进行不同区域的横向比较，不同时间的纵向比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立足于社区健康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列举社区评估的相关内容以及评估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目标的确定、计划实施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熟悉对社区进行需求评估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诊断的形成过程、陈述形式以及排序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评价的种类和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对社区进行评估，做出护理诊断，并为其制订护理计划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护理诊断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形成社区护理诊断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标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的形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诊断的陈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标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诊断反映出社区目前的健康状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与社区健康需求有关的各种因素均已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个诊断是确切的且合乎逻辑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的做出是以现在获得的各种资料为依据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的形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得出结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为以下之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无明显健康问题，不需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虽无明显健康问题，但需要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健康问题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护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核实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一步对相关资料进行分析，核实得出结论的相关因素。如相关因素与得出的结论一致，则社区护理诊断形成，否则需重新得出结论，再核实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诊断的陈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可采用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</a:rPr>
              <a:t>PES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公式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roble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健康问题，是对护理对象健康状况简洁清楚的描述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tiology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原因和因果关系，用“与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有关”加以描述。它不仅是健康问题的原因，也是护士干预措施的侧重点，所有的计划和相关措施都将以这些原因为工作重点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ign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ympto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define characteristic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该诊断所依据的数据和信息。分为主要依据和次要依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举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某一社区进行健康评估发现该社区幼儿园儿童龋齿率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％。经调查，确认幼儿园小朋友没有养成晚间刷牙习惯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家长又不督促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是造成儿童患龋齿的主要原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可表示为：幼儿园儿童龋齿：与晚间不刷牙，家长不督促有关。依据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幼儿园儿童患龋齿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朋友没有晚间刷牙习惯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长不督促儿童晚间刷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优先顺序的确定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确定优先顺序遵循以下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严重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所干预的健康问题对本地区人群有较大危害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预防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即已有有效控制干预对象或危险因素的手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有效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护理干预能改善不良健康状况或控制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行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可利用的资源，采取的措施能得到政府或机构的关注和支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）评估因素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①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健康问题的认识程度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②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解决问题的动机：即居民要求解决问题的主要目的是什么；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③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健康问题的严重性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可利用的资源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⑤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采取措施的预防效果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⑥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护士解决问题的能力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⑦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现有的健康政策与目标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⑧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解决问题的迅速性与持续的效果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对评估因素进行“重要性”评价：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~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分的标准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不太重要，不需优先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有些重要，可以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非常重要必须优先处理）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步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社区护理诊断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评估因素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条）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评分标准，评估者分别对各个健康问题的评估因素进行评估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总和每个诊断所有评估因素的得分，分数越高代表越需优先处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4944960"/>
          <a:ext cx="8501040" cy="1363680"/>
        </p:xfrm>
        <a:graphic>
          <a:graphicData uri="http://schemas.openxmlformats.org/drawingml/2006/table">
            <a:tbl>
              <a:tblPr/>
              <a:tblGrid>
                <a:gridCol w="2049480"/>
                <a:gridCol w="626760"/>
                <a:gridCol w="628920"/>
                <a:gridCol w="804600"/>
                <a:gridCol w="627120"/>
                <a:gridCol w="627120"/>
                <a:gridCol w="627120"/>
                <a:gridCol w="627120"/>
                <a:gridCol w="628560"/>
                <a:gridCol w="627120"/>
                <a:gridCol w="627120"/>
              </a:tblGrid>
              <a:tr h="35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认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动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严重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资源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效果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能力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政策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持续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排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中小学生网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青少年吸烟率上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下岗工人心理问题严重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OMAHA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由护理诊断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类系统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、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干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分类系统和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结果评量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系统三部分构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士可将评估资料分为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环境、心理社会、生理和健康相关行为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四类，并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别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行分析和整理，以找出该类资料所反映的问题，做出相应护理诊断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案例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李是某城郊社区卫生服务中心的一名妇幼保健护士，她在进行产后访视的过程中注意到产后母亲情绪不佳的现象挺常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问题：作为社区护士，小李应该怎么对待这个现象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希望达到什么目的？要做什么？怎么做？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 社区护理计划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73196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目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计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制订是一种合作的、有顺序的、循环的程序，应鼓励社区居民参与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通过社区护理活动或措施期望达到的结果，可以是功能改进、行为改变、知识增加、情绪稳定等多种呈现形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本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常只有一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具体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社区的不同需求和不同目标人群，将基本目标分解为若干具体目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目标应做到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SMART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pecific. measurable. attainable. relevant. timely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即特定对象的、可测量的、可达到的、相关的、有时间期限的，以便于护理计划的落实和护理评价的实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避免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“能够了解”这样含糊的语句，而是具体描述为“能够确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列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讨论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选择合适的社区护理措施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确定所需资源及其来源：确定实施者、合作者、所需器材、场地、经费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为社区护理措施排序：及早执行有效的措施，尽早控制社区健康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记录社区护理计划：将确定的诊断、目标和具体措施完整记录下来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和修改计划：形成书面计划后，共同探讨及时发现问题并修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订社区护理计划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3640" y="2906280"/>
            <a:ext cx="856908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四节 社区护理计划的实施与评价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计划实施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社区护理计划实施（</a:t>
            </a:r>
            <a:r>
              <a:rPr b="1" lang="en-US" sz="3200" spc="-1" strike="noStrike">
                <a:solidFill>
                  <a:srgbClr val="046ca6"/>
                </a:solidFill>
                <a:latin typeface="黑体"/>
              </a:rPr>
              <a:t>community nursing implement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）是指社区护士根据计划的要求和具体措施，在社会各部门的参与下，充分利用社区资源，对不同的目标人群开展一系列的防治疾病和促进健康的活动。</a:t>
            </a:r>
            <a:endParaRPr b="1" lang="en-US" sz="32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计划的实施步骤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398520" y="1198440"/>
            <a:ext cx="8397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前的准备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在实施计划前要再次确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参与者是否明确计划实施的时间、地点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实施者是否知晓服务方法、所需知识和技能、承担的责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团队成员的能力和计划的实施内容进行合理分配和授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护理对象营造一种安全舒适的氛围，计划实施地点、环境、设备等均应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及时发现和处理出现的各种问题和困难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对每天的活动详细了解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干扰因素要重新评估，随时监测、调整、监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社区护理评估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完成护理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共同完成护理计划：　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计划实施者间及计划实施者与参与者间的沟通，建立良好的合作关系，与居委会、民政局、疾病控制中心等其他部门的人员分工协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计划实施的质量控制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指利用一系列的方法和策略保证计划执行过程的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说明计划实施的动态发展过程，而不是计划效果的行为效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是否按时间表执行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内容是否与计划相符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者的知识、技能是否满足计划需求等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记录实施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现护理的动态性和连续性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及时、准确地记录护理实施的情况、参与对象反应的情况及产生的新需求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采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PI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格式记录：“问题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”的书写格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实施效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护理评价的分类和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过程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程序的每一个步骤是否恰当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是否最终解决了社区存在或潜在的健康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过程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护理程序中的五个步骤进行评价，贯穿于社区护理的全过程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阶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结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评价是在计划完成之后，针对护理计划中项目实施效果是否达到预期目标的总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近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可以短时间看到的指标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中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行为改变和环境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远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护理对象疾病及其危险因素的变化和情况、效益评价和成本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效果分析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（二）社区护理评价的过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06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活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得出结论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审、修改护理计划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五节 社区健康档案建立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5840" y="259920"/>
            <a:ext cx="8659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建立社区健康档案的目的和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668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社区健康档案（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</a:rPr>
              <a:t>community health record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与社区居民健康有关信息的系统性文件，是社区卫生保健服务中有效的健康信息收集工具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目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社区居民提供有效的社区卫生服务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档案主体，社区健康档案可以分为个人健康档案、家庭健康档案和社区健康档案三种类型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记录材质，社区健康档案可以分为纸质健康档案和电子健康档案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评估范围及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属性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口群体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地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会系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6120" y="260280"/>
            <a:ext cx="80769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个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55736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居民健康状况的系统性文件，是以居民个人健康为核心，贯穿整个生命过程，涵盖各种健康相关因素，实现多渠道信息动态收集，满足居民自我保健和健康管理、健康决策需要的信息资源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档对象：所辖社区常住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点人群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儿童、孕产妇、老年人、慢性病患者、重性精神疾病患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592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以问题为导向的健康记录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roblem oriented medical record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OMR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封面、患者一般资料、健康问题目录、健康问题描述、健康体检表、重点人群健康管理记录表、其他医疗卫生服务记录表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1219320"/>
            <a:ext cx="84247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黑体"/>
              </a:rPr>
              <a:t>健康问题目录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记录了过去影响、现在正在影响或将来会影响患者健康的异常情况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包括主要问题目录和暂时性问题目录，常以列表的形式记录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采用世界家庭医生组织制订的“基层医疗的国际分类”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nternational Classification of Primary Car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CPC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的命名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例：                          居民主要健康问题目录表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7600" y="5157720"/>
          <a:ext cx="8996400" cy="13114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800"/>
                <a:gridCol w="1338120"/>
                <a:gridCol w="1333440"/>
                <a:gridCol w="1333440"/>
                <a:gridCol w="990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序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诊断日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结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问题描述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采用“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OAP”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格式进行描述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u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主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客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ssessment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对健康问题的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lan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健康问题的处理计划 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以预防为导向的健康记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周期性健康检查记录表和免疫接种记录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期性健康检查记录表：包括健康普查、预防接种、健康教育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接种记录表：主要针对儿童的计划性或非计划性免疫接种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家庭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以家庭为单位，对患者家庭的相关资料、家庭主要健康问题进行记录而形成的系统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家庭基本资料、家庭评估资料、家庭主要健康问题目录及描述、家庭成员健康记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家庭主要健康问题目录及描述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例：               家庭主要健康问题目录表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以</a:t>
            </a:r>
            <a:r>
              <a:rPr b="1" lang="en-US" sz="2400" spc="-1" strike="noStrike" u="sng">
                <a:solidFill>
                  <a:srgbClr val="046ca6"/>
                </a:solidFill>
                <a:uFillTx/>
                <a:latin typeface="黑体"/>
              </a:rPr>
              <a:t>SOAP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的方式加以描述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2743200"/>
          <a:ext cx="8734320" cy="1843200"/>
        </p:xfrm>
        <a:graphic>
          <a:graphicData uri="http://schemas.openxmlformats.org/drawingml/2006/table">
            <a:tbl>
              <a:tblPr/>
              <a:tblGrid>
                <a:gridCol w="758880"/>
                <a:gridCol w="1218960"/>
                <a:gridCol w="1220760"/>
                <a:gridCol w="1219320"/>
                <a:gridCol w="1427040"/>
                <a:gridCol w="1683000"/>
                <a:gridCol w="1206360"/>
              </a:tblGrid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发生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-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SOAP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简要描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健康档案是记录社区健康问题、评估社区特征及健康需求的系统性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社区基本资料、社区卫生服务资源、社区卫生服务状况、社区居民健康状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健康档案的管理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健康档案的建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辖区居民到乡镇卫生院、村卫生室、社区卫生服务中心（站）接受服务时，由医务人员负责为其建立居民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通过入户服务（调查）、疾病筛查、健康体检等多种方式，由乡镇卫生院、村卫生室、社区卫生服务中心（站）组织医务人员为居民建立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已建立居民电子健康档案信息系统的地区应由乡镇卫生院、村卫生室、社区卫生服务中心（站）通过上述方式为个人建立居民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统一存放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324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3280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建立健全健康档案管理相关制度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有效利用社区健康档案的信息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社区健康档案的监督和考核力度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人口群体特征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889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数量及其分布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要注意人口数量在一定时间范围内的变化趋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决定社区所需卫生保健服务的需求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构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人口的年龄、性别、婚姻、职业、文化程度、籍贯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同的人口构成将会导致不同的健康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健康状况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出生情况、死亡谱、疾病谱、健康保健行为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9320" y="333360"/>
            <a:ext cx="80773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三）居民健康档案的使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向已建档居民发放居民健康档案信息卡（或医疗保健卡），就诊时携带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入户开展医疗卫生服务时，应事先查阅服务对象的健康档案并携带相应表单，在服务过程中记录、补充相应内容。已建立电子健康档案信息系统的机构应同时更新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对于需要转诊、会诊的服务对象，由接诊医生填写转诊、会诊记录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所有的服务记录由社区责任医务人员或档案管理人员统一汇总、及时归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个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个人健康档案的内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社区健康档案的使用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地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2320" y="1628280"/>
            <a:ext cx="89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地理特征对居民生活方式及健康状况的影响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居民是否已认识到环境中威胁健康的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是否已采取措施以充分利用社区的资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的基本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自然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气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动植物分布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人为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62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个健康完善的社区应具备的社会系统。这些系统相互关联、相互依靠、相互影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评估各系统健全与否、功能是否正常、能否满足居民的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56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卫生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经济与就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安全与交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通讯与信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会服务及福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娱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政治和宗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zhjin</dc:creator>
  <dc:description/>
  <dc:language>en-US</dc:language>
  <cp:lastModifiedBy>刘云涛</cp:lastModifiedBy>
  <dcterms:modified xsi:type="dcterms:W3CDTF">2015-08-28T06:45:40Z</dcterms:modified>
  <cp:revision>14</cp:revision>
  <dc:subject/>
  <dc:title>第三章  以社区为中心的护理</dc:title>
</cp:coreProperties>
</file>