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7611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4B24FA-70EF-49C3-AB05-250DE951BB8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49BCCF-F617-4AB0-A42B-6BCD322E5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3E5F55-5611-4CE0-9196-C530DB520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6D5F40-768B-4F1E-A0B0-472492A0A0A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8473C6-C803-4E2D-B1EF-B66D71260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5633CE-2CC0-46E5-9998-3D57DBCFD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62E728-C6FD-426F-B7BA-445546647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088961-AD00-4644-B63B-7F3E859FE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700B55-FBF4-49B1-A048-6302CEF05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1C2BA9-1B17-4394-984D-6D0014701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71BC7E-0298-472C-BC92-C6A01FB4E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5B55FA-3B19-4BC9-8734-4F80E3EFD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D59FB-B7A3-4A38-A2C0-7CD25D10DAC8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2349360"/>
            <a:ext cx="4464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黑体"/>
                <a:ea typeface="黑体"/>
              </a:rPr>
              <a:t>第九章 传染病社区管理与患者的居家护理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三）社区传染病患者的访视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．访视时间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首次家庭访视应在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小时内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第一次复访一般为发病后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0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天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第二次复访一般在发病后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0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天左右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已转为慢性的患者，每年至少再访视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次。</a:t>
            </a:r>
            <a:r>
              <a:rPr b="1" lang="zh-CN" sz="2800" spc="-1" strike="noStrike">
                <a:solidFill>
                  <a:srgbClr val="1d1496"/>
                </a:solidFill>
                <a:latin typeface="黑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80720" y="1267920"/>
            <a:ext cx="8962920" cy="509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黑体"/>
              </a:rPr>
              <a:t>2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</a:rPr>
              <a:t>．访视内容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358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初访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核实诊断，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调查来源，判断疫情性质及蔓延情况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采取切实可行的防疫措施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对患者及其家属进行健康教育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了解患者和家属的心理状况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填写“传染病调查表”或其他相关表格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24000" y="1414440"/>
            <a:ext cx="8610480" cy="502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复访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全面了解患者病程，病情发展情况或痊愈情况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社区的防疫措施是否具体落实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填写“传染病复访表”或其他相关表格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依据实际情况确定下次是否复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9"/>
          <p:cNvSpPr/>
          <p:nvPr/>
        </p:nvSpPr>
        <p:spPr>
          <a:xfrm>
            <a:off x="539640" y="3079440"/>
            <a:ext cx="820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黑体"/>
              </a:rPr>
              <a:t>第二节 社区常见传染病患者的居家护理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2268360" y="1988640"/>
            <a:ext cx="4321440" cy="39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病毒性肝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肺结核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艾滋病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细菌性痢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手足口病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一、病毒性肝炎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509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（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一）临床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12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潜伏期：甲型肝炎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周，平均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个月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12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乙型肝炎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个月，平均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个月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12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丙型肝炎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周～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个月，平均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0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天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12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丁型肝炎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0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周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12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戊型肝炎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9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周，平均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12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按临床经过将病毒性肝炎分为急性肝炎，慢性肝炎，重型肝炎，淤胆型肝炎，肝炎肝硬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324000" y="1414440"/>
            <a:ext cx="8610480" cy="50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c8de"/>
                </a:solidFill>
                <a:latin typeface="黑体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黑体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</a:rPr>
              <a:t>．急性肝炎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29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急性黄疸型肝炎：分为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个阶段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①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黄疸前期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②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黄疸期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③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恢复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急性无黄疸型肝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黑体"/>
              </a:rPr>
              <a:t>  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1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一、病毒性肝炎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539280" y="1773360"/>
            <a:ext cx="820908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．慢性肝炎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轻度慢性肝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中度慢性肝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重度慢性肝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3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一、病毒性肝炎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68000" y="1628640"/>
            <a:ext cx="8280360" cy="46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．重型肝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急性重型肝炎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亚急性重型肝炎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慢性重型肝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．淤胆型肝炎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5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．肝炎肝硬化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一、病毒性肝炎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468000" y="1339560"/>
            <a:ext cx="8155080" cy="516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二）流行病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传染源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甲型、戊型肝炎的传染源是急性期患者和亚临床感染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乙型、丙型、丁型肝炎传染源分别是急性和慢性（含肝炎后肝硬化）的乙型、丙型、丁型肝炎患者和病原携带者。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一、病毒性肝炎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学习目标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250920" y="1371240"/>
            <a:ext cx="8664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</a:rPr>
              <a:t>识记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1. 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能准确复述传染病的概念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2. 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能准确说出传染病流行过程及影响因素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</a:rPr>
              <a:t>理解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1. 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能准确区分各类传染病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2. 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能准确叙述传染病的社区管理内容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3. 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能准确举例说明病毒性肝炎、肺结核、艾滋病患者居家护理措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</a:rPr>
              <a:t>运用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能准确应用所学知识对社区传染病患者进行居家护理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68000" y="1628280"/>
            <a:ext cx="8304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传播途径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甲型、戊型肝炎的主要传播途径是粪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口传播；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丙型、丁型肝炎主要经体液和血液传播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乙型肝炎主要是通过输血和血制品的应用、使用 消毒不严格的医疗器械、血液透析、器官移植以及母婴传播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一、病毒性肝炎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533520" y="1485720"/>
            <a:ext cx="8143920" cy="473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3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人群易感性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人类对各型肝炎普遍易感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甲型肝炎以幼儿、学龄前儿童发病最多，但遇有爆发流行时各年龄组均有发病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HBV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感染多发生于婴儿及青少年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丙型肝炎多见于成年人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戊型肝炎以中老年人发病居多。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一、病毒性肝炎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533520" y="170028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4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流行特征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甲型肝炎秋冬季高发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戊型肝炎流行多发生于雨季或洪水后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乙、丙、丁型肝炎的发病无明显季节性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我国的流行情况是以乙、丙型肝炎为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一、病毒性肝炎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324000" y="1339920"/>
            <a:ext cx="8610480" cy="505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三）居家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．病毒性肝炎患者的护理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饮食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用药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心理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皮肤护理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日常生活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2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家庭的消毒隔离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3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健康教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宣传各种类型病毒性肝炎的预防知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介绍家庭隔离的必要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一、病毒性肝炎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二、肺结核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41440" y="1269720"/>
            <a:ext cx="8208720" cy="516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一）临床表现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发热为最常见全身症状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呼吸系统症状：咳嗽、咳痰、咯血、胸痛、呼吸困难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部分患者有倦怠乏力、盗汗、食欲减退和体重减轻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395280" y="1412640"/>
            <a:ext cx="8610480" cy="497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二）流行病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1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传染源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主要是痰中带菌的肺结核患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2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传播途径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飞沫传播是肺结核最重要的传播途径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3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人群易感性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人群普遍易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4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流行特征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一年四季都可以发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二、肺结核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395280" y="1341000"/>
            <a:ext cx="8610480" cy="509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三）居家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1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肺结核患者的护理指导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饮食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用药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心理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日常生活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2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家庭的消毒隔离指导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1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二、肺结核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304920" y="1557000"/>
            <a:ext cx="861048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3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健康教育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防治知识的教育，提高患者治疗依从性及家属的责任心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养成良好的卫生习惯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预防感冒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二、肺结核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三、艾滋病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24000" y="1413000"/>
            <a:ext cx="8610480" cy="509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一）临床表现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急性感染期（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I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期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无症状感染期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Ⅱ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期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艾滋病前期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Ⅲ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期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艾滋病期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Ⅳ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期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324000" y="1557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二）流行病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．传染源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：患者和无症状病毒携带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．传播途径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：性传播、血液传播及母婴传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．人群易感性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：各个年龄均可感染，主要是指男性同性恋者、静脉吸毒成瘾者、血友病患者，接受输血及其他血制品者等高危人群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7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三、艾滋病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9"/>
          <p:cNvSpPr/>
          <p:nvPr/>
        </p:nvSpPr>
        <p:spPr>
          <a:xfrm>
            <a:off x="539640" y="3079440"/>
            <a:ext cx="820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黑体"/>
              </a:rPr>
              <a:t>第一节  概述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324000" y="1270080"/>
            <a:ext cx="86104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三）居家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1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艾滋病患者的护理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饮食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用药指导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心理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日常生活指导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2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家庭的消毒隔离指导</a:t>
            </a: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9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三、艾滋病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250920" y="1339560"/>
            <a:ext cx="8610480" cy="516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3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健康教育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向患者认真讲解本病知识、保护他人和自我保护的方式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教育适龄人群正确认识艾滋病，使他们认识到艾滋病是可以预防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树立健康积极的恋爱、婚姻、家庭及性观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正确认识在工作和生活中与人类免疫缺陷病毒感染者的接触，避免产生恐惧心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1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三、艾滋病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四、细菌性痢疾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24000" y="16282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一）临床表现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菌痢潜伏期多数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天，最短为数小时，最长到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周，通常分急、慢性两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394920" y="1413000"/>
            <a:ext cx="8472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1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急性菌痢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普通型（典型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轻型（非典型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重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．慢性菌痢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慢性迁延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急性发作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慢性隐匿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5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四、细菌性痢疾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07520" y="1628640"/>
            <a:ext cx="8736120" cy="48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二）流行病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．传染源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包括急、慢性菌痢患者和带菌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．传播途径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经粪一口途径传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．易感人群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人群普遍易感，易再次感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4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流行特征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散发，有明显的季节性，以夏秋多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四、细菌性痢疾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324000" y="1413000"/>
            <a:ext cx="8610480" cy="509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三）居家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1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细菌性痢疾患者的护理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饮食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用药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心理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日常生活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2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家庭的消毒隔离指导</a:t>
            </a: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9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四、细菌性痢疾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323640" y="1628280"/>
            <a:ext cx="8537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3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健康教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菌痢相关知识的教育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向慢性菌痢患者介绍急性发作的诱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病情稳定后，进行适当的体育锻炼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特殊岗位应调离工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1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四、细菌性痢疾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五、手足口病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431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黑体"/>
              </a:rPr>
              <a:t>（一）临床表现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此病的潜伏期为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0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天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急性起病，发热、咳嗽、流涕、食欲缺乏等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口腔黏膜出现小疱疹，手、足和臀部出现斑丘疹、疱疹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斑丘疹很快转为小疱疹，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天自行吸收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部分病例仅表现为皮疹及疱疹性咽峡炎；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一般预后良好，少数患者可出现脑炎、脑脊髓炎、脑膜炎、肺水肿、循环衰竭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684360" y="1196640"/>
            <a:ext cx="823104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二）流行病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传染源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患者和隐性感染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传播途径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主要经粪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—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口和（或）呼吸道飞沫传播，亦可经接触患者皮肤、黏膜疱疹液而感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易感性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人对肠道病毒普遍易感，病毒的各型间无交叉免疫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4.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流行特征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无明显地区性。一年四季均可发病，以夏、秋季多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5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五、手足口病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324000" y="1339560"/>
            <a:ext cx="8610480" cy="516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三）居家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1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手足口病患者的护理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饮食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用药指导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心理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日常生活指导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2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家庭的消毒隔离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7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五、手足口病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24000" y="1773000"/>
            <a:ext cx="86104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cc0000"/>
                </a:solidFill>
                <a:uFillTx/>
                <a:latin typeface="Verdana"/>
              </a:rPr>
              <a:t>传染病</a:t>
            </a:r>
            <a:r>
              <a:rPr b="1" lang="zh-CN" sz="3200" spc="-1" strike="noStrike" u="sng">
                <a:solidFill>
                  <a:srgbClr val="cc0000"/>
                </a:solidFill>
                <a:uFillTx/>
                <a:latin typeface="Times New Roman"/>
                <a:ea typeface="宋体"/>
              </a:rPr>
              <a:t>（</a:t>
            </a:r>
            <a:r>
              <a:rPr b="1" lang="en-US" sz="3200" spc="-1" strike="noStrike" u="sng">
                <a:solidFill>
                  <a:srgbClr val="cc0000"/>
                </a:solidFill>
                <a:uFillTx/>
                <a:latin typeface="Times New Roman"/>
                <a:ea typeface="宋体"/>
              </a:rPr>
              <a:t>communicable diseases</a:t>
            </a:r>
            <a:r>
              <a:rPr b="1" lang="zh-CN" sz="3200" spc="-1" strike="noStrike" u="sng">
                <a:solidFill>
                  <a:srgbClr val="cc0000"/>
                </a:solidFill>
                <a:uFillTx/>
                <a:latin typeface="Times New Roman"/>
                <a:ea typeface="宋体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或称传染性疾病，是由病原微生物（病毒、细菌、衣原体、立克次体、螺旋体、真菌等）和寄生虫（原虫、蠕虫或医学昆虫）感染人体后所引起的具有传染性的疾病。</a:t>
            </a:r>
            <a:r>
              <a:rPr b="1" lang="zh-CN" sz="3200" spc="-1" strike="noStrike">
                <a:solidFill>
                  <a:srgbClr val="046ca6"/>
                </a:solidFill>
                <a:latin typeface="黑体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324000" y="16282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3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健康教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对患者及家属进行手足口病防治知识的教育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积极参与手足口病防控工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密切接触者应高度重视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五、手足口病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思考题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95280" y="1341360"/>
            <a:ext cx="85392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传染病、传染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传染病常见的传播途径有几种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社区传染病预防包括哪些方面的内容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保护易感人群的措施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社区传染病患者的访视内容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社区结核病患者的健康教育主要包括哪些内容？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7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艾滋病的传播途径有哪些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一、传染病的流行过程 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24000" y="1699920"/>
            <a:ext cx="861048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传染源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  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传播途径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易感人群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二、影响传染病流行的因素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55280" y="1700280"/>
            <a:ext cx="777708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自然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社会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三、传染病的分类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24000" y="1773000"/>
            <a:ext cx="8610480" cy="36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00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年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日起施行的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《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中华人民共和国传染病防治法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》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将传染病分为甲、乙、丙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类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7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种。后加上手足口病、甲型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H1N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流感，共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9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四、传染病社区管理 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24000" y="1413000"/>
            <a:ext cx="8610480" cy="516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一）社区传染病预防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1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健康教育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  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2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预防接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儿童计划免疫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根据疫情组织的免疫接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3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改善社区卫生环境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24000" y="1414440"/>
            <a:ext cx="8610480" cy="50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二）社区传染病的控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1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传染源的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传染病报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针对传染源管理措施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2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传播途径的管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 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3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易感人群的管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刘云涛</cp:lastModifiedBy>
  <cp:lastPrinted>2015-05-04T04:05:40Z</cp:lastPrinted>
  <dcterms:modified xsi:type="dcterms:W3CDTF">2015-08-28T08:31:33Z</dcterms:modified>
  <cp:revision>11</cp:revision>
  <dc:subject/>
  <dc:title>第九章 传染病社区管理与患者的居家护理</dc:title>
</cp:coreProperties>
</file>