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D3FF-3413-4379-A036-BA7DC13D75E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E013-C9A9-47FC-AD6E-B244C614881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058C-F1B8-4C93-ABB5-609C0ACF1E6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2C0C-5600-443B-9322-BFAD4B1477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68753-5467-4D7E-81A1-E18DFCDD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94F9D-61E5-4207-9DDB-61172019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0E5B-A328-473D-A4C6-B57B82A1FE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FB068-C3B0-41A7-8E0B-F6DA972B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22A17-7F6A-41EB-8364-26A964AB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F8729-F622-4AAB-867B-349AB78B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01B68-2ACE-4C75-AE10-F5D154B5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0053-4879-4249-AB5F-7BBD4016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C91AE-FBD1-4AD3-AEED-3883969B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2D3D-74C0-4C7D-B0CB-0AE7F4D4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D5BED-C57B-4876-BB36-B798BFE1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6BA6-5B7A-4915-A14D-BBE82B8807C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八章 细菌的致病性与感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6"/>
          <p:cNvGrpSpPr/>
          <p:nvPr/>
        </p:nvGrpSpPr>
        <p:grpSpPr>
          <a:xfrm>
            <a:off x="6000840" y="2000160"/>
            <a:ext cx="3143160" cy="2085480"/>
            <a:chOff x="6000840" y="2000160"/>
            <a:chExt cx="3143160" cy="2085480"/>
          </a:xfrm>
        </p:grpSpPr>
        <p:pic>
          <p:nvPicPr>
            <p:cNvPr id="157" name="Group 4" descr=""/>
            <p:cNvPicPr/>
            <p:nvPr/>
          </p:nvPicPr>
          <p:blipFill>
            <a:blip r:embed="rId1"/>
            <a:stretch/>
          </p:blipFill>
          <p:spPr>
            <a:xfrm>
              <a:off x="6303240" y="2000160"/>
              <a:ext cx="20239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6000840" y="3077280"/>
              <a:ext cx="314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隐性感染或恢复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重要的传染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357120" y="2071800"/>
            <a:ext cx="2521080" cy="2084040"/>
            <a:chOff x="357120" y="2071800"/>
            <a:chExt cx="2521080" cy="2084040"/>
          </a:xfrm>
        </p:grpSpPr>
        <p:pic>
          <p:nvPicPr>
            <p:cNvPr id="160" name="Group 9" descr=""/>
            <p:cNvPicPr/>
            <p:nvPr/>
          </p:nvPicPr>
          <p:blipFill>
            <a:blip r:embed="rId4"/>
            <a:stretch/>
          </p:blipFill>
          <p:spPr>
            <a:xfrm>
              <a:off x="524160" y="2071800"/>
              <a:ext cx="190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2"/>
            <p:cNvSpPr/>
            <p:nvPr/>
          </p:nvSpPr>
          <p:spPr>
            <a:xfrm>
              <a:off x="357120" y="314748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多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可获得免疫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Rectangle 28"/>
          <p:cNvSpPr/>
          <p:nvPr/>
        </p:nvSpPr>
        <p:spPr>
          <a:xfrm>
            <a:off x="2963880" y="1197000"/>
            <a:ext cx="3120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的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2714760" y="2071800"/>
            <a:ext cx="3357360" cy="4608360"/>
            <a:chOff x="2714760" y="2071800"/>
            <a:chExt cx="3357360" cy="4608360"/>
          </a:xfrm>
        </p:grpSpPr>
        <p:sp>
          <p:nvSpPr>
            <p:cNvPr id="164" name="下箭头标注 3"/>
            <p:cNvSpPr/>
            <p:nvPr/>
          </p:nvSpPr>
          <p:spPr>
            <a:xfrm>
              <a:off x="3278160" y="2071800"/>
              <a:ext cx="2016000" cy="968400"/>
            </a:xfrm>
            <a:prstGeom prst="downArrowCallout">
              <a:avLst>
                <a:gd name="adj1" fmla="val 24984"/>
                <a:gd name="adj2" fmla="val 24991"/>
                <a:gd name="adj3" fmla="val 25000"/>
                <a:gd name="adj4" fmla="val 64977"/>
              </a:avLst>
            </a:prstGeom>
            <a:solidFill>
              <a:srgbClr val="f2f2f2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显性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714760" y="3111480"/>
              <a:ext cx="335736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急性与慢性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局部感染与全身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全身感染的类型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菌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毒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内毒素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败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脓毒血症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642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概念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或病原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ic bacterium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机体、生长繁殖导致宿主疾病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920" y="1285560"/>
            <a:ext cx="885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件致病菌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并不致病，只有在某些特定情况下才可引起宿主疾病的细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条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居部位改变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楷体_GB2312"/>
              </a:rPr>
              <a:t>E.coli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从肠道进入泌尿道、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免疫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群失调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长期使用抗生素，可致</a:t>
            </a:r>
            <a:r>
              <a:rPr b="1" lang="zh-CN" sz="28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菌群失调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85840" y="2071800"/>
            <a:ext cx="83898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菌对宿主感染致病的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毒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致病性的强弱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定指标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数致死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数感染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I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基础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袭力、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538200" y="1133640"/>
            <a:ext cx="266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1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14760" y="18572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786040" y="3500280"/>
            <a:ext cx="357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素（内、外毒素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357280" y="2071800"/>
            <a:ext cx="287640" cy="17859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360 h 1785960"/>
              <a:gd name="textAreaBottom" fmla="*/ 1758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55"/>
                </a:lnTo>
                <a:cubicBezTo>
                  <a:pt x="10800" y="10286"/>
                  <a:pt x="5400" y="10816"/>
                  <a:pt x="0" y="10816"/>
                </a:cubicBezTo>
                <a:cubicBezTo>
                  <a:pt x="5400" y="10816"/>
                  <a:pt x="10800" y="11347"/>
                  <a:pt x="10800" y="11877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285920" y="2571840"/>
            <a:ext cx="1071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285920" y="4000680"/>
            <a:ext cx="199368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数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071720" y="4929120"/>
            <a:ext cx="7343640" cy="520560"/>
          </a:xfrm>
          <a:prstGeom prst="rect">
            <a:avLst/>
          </a:prstGeom>
          <a:noFill/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部位：呼吸道、消化道、皮肤伤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1071720" y="2786040"/>
            <a:ext cx="242640" cy="2571840"/>
          </a:xfrm>
          <a:custGeom>
            <a:avLst/>
            <a:gdLst>
              <a:gd name="textAreaLeft" fmla="*/ 155160 w 242640"/>
              <a:gd name="textAreaRight" fmla="*/ 243000 w 242640"/>
              <a:gd name="textAreaTop" fmla="*/ 51840 h 2571840"/>
              <a:gd name="textAreaBottom" fmla="*/ 252000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5400" y="10800"/>
                  <a:pt x="0" y="10800"/>
                </a:cubicBezTo>
                <a:cubicBezTo>
                  <a:pt x="54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85840" y="2857680"/>
            <a:ext cx="571320" cy="2774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071960" y="1214280"/>
            <a:ext cx="287280" cy="18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7360 h 1872000"/>
              <a:gd name="textAreaBottom" fmla="*/ 18446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804"/>
                </a:lnTo>
                <a:cubicBezTo>
                  <a:pt x="10800" y="10310"/>
                  <a:pt x="5400" y="10816"/>
                  <a:pt x="0" y="10816"/>
                </a:cubicBezTo>
                <a:cubicBezTo>
                  <a:pt x="5400" y="10816"/>
                  <a:pt x="10800" y="11322"/>
                  <a:pt x="10800" y="11828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4429080" y="1071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素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与定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42908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性酶类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殖、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4429080" y="2500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抵抗机体的防御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2514600" cy="119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毒素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xotox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4200" y="2500200"/>
            <a:ext cx="878688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性质为蛋白质，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亚单位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作用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强，引起特有病理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化稳定性差：不耐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强 ：甲醛处理为类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类多：神经毒、细胞毒、肠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786200" y="1143000"/>
            <a:ext cx="4357800" cy="1449360"/>
          </a:xfrm>
          <a:prstGeom prst="wedgeRoundRectCallout">
            <a:avLst>
              <a:gd name="adj1" fmla="val -101458"/>
              <a:gd name="adj2" fmla="val -51439"/>
              <a:gd name="adj3" fmla="val 16667"/>
            </a:avLst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成代谢产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和部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释放到菌体外，或溶解释放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4205160" cy="6508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内毒素 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ndotoxi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8A4E-A366-46A7-95A0-6E02422CED0D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1600" y="9997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脂多糖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LPS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lipopolysacharid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菌体裂解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性质稳定，耐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毒性作用较弱，无选择性，无组织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抗原性弱，不能用甲醛处理为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刺激机体产生抗内毒素抗体，但中和作用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体对内毒素敏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14200" y="2286000"/>
            <a:ext cx="4570200" cy="4102560"/>
            <a:chOff x="214200" y="2286000"/>
            <a:chExt cx="4570200" cy="4102560"/>
          </a:xfrm>
        </p:grpSpPr>
        <p:pic>
          <p:nvPicPr>
            <p:cNvPr id="145" name="Picture 9" descr="Release of LPS (Endotoxin) from the Gram-Negative Cell WallRelease of LPS (Endotoxin) from the Gram-Negative Cell Wall"/>
            <p:cNvPicPr/>
            <p:nvPr/>
          </p:nvPicPr>
          <p:blipFill>
            <a:blip r:embed="rId1"/>
            <a:stretch/>
          </p:blipFill>
          <p:spPr>
            <a:xfrm>
              <a:off x="371520" y="2286000"/>
              <a:ext cx="33674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2"/>
            <p:cNvSpPr/>
            <p:nvPr/>
          </p:nvSpPr>
          <p:spPr>
            <a:xfrm>
              <a:off x="214200" y="5928840"/>
              <a:ext cx="45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菌崩解和内毒素释放过程演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D105-D541-4FFF-9A38-8D0AB5F60751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56880"/>
            <a:ext cx="292896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细胞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毒素血症与内毒素休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5840" y="114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毒素的生物学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4" descr="内毒素作用机理"/>
          <p:cNvPicPr/>
          <p:nvPr/>
        </p:nvPicPr>
        <p:blipFill>
          <a:blip r:embed="rId1"/>
          <a:stretch/>
        </p:blipFill>
        <p:spPr>
          <a:xfrm>
            <a:off x="3000240" y="1714680"/>
            <a:ext cx="5815080" cy="484488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2"/>
          <p:cNvSpPr/>
          <p:nvPr/>
        </p:nvSpPr>
        <p:spPr>
          <a:xfrm>
            <a:off x="500040" y="1714680"/>
            <a:ext cx="79297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外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菌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畜、带菌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膜感染（呼吸道、消化道、泌尿生殖道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感染（破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皮肤、节肢动物叮咬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途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内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菌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的病原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714240" y="1000080"/>
            <a:ext cx="650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感染的来源及传播途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39:18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