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84BD-81C6-4145-923E-E6C9BA9ABD0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AA64-4CEF-474B-828D-3ABC7FCF459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D7E60-987D-49AF-B666-8CB3346614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E0705-CED7-4A93-B42F-A6B15614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EFA01-AC82-4A55-8677-2B99D893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9F3EB-CCB0-474C-9BCC-A12696AB97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A2CA5-37E9-4C1E-A277-1DB5C10D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0648E-A8A7-4C43-8A0F-93666286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011B1-DB90-47B3-BD8D-03C546F8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00346-3AF4-4C51-9826-1E983EE96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F92FD-B24F-4442-92AB-CDF145760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2B532-2A94-41FB-B5C8-A2CE1DA1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06F45-83E3-46D1-A4BE-8905E64C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F99AC-07F3-4618-B268-F61243B6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5CB4-27D6-4C9F-B40B-CAA6389C15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流动力学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毛细血管楔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CW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输出量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心脏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穹隆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有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危及生命的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或发病后的救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及家属的情绪变化、心理承受能力及对治疗和预后的了解程度，并了解引起其不良情绪反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解决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安置患者于平卧位（非心源性休克可给予休克体位），血压稳定前禁止搬运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气道，给予大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因给予相应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初步容量复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血管活性药物辅助扩容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酸碱平衡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微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质类固醇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并发症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ODS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多发骨折伴休克，经扩容治疗后，神志未清醒，测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/5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.3/6.7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中心静脉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49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进一步的护理重点是什么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如何监测患者病情变化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大量失血，失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体交换受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缺氧和呼吸型态改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异常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感染、组织灌注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烦躁不安、意识不清、疲乏无力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器官功能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：收缩压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（或）脉压差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mHg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率 ：脉率增快多出现在血压下降之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末梢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 ：尿量少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l/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比重增加，表明血容量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静脉和周围静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先晶体后胶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记录出入量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复述休克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休克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休克辅助检查项目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休克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取休克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抗休克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血管活性药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缺氧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和防治感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照无菌技术原则执行各项护理操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应用抗菌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、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口腔护理和留置尿管的护理，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意外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床单清洁、平整、干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患者将输液管道或引流管等拔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继续原发疾病治疗或康复，加强对原发病观察，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引起休克疾病的预防，避免各种意外伤害的发生，学会受伤后的紧急救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各种导致有效循环血量锐减、组织血液灌流不足的因素均可引起休克，外科最常见原因是低血容量性休克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的发展分为休克代偿期和抑制期，可以通过一看（神志、表情、口渴情况、皮肤黏膜色泽、毛细胞血管充盈时间）、二摸（四肢浅静脉、脉搏、肢端温度）、三测（动脉收缩压、脉压）、四量（尿量）来监测休克的临床表现，还可通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心排血量、动脉血气分析、动脉血乳酸盐含量等监测休克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休克外，应注意患者有无其他危及生命的情况需进行紧急救治，治疗中应尽早去除病因，迅速恢复有效循环血量，纠正微循环障碍，恢复组织灌注，增强心肌功能，防止脏器功能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监测患者的血压、脉搏、微循环情况及血流动力学情况，尤其注意要迅速补充血容量，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ho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机体受到强烈的致病因素侵袭后，导致有效循环血量锐减、组织血液灌流不足所引起的以微循环障碍、代谢障碍和细胞受损为特征的病理性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失血、脱水、血浆丢失、严重创伤等，最常见的类型是低血容量性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被汽车撞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后急诊入院。患者浅昏迷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1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50/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立即查血常规、血型，紧急配血，给予双通道静脉输入平衡盐、代血浆，静滴止血药物等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侧肩胛骨、肱骨头粉碎性骨折，左侧髂骨翼、髋臼及股骨粗隆间粉碎性骨折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：腹腔内无实质脏器破裂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：未发现颅内血肿及脑挫裂伤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代偿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神紧张，烦躁不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色苍白，皮肤湿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增快，呼吸增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变化不大，但脉压缩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正常或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抑制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表情淡漠、反应迟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黏膜发绀或花斑、四肢冰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细速，呼吸浅促，血压进行性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浅静脉萎陷，毛细血管充盈时间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出现代谢性酸中毒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79280" y="1268280"/>
          <a:ext cx="8964720" cy="5220000"/>
        </p:xfrm>
        <a:graphic>
          <a:graphicData uri="http://schemas.openxmlformats.org/drawingml/2006/table">
            <a:tbl>
              <a:tblPr/>
              <a:tblGrid>
                <a:gridCol w="644760"/>
                <a:gridCol w="1442880"/>
                <a:gridCol w="2693880"/>
                <a:gridCol w="1843200"/>
                <a:gridCol w="2340000"/>
              </a:tblGrid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代偿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抑制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程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轻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中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重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清楚，伴有痛苦的表情，精神紧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尚清楚，表情淡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意识模糊，神志不清，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口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很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非常明显，可能无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皮肤黏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色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开始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显著苍白，肢端发绀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温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，发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发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厥冷（肢端更明显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脉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以下，尚有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速而细弱或摸不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血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正常或稍高，舒张压增高，脉压缩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为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，脉压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或测不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周围循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表浅静脉塌陷，毛细血管充盈迟缓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毛细血管充盈更迟缓，表浅静脉塌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或无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估计失血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、尿和粪便常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生化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凝血功能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气分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乳酸盐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浆电解质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黏膜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28:06Z</dcterms:modified>
  <cp:revision>96</cp:revision>
  <dc:subject/>
  <dc:title>内科护理学</dc:title>
</cp:coreProperties>
</file>