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106D-7568-46A8-9411-535DB903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33A1-DF90-4C61-A06E-24DCAE01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02E4-D4E7-408A-B1BE-3B48E299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E7E3-839E-4BB6-B0F2-463288DE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5DE6-14EB-4B59-A0AE-1B53F809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53A2-A612-46D1-83B7-DC0FF517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E1CE-0B9E-48E2-87E7-936692FB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F77B-9FD7-4947-8FD7-27964F5A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BA93-1A84-4493-AB20-3BC7C957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DD91-A54A-4653-A973-FA270FAC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FD36-5FD6-4E5D-A59F-13D8D8B7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DA87-D310-4241-AC4A-891E2F3B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8852-723D-4B11-A6F7-3BAACFD9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A683-E82F-45D6-9A75-6D9F3B03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DF2C-BA94-49CD-97A7-6BC78173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18A8-0D7E-4A41-BBF4-F7FEA559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0304-B944-4815-8974-14089081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1A38-1802-4BB9-85CE-A2EFAA80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17DA-2454-433B-B73B-D27DF2DB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8820-BC18-4CA6-A6CC-C917BB01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8A53-8D62-445B-83D7-C78BB24F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D29D-6F05-45AE-B557-EFB41D13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519D-4380-4DBB-B76E-F626A5E5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16E-2C87-439C-B216-739CB4EC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5B0A-3081-4075-B0ED-3DF4CB28DD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AutoShape 47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8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846756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8AD0-79ED-49DD-A930-79391BA270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8000"/>
            </a:b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 十 章</a:t>
            </a: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br>
              <a:rPr sz="8000"/>
            </a:br>
            <a:r>
              <a:rPr b="1" lang="en-US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N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的生物合成</a:t>
            </a:r>
            <a:br>
              <a:rPr sz="8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NA Biosynthesis</a:t>
            </a:r>
            <a:br>
              <a:rPr sz="8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1"/>
          <p:cNvSpPr/>
          <p:nvPr/>
        </p:nvSpPr>
        <p:spPr>
          <a:xfrm>
            <a:off x="5651640" y="2421000"/>
            <a:ext cx="314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5672160" y="4292640"/>
            <a:ext cx="314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0"/>
          <p:cNvSpPr/>
          <p:nvPr/>
        </p:nvSpPr>
        <p:spPr>
          <a:xfrm>
            <a:off x="657360" y="3808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的复制是半不连续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403280" y="59500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图10-2DNA的复制叉1"/>
          <p:cNvPicPr/>
          <p:nvPr/>
        </p:nvPicPr>
        <p:blipFill>
          <a:blip r:embed="rId1"/>
          <a:stretch/>
        </p:blipFill>
        <p:spPr>
          <a:xfrm>
            <a:off x="2124000" y="119700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39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领头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86d1ec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顺着解链方向生成的子链，复制  是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随从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另一股链因复制的方向与解链方向相反，不能顺着解链方向连续延长，复制是不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的不连续片段称为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岡崎片段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kazaki fragment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68280" y="4670280"/>
            <a:ext cx="28105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不连续性</a:t>
            </a:r>
            <a:r>
              <a:rPr b="0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领头链连续复制而随从链不连续复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306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参与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复制的酶和蛋白因子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二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5832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, N=A,T,C,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模板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延长中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子链，提供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使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以依次聚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其他酶和蛋白质因子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4402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-179280" algn="ctr"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聚合反应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492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生成需</a:t>
            </a:r>
            <a:r>
              <a:rPr b="1" lang="zh-CN" sz="3200" spc="-1" strike="noStrike">
                <a:solidFill>
                  <a:srgbClr val="66ff99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99ff"/>
                </a:solidFill>
                <a:latin typeface="楷体"/>
                <a:ea typeface="楷体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的延长只可沿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→ 3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方向进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是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主要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全称：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NA-dependent DNA polymer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简称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活性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聚合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340000" y="429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587808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dNMP)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NTP → (dNMP)n+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Pi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QQ图片20140609230001"/>
          <p:cNvPicPr/>
          <p:nvPr/>
        </p:nvPicPr>
        <p:blipFill>
          <a:blip r:embed="rId1"/>
          <a:stretch/>
        </p:blipFill>
        <p:spPr>
          <a:xfrm>
            <a:off x="2722680" y="0"/>
            <a:ext cx="5952960" cy="5934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250920" y="21304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聚合活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1026"/>
          <p:cNvSpPr/>
          <p:nvPr/>
        </p:nvSpPr>
        <p:spPr>
          <a:xfrm>
            <a:off x="2009880" y="852480"/>
            <a:ext cx="0" cy="38088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27"/>
          <p:cNvSpPr/>
          <p:nvPr/>
        </p:nvSpPr>
        <p:spPr>
          <a:xfrm>
            <a:off x="5364000" y="836640"/>
            <a:ext cx="0" cy="380880"/>
          </a:xfrm>
          <a:prstGeom prst="line">
            <a:avLst/>
          </a:prstGeom>
          <a:ln w="381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28"/>
          <p:cNvSpPr/>
          <p:nvPr/>
        </p:nvSpPr>
        <p:spPr>
          <a:xfrm>
            <a:off x="2009880" y="1233360"/>
            <a:ext cx="0" cy="762120"/>
          </a:xfrm>
          <a:prstGeom prst="line">
            <a:avLst/>
          </a:prstGeom>
          <a:ln w="57240">
            <a:solidFill>
              <a:srgbClr val="ff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5364000" y="1268280"/>
            <a:ext cx="0" cy="762120"/>
          </a:xfrm>
          <a:prstGeom prst="line">
            <a:avLst/>
          </a:prstGeom>
          <a:ln w="5724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030"/>
          <p:cNvGrpSpPr/>
          <p:nvPr/>
        </p:nvGrpSpPr>
        <p:grpSpPr>
          <a:xfrm>
            <a:off x="914400" y="1484280"/>
            <a:ext cx="8229240" cy="1755000"/>
            <a:chOff x="914400" y="1484280"/>
            <a:chExt cx="8229240" cy="1755000"/>
          </a:xfrm>
        </p:grpSpPr>
        <p:sp>
          <p:nvSpPr>
            <p:cNvPr id="256" name="Line 1031"/>
            <p:cNvSpPr/>
            <p:nvPr/>
          </p:nvSpPr>
          <p:spPr>
            <a:xfrm>
              <a:off x="1784520" y="3236760"/>
              <a:ext cx="609300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32"/>
            <p:cNvSpPr/>
            <p:nvPr/>
          </p:nvSpPr>
          <p:spPr>
            <a:xfrm>
              <a:off x="1784520" y="1484280"/>
              <a:ext cx="451044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033"/>
            <p:cNvSpPr/>
            <p:nvPr/>
          </p:nvSpPr>
          <p:spPr>
            <a:xfrm>
              <a:off x="914400" y="1484280"/>
              <a:ext cx="7992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5´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G C A  T  A  C  A  T  G  A  T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3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|   |   |   |   |   |   |   |   |   |    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34"/>
            <p:cNvSpPr/>
            <p:nvPr/>
          </p:nvSpPr>
          <p:spPr>
            <a:xfrm>
              <a:off x="914400" y="2779560"/>
              <a:ext cx="82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´      C  G T  A  T  G  T  A  C  T  G  A C  T           5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1035"/>
          <p:cNvSpPr/>
          <p:nvPr/>
        </p:nvSpPr>
        <p:spPr>
          <a:xfrm>
            <a:off x="934920" y="3716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  <a:ea typeface="华文楷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38"/>
          <p:cNvSpPr/>
          <p:nvPr/>
        </p:nvSpPr>
        <p:spPr>
          <a:xfrm>
            <a:off x="914400" y="4957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0"/>
          <p:cNvSpPr/>
          <p:nvPr/>
        </p:nvSpPr>
        <p:spPr>
          <a:xfrm>
            <a:off x="1324080" y="5477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能切除突变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片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1"/>
          <p:cNvSpPr/>
          <p:nvPr/>
        </p:nvSpPr>
        <p:spPr>
          <a:xfrm>
            <a:off x="1324080" y="4254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辨认错配的碱基对，并将其水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71640" y="3573360"/>
            <a:ext cx="71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复制中的错误进行校读，对复制和修复中出现的空隙进行填补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去除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物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28600" y="18111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-pol  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多功能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00000" y="555480"/>
            <a:ext cx="50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一）原核生物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-pol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I  II  III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59640" y="1413000"/>
            <a:ext cx="459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276720" y="4869000"/>
            <a:ext cx="5327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132000" y="18414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52280" y="457200"/>
            <a:ext cx="87631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-pol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可水解为两个片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小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大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lenow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片段  工具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聚合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2438280" y="320040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514600" y="541008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7160" y="476280"/>
            <a:ext cx="81705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生物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合成的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①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②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时的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③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某些病毒以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为模板合成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逆转录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573360"/>
            <a:ext cx="7701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replication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指遗传物质的传代，以母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为模板合成子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635280" y="5661000"/>
            <a:ext cx="1028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92360" y="522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1835280" y="5516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835280" y="573408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08000" y="5805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亲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003640" y="5805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003640" y="59500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079960" y="6084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子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003640" y="5229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003640" y="5373720"/>
            <a:ext cx="16002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09480" y="6858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NA-pol 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Ⅱ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20kD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234828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l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起作用，功能尚不清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参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损伤的应急状态修复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0"/>
          <p:cNvSpPr/>
          <p:nvPr/>
        </p:nvSpPr>
        <p:spPr>
          <a:xfrm>
            <a:off x="900000" y="479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3240000" y="4788000"/>
            <a:ext cx="50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’    3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’    5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3683160" y="5516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683160" y="5084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57200" y="1413000"/>
            <a:ext cx="838188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亚基组成的不对称二聚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α ε θ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核心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27"/>
          <p:cNvSpPr/>
          <p:nvPr/>
        </p:nvSpPr>
        <p:spPr>
          <a:xfrm>
            <a:off x="1187280" y="4941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28"/>
          <p:cNvSpPr/>
          <p:nvPr/>
        </p:nvSpPr>
        <p:spPr>
          <a:xfrm>
            <a:off x="1187280" y="4149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440640" y="51264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NA-pol   Ⅲ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468360" y="515772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原核生物复制延长中真正起催化作用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真核生物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（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种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起始引发，有引物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延长子链的主要酶，有解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活性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低保真度的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校读、修复和填补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线粒体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起催化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引物酶是一种特殊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，用于引物的合成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是一种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在复制的起始点催化合成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能直接在单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模板上催化游离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合成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并由这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提供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’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 经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聚合酶催化链的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还需要多种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解旋、解链的酶与蛋白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解螺旋酶（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helica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供能，作用于氢键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双链解开成为两条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、单链结合蛋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ingle strand binding prote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S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复制中维持模板处于单链状态并保护单链的完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 top 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松弛超螺旋，以利复制叉的行进及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，合成后再使其恢复成超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既能水解 、又能连接磷酸二酯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44720" y="5292720"/>
            <a:ext cx="306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68360" y="4500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分 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026"/>
          <p:cNvSpPr/>
          <p:nvPr/>
        </p:nvSpPr>
        <p:spPr>
          <a:xfrm>
            <a:off x="826920" y="1844640"/>
            <a:ext cx="15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027"/>
          <p:cNvSpPr/>
          <p:nvPr/>
        </p:nvSpPr>
        <p:spPr>
          <a:xfrm>
            <a:off x="3059280" y="1341360"/>
            <a:ext cx="53989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双链中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一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使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解链旋转不致打结；适当时候封闭切口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变为松弛状态</a:t>
            </a: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反应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不需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28"/>
          <p:cNvSpPr/>
          <p:nvPr/>
        </p:nvSpPr>
        <p:spPr>
          <a:xfrm>
            <a:off x="826920" y="4724280"/>
            <a:ext cx="15494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29"/>
          <p:cNvSpPr/>
          <p:nvPr/>
        </p:nvSpPr>
        <p:spPr>
          <a:xfrm>
            <a:off x="3059280" y="436572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两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断端通过切口旋转使超螺旋松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利用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供能，连接断端，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进入负超螺旋状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30"/>
          <p:cNvSpPr/>
          <p:nvPr/>
        </p:nvSpPr>
        <p:spPr>
          <a:xfrm>
            <a:off x="826920" y="40464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机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75120" y="464184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4" name="Line 3"/>
          <p:cNvSpPr/>
          <p:nvPr/>
        </p:nvSpPr>
        <p:spPr>
          <a:xfrm>
            <a:off x="4500720" y="2276640"/>
            <a:ext cx="3095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36520" y="20178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571880" y="205416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619280" y="2276640"/>
            <a:ext cx="64908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2301840" y="166212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321920" y="19591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1908000" y="5300640"/>
            <a:ext cx="1079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39360" y="4981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310520" y="504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3722760" y="2765520"/>
            <a:ext cx="0" cy="1454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76360" y="3257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DNA</a:t>
            </a: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连接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14"/>
          <p:cNvSpPr/>
          <p:nvPr/>
        </p:nvSpPr>
        <p:spPr>
          <a:xfrm rot="10800000">
            <a:off x="3708000" y="3141360"/>
            <a:ext cx="668520" cy="731880"/>
          </a:xfrm>
          <a:custGeom>
            <a:avLst/>
            <a:gdLst>
              <a:gd name="textAreaLeft" fmla="*/ 0 w 668520"/>
              <a:gd name="textAreaRight" fmla="*/ 668880 w 668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</a:path>
              <a:path stroke="0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  <a:lnTo>
                  <a:pt x="0" y="15795"/>
                </a:lnTo>
                <a:lnTo>
                  <a:pt x="14733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4003920" y="2951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3974760" y="371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1908000" y="4653000"/>
            <a:ext cx="51120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1574280" y="44244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7373520" y="44467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1692360" y="1557360"/>
            <a:ext cx="58719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321920" y="1390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7681320" y="14130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4140360" y="5300640"/>
            <a:ext cx="29034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0"/>
          <p:cNvSpPr/>
          <p:nvPr/>
        </p:nvSpPr>
        <p:spPr>
          <a:xfrm>
            <a:off x="0" y="189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四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连接酶连接复制中产生的单链缺口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4600800" y="5745240"/>
            <a:ext cx="23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双链中的单链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0574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47640" y="162864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6120" y="2403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复制的基本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</a:t>
            </a: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酶和蛋白因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反转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损伤与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84360" y="260280"/>
            <a:ext cx="7848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碱基互补基础上双链中的单链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能连接单独存在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951480" y="22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作用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3008160"/>
            <a:ext cx="839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和相邻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使二者生成磷酸二酯键，从而把两段相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连接成一条完整的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复制的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三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205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一、复制的起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解链：解开成单链，提供模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二）引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合成：引物酶的作用下，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以解开的一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为模板合成引物，提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制开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2819520" y="121932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33800" y="71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超螺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8120" y="1471680"/>
            <a:ext cx="19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拓扑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556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松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025800" y="28335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链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057400" y="37576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开双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26240" y="4433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819520" y="274320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2819520" y="4267080"/>
            <a:ext cx="2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81480" y="2895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开、理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链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维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单链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853920" y="2752560"/>
            <a:ext cx="3330360" cy="457200"/>
            <a:chOff x="853920" y="2752560"/>
            <a:chExt cx="3330360" cy="457200"/>
          </a:xfrm>
        </p:grpSpPr>
        <p:sp>
          <p:nvSpPr>
            <p:cNvPr id="346" name="Line 5"/>
            <p:cNvSpPr/>
            <p:nvPr/>
          </p:nvSpPr>
          <p:spPr>
            <a:xfrm>
              <a:off x="853920" y="27525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853920" y="32097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Line 7"/>
          <p:cNvSpPr/>
          <p:nvPr/>
        </p:nvSpPr>
        <p:spPr>
          <a:xfrm flipV="1">
            <a:off x="4214880" y="1395360"/>
            <a:ext cx="4145040" cy="1341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170240" y="3209760"/>
            <a:ext cx="4380120" cy="134784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0"/>
          <p:cNvSpPr/>
          <p:nvPr/>
        </p:nvSpPr>
        <p:spPr>
          <a:xfrm>
            <a:off x="430200" y="2981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1"/>
          <p:cNvSpPr/>
          <p:nvPr/>
        </p:nvSpPr>
        <p:spPr>
          <a:xfrm>
            <a:off x="430200" y="2468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2"/>
          <p:cNvSpPr/>
          <p:nvPr/>
        </p:nvSpPr>
        <p:spPr>
          <a:xfrm>
            <a:off x="8348760" y="1090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3"/>
          <p:cNvSpPr/>
          <p:nvPr/>
        </p:nvSpPr>
        <p:spPr>
          <a:xfrm>
            <a:off x="8539200" y="44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4"/>
          <p:cNvSpPr/>
          <p:nvPr/>
        </p:nvSpPr>
        <p:spPr>
          <a:xfrm>
            <a:off x="826920" y="54885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引物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由引物酶催化合成的短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分子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6588000" y="227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引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 flipH="1">
            <a:off x="6064920" y="1969920"/>
            <a:ext cx="1106640" cy="349920"/>
          </a:xfrm>
          <a:prstGeom prst="line">
            <a:avLst/>
          </a:prstGeom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 flipV="1" rot="9844200">
            <a:off x="5292720" y="220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 flipV="1" rot="9844200">
            <a:off x="7164000" y="169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 rot="20608800">
            <a:off x="7092720" y="160956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0"/>
          <p:cNvSpPr/>
          <p:nvPr/>
        </p:nvSpPr>
        <p:spPr>
          <a:xfrm>
            <a:off x="1332000" y="64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引物的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84240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 flipH="1" rot="991200">
            <a:off x="4570920" y="290520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5580000" y="3284640"/>
            <a:ext cx="1297080" cy="431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 rot="955800">
            <a:off x="6803640" y="37101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20469 0.09467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4592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链的延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的延长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指在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催化下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M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方式逐个加入引物或延长中的子链上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′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末端通过磷酸二酯键相连，合成两条新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子链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化学本质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磷酸二酯键的不断生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催化此反应的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063160" y="42652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随从链上要不断的生成引物，并在引物的基础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一段段“冈崎片段”。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832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4920" y="324648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6760" y="1557360"/>
            <a:ext cx="115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复制过程简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三、终止阶段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包括引物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切除、空缺部位的填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及最后由连接酶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片段成完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071"/>
          <p:cNvGrpSpPr/>
          <p:nvPr/>
        </p:nvGrpSpPr>
        <p:grpSpPr>
          <a:xfrm>
            <a:off x="599760" y="981000"/>
            <a:ext cx="7239240" cy="802800"/>
            <a:chOff x="599760" y="981000"/>
            <a:chExt cx="7239240" cy="802800"/>
          </a:xfrm>
        </p:grpSpPr>
        <p:sp>
          <p:nvSpPr>
            <p:cNvPr id="376" name="Line 1027"/>
            <p:cNvSpPr/>
            <p:nvPr/>
          </p:nvSpPr>
          <p:spPr>
            <a:xfrm>
              <a:off x="1049040" y="1216080"/>
              <a:ext cx="621000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028"/>
            <p:cNvSpPr/>
            <p:nvPr/>
          </p:nvSpPr>
          <p:spPr>
            <a:xfrm>
              <a:off x="1120320" y="1522440"/>
              <a:ext cx="456840" cy="76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0" y="0"/>
                    <a:pt x="96" y="0"/>
                  </a:cubicBezTo>
                  <a:cubicBezTo>
                    <a:pt x="112" y="0"/>
                    <a:pt x="128" y="48"/>
                    <a:pt x="144" y="48"/>
                  </a:cubicBezTo>
                  <a:cubicBezTo>
                    <a:pt x="160" y="48"/>
                    <a:pt x="176" y="0"/>
                    <a:pt x="192" y="0"/>
                  </a:cubicBezTo>
                  <a:cubicBezTo>
                    <a:pt x="208" y="0"/>
                    <a:pt x="224" y="48"/>
                    <a:pt x="240" y="48"/>
                  </a:cubicBezTo>
                  <a:cubicBezTo>
                    <a:pt x="256" y="48"/>
                    <a:pt x="280" y="8"/>
                    <a:pt x="288" y="0"/>
                  </a:cubicBezTo>
                </a:path>
              </a:pathLst>
            </a:custGeom>
            <a:noFill/>
            <a:ln w="76320">
              <a:solidFill>
                <a:srgbClr val="45c9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029"/>
            <p:cNvSpPr/>
            <p:nvPr/>
          </p:nvSpPr>
          <p:spPr>
            <a:xfrm>
              <a:off x="1577520" y="1522440"/>
              <a:ext cx="24382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030"/>
            <p:cNvSpPr/>
            <p:nvPr/>
          </p:nvSpPr>
          <p:spPr>
            <a:xfrm>
              <a:off x="4039920" y="1482840"/>
              <a:ext cx="533160" cy="759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6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8"/>
                    <a:pt x="288" y="48"/>
                  </a:cubicBezTo>
                  <a:cubicBezTo>
                    <a:pt x="304" y="48"/>
                    <a:pt x="328" y="8"/>
                    <a:pt x="336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031"/>
            <p:cNvSpPr/>
            <p:nvPr/>
          </p:nvSpPr>
          <p:spPr>
            <a:xfrm>
              <a:off x="4592160" y="1521000"/>
              <a:ext cx="26668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32"/>
            <p:cNvSpPr/>
            <p:nvPr/>
          </p:nvSpPr>
          <p:spPr>
            <a:xfrm>
              <a:off x="7403760" y="98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033"/>
            <p:cNvSpPr/>
            <p:nvPr/>
          </p:nvSpPr>
          <p:spPr>
            <a:xfrm>
              <a:off x="599760" y="13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034"/>
          <p:cNvGrpSpPr/>
          <p:nvPr/>
        </p:nvGrpSpPr>
        <p:grpSpPr>
          <a:xfrm>
            <a:off x="542880" y="1790640"/>
            <a:ext cx="7288200" cy="1558440"/>
            <a:chOff x="542880" y="1790640"/>
            <a:chExt cx="7288200" cy="1558440"/>
          </a:xfrm>
        </p:grpSpPr>
        <p:sp>
          <p:nvSpPr>
            <p:cNvPr id="384" name="Text Box 1035"/>
            <p:cNvSpPr/>
            <p:nvPr/>
          </p:nvSpPr>
          <p:spPr>
            <a:xfrm>
              <a:off x="7395840" y="24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036"/>
            <p:cNvGrpSpPr/>
            <p:nvPr/>
          </p:nvGrpSpPr>
          <p:grpSpPr>
            <a:xfrm>
              <a:off x="542880" y="1790640"/>
              <a:ext cx="6708600" cy="1558440"/>
              <a:chOff x="542880" y="1790640"/>
              <a:chExt cx="6708600" cy="1558440"/>
            </a:xfrm>
          </p:grpSpPr>
          <p:sp>
            <p:nvSpPr>
              <p:cNvPr id="386" name="Line 1037"/>
              <p:cNvSpPr/>
              <p:nvPr/>
            </p:nvSpPr>
            <p:spPr>
              <a:xfrm>
                <a:off x="3936960" y="1790640"/>
                <a:ext cx="0" cy="609840"/>
              </a:xfrm>
              <a:prstGeom prst="line">
                <a:avLst/>
              </a:prstGeom>
              <a:ln w="38160">
                <a:solidFill>
                  <a:srgbClr val="d74e3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038"/>
              <p:cNvSpPr/>
              <p:nvPr/>
            </p:nvSpPr>
            <p:spPr>
              <a:xfrm>
                <a:off x="1041120" y="2667240"/>
                <a:ext cx="62103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Text Box 1039"/>
              <p:cNvSpPr/>
              <p:nvPr/>
            </p:nvSpPr>
            <p:spPr>
              <a:xfrm>
                <a:off x="4269600" y="1852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RN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040"/>
              <p:cNvSpPr/>
              <p:nvPr/>
            </p:nvSpPr>
            <p:spPr>
              <a:xfrm>
                <a:off x="992160" y="304812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41"/>
              <p:cNvSpPr/>
              <p:nvPr/>
            </p:nvSpPr>
            <p:spPr>
              <a:xfrm>
                <a:off x="1449360" y="3124440"/>
                <a:ext cx="19047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1042"/>
              <p:cNvSpPr/>
              <p:nvPr/>
            </p:nvSpPr>
            <p:spPr>
              <a:xfrm>
                <a:off x="3297600" y="29066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43"/>
              <p:cNvSpPr/>
              <p:nvPr/>
            </p:nvSpPr>
            <p:spPr>
              <a:xfrm>
                <a:off x="4584600" y="3124440"/>
                <a:ext cx="266688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Text Box 1044"/>
              <p:cNvSpPr/>
              <p:nvPr/>
            </p:nvSpPr>
            <p:spPr>
              <a:xfrm>
                <a:off x="4289400" y="2906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1045"/>
              <p:cNvSpPr/>
              <p:nvPr/>
            </p:nvSpPr>
            <p:spPr>
              <a:xfrm>
                <a:off x="542880" y="2889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046"/>
          <p:cNvGrpSpPr/>
          <p:nvPr/>
        </p:nvGrpSpPr>
        <p:grpSpPr>
          <a:xfrm>
            <a:off x="619200" y="3390840"/>
            <a:ext cx="7238520" cy="1551960"/>
            <a:chOff x="619200" y="3390840"/>
            <a:chExt cx="7238520" cy="1551960"/>
          </a:xfrm>
        </p:grpSpPr>
        <p:grpSp>
          <p:nvGrpSpPr>
            <p:cNvPr id="396" name="Group 1047"/>
            <p:cNvGrpSpPr/>
            <p:nvPr/>
          </p:nvGrpSpPr>
          <p:grpSpPr>
            <a:xfrm>
              <a:off x="1068120" y="3390840"/>
              <a:ext cx="6789600" cy="1327320"/>
              <a:chOff x="1068120" y="3390840"/>
              <a:chExt cx="6789600" cy="1327320"/>
            </a:xfrm>
          </p:grpSpPr>
          <p:sp>
            <p:nvSpPr>
              <p:cNvPr id="397" name="Line 1048"/>
              <p:cNvSpPr/>
              <p:nvPr/>
            </p:nvSpPr>
            <p:spPr>
              <a:xfrm>
                <a:off x="4012560" y="3390840"/>
                <a:ext cx="0" cy="762120"/>
              </a:xfrm>
              <a:prstGeom prst="line">
                <a:avLst/>
              </a:prstGeom>
              <a:ln w="38160">
                <a:solidFill>
                  <a:srgbClr val="db604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1049"/>
              <p:cNvSpPr/>
              <p:nvPr/>
            </p:nvSpPr>
            <p:spPr>
              <a:xfrm>
                <a:off x="4317480" y="3390840"/>
                <a:ext cx="263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DNA-pol 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Text Box 1050"/>
              <p:cNvSpPr/>
              <p:nvPr/>
            </p:nvSpPr>
            <p:spPr>
              <a:xfrm>
                <a:off x="2551680" y="3564000"/>
                <a:ext cx="95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ff"/>
                    </a:solidFill>
                    <a:latin typeface="Times New Roman"/>
                  </a:rPr>
                  <a:t>dNT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51"/>
              <p:cNvSpPr/>
              <p:nvPr/>
            </p:nvSpPr>
            <p:spPr>
              <a:xfrm>
                <a:off x="1068120" y="4260960"/>
                <a:ext cx="621000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Text Box 1052"/>
              <p:cNvSpPr/>
              <p:nvPr/>
            </p:nvSpPr>
            <p:spPr>
              <a:xfrm>
                <a:off x="7422480" y="402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053"/>
              <p:cNvSpPr/>
              <p:nvPr/>
            </p:nvSpPr>
            <p:spPr>
              <a:xfrm>
                <a:off x="1068120" y="4641840"/>
                <a:ext cx="456840" cy="763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54"/>
              <p:cNvSpPr/>
              <p:nvPr/>
            </p:nvSpPr>
            <p:spPr>
              <a:xfrm>
                <a:off x="1524960" y="4718160"/>
                <a:ext cx="27921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55"/>
              <p:cNvSpPr/>
              <p:nvPr/>
            </p:nvSpPr>
            <p:spPr>
              <a:xfrm>
                <a:off x="4611240" y="4718160"/>
                <a:ext cx="266652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56"/>
            <p:cNvGrpSpPr/>
            <p:nvPr/>
          </p:nvGrpSpPr>
          <p:grpSpPr>
            <a:xfrm>
              <a:off x="619200" y="4483080"/>
              <a:ext cx="4036320" cy="459720"/>
              <a:chOff x="619200" y="4483080"/>
              <a:chExt cx="4036320" cy="459720"/>
            </a:xfrm>
          </p:grpSpPr>
          <p:sp>
            <p:nvSpPr>
              <p:cNvPr id="406" name="Text Box 1057"/>
              <p:cNvSpPr/>
              <p:nvPr/>
            </p:nvSpPr>
            <p:spPr>
              <a:xfrm>
                <a:off x="619200" y="4483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1058"/>
              <p:cNvSpPr/>
              <p:nvPr/>
            </p:nvSpPr>
            <p:spPr>
              <a:xfrm>
                <a:off x="4319280" y="45388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059"/>
          <p:cNvGrpSpPr/>
          <p:nvPr/>
        </p:nvGrpSpPr>
        <p:grpSpPr>
          <a:xfrm>
            <a:off x="501480" y="4761000"/>
            <a:ext cx="7288560" cy="2099520"/>
            <a:chOff x="501480" y="4761000"/>
            <a:chExt cx="7288560" cy="2099520"/>
          </a:xfrm>
        </p:grpSpPr>
        <p:sp>
          <p:nvSpPr>
            <p:cNvPr id="409" name="Line 1060"/>
            <p:cNvSpPr/>
            <p:nvPr/>
          </p:nvSpPr>
          <p:spPr>
            <a:xfrm>
              <a:off x="3944880" y="4929120"/>
              <a:ext cx="0" cy="1020960"/>
            </a:xfrm>
            <a:prstGeom prst="line">
              <a:avLst/>
            </a:prstGeom>
            <a:ln w="38160">
              <a:solidFill>
                <a:srgbClr val="db604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061"/>
            <p:cNvSpPr/>
            <p:nvPr/>
          </p:nvSpPr>
          <p:spPr>
            <a:xfrm>
              <a:off x="2358360" y="47610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62"/>
            <p:cNvSpPr/>
            <p:nvPr/>
          </p:nvSpPr>
          <p:spPr>
            <a:xfrm>
              <a:off x="1928520" y="5481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DP+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063"/>
            <p:cNvSpPr/>
            <p:nvPr/>
          </p:nvSpPr>
          <p:spPr>
            <a:xfrm flipH="1">
              <a:off x="3361320" y="4970520"/>
              <a:ext cx="582840" cy="720720"/>
            </a:xfrm>
            <a:custGeom>
              <a:avLst/>
              <a:gdLst>
                <a:gd name="textAreaLeft" fmla="*/ -360 w 582840"/>
                <a:gd name="textAreaRight" fmla="*/ 582840 w 58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4" h="624">
                  <a:moveTo>
                    <a:pt x="584" y="0"/>
                  </a:moveTo>
                  <a:cubicBezTo>
                    <a:pt x="300" y="92"/>
                    <a:pt x="16" y="184"/>
                    <a:pt x="8" y="288"/>
                  </a:cubicBezTo>
                  <a:cubicBezTo>
                    <a:pt x="0" y="392"/>
                    <a:pt x="268" y="508"/>
                    <a:pt x="536" y="624"/>
                  </a:cubicBezTo>
                </a:path>
              </a:pathLst>
            </a:custGeom>
            <a:noFill/>
            <a:ln w="38160">
              <a:solidFill>
                <a:srgbClr val="ec6e3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64"/>
            <p:cNvSpPr/>
            <p:nvPr/>
          </p:nvSpPr>
          <p:spPr>
            <a:xfrm>
              <a:off x="1000080" y="6178680"/>
              <a:ext cx="621036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065"/>
            <p:cNvSpPr/>
            <p:nvPr/>
          </p:nvSpPr>
          <p:spPr>
            <a:xfrm>
              <a:off x="950760" y="655956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0"/>
                    <a:pt x="288" y="48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66"/>
            <p:cNvSpPr/>
            <p:nvPr/>
          </p:nvSpPr>
          <p:spPr>
            <a:xfrm>
              <a:off x="1407960" y="6635880"/>
              <a:ext cx="58024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67"/>
            <p:cNvSpPr/>
            <p:nvPr/>
          </p:nvSpPr>
          <p:spPr>
            <a:xfrm>
              <a:off x="735480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68"/>
            <p:cNvSpPr/>
            <p:nvPr/>
          </p:nvSpPr>
          <p:spPr>
            <a:xfrm>
              <a:off x="501480" y="6400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069"/>
            <p:cNvSpPr/>
            <p:nvPr/>
          </p:nvSpPr>
          <p:spPr>
            <a:xfrm>
              <a:off x="4524840" y="5202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连接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Text Box 1070"/>
          <p:cNvSpPr/>
          <p:nvPr/>
        </p:nvSpPr>
        <p:spPr>
          <a:xfrm>
            <a:off x="25092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随从链上不连续性片段的连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第一节 </a:t>
            </a: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复制的基本规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171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真核生物复制的终止引物去除后要形成端粒结构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楷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指真核生物染色体线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分子末端的结构。可维持染色体的稳定性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复制的完整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酶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as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和蛋白质组成的一种核糖核蛋白，自身携带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为模板，由端粒酶催化合成一段端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序列，所以端粒酶是一类特殊的逆转录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四、真核染色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在每个细胞周期中只能复制一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" descr="0"/>
          <p:cNvPicPr/>
          <p:nvPr/>
        </p:nvPicPr>
        <p:blipFill>
          <a:blip r:embed="rId1"/>
          <a:stretch/>
        </p:blipFill>
        <p:spPr>
          <a:xfrm>
            <a:off x="2016000" y="1893960"/>
            <a:ext cx="511200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843640" y="5961240"/>
            <a:ext cx="32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染色体复制只在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期发生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611280" y="1700280"/>
            <a:ext cx="79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第四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逆转录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一、逆转录的概念及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逆转录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遗传信息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流向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下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过程，即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模板，四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合成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互补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619280" y="4149720"/>
            <a:ext cx="5943600" cy="1030320"/>
            <a:chOff x="1619280" y="4149720"/>
            <a:chExt cx="5943600" cy="1030320"/>
          </a:xfrm>
        </p:grpSpPr>
        <p:sp>
          <p:nvSpPr>
            <p:cNvPr id="429" name="WordArt 5"/>
            <p:cNvSpPr txBox="1"/>
            <p:nvPr/>
          </p:nvSpPr>
          <p:spPr>
            <a:xfrm>
              <a:off x="1619280" y="4619520"/>
              <a:ext cx="129204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R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0" name="WordArt 6"/>
            <p:cNvSpPr txBox="1"/>
            <p:nvPr/>
          </p:nvSpPr>
          <p:spPr>
            <a:xfrm>
              <a:off x="6270480" y="4619520"/>
              <a:ext cx="129240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1" name="Text Box 7"/>
            <p:cNvSpPr/>
            <p:nvPr/>
          </p:nvSpPr>
          <p:spPr>
            <a:xfrm>
              <a:off x="3427560" y="414972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"/>
                </a:rPr>
                <a:t>逆转录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3419640" y="4869000"/>
              <a:ext cx="206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逆转录酶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reverse transcriptas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催化逆转录过程的酶称逆转录酶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中都含有此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具有三种酶活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合成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268360" y="1773360"/>
            <a:ext cx="5105160" cy="520560"/>
            <a:chOff x="2268360" y="1773360"/>
            <a:chExt cx="5105160" cy="520560"/>
          </a:xfrm>
        </p:grpSpPr>
        <p:sp>
          <p:nvSpPr>
            <p:cNvPr id="438" name="Line 5"/>
            <p:cNvSpPr/>
            <p:nvPr/>
          </p:nvSpPr>
          <p:spPr>
            <a:xfrm>
              <a:off x="2268360" y="2077920"/>
              <a:ext cx="279180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5379480" y="1773360"/>
              <a:ext cx="199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RNA 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模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2268360" y="2205000"/>
            <a:ext cx="5371920" cy="1448640"/>
            <a:chOff x="2268360" y="2205000"/>
            <a:chExt cx="5371920" cy="1448640"/>
          </a:xfrm>
        </p:grpSpPr>
        <p:sp>
          <p:nvSpPr>
            <p:cNvPr id="441" name="Line 8"/>
            <p:cNvSpPr/>
            <p:nvPr/>
          </p:nvSpPr>
          <p:spPr>
            <a:xfrm>
              <a:off x="2877840" y="220500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261960" y="220500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2268360" y="3087360"/>
              <a:ext cx="28954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2268360" y="331596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5268600" y="27064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DNA-RNA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杂化双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13"/>
          <p:cNvGrpSpPr/>
          <p:nvPr/>
        </p:nvGrpSpPr>
        <p:grpSpPr>
          <a:xfrm>
            <a:off x="2268360" y="3645000"/>
            <a:ext cx="4905360" cy="1099800"/>
            <a:chOff x="2268360" y="3645000"/>
            <a:chExt cx="4905360" cy="1099800"/>
          </a:xfrm>
        </p:grpSpPr>
        <p:sp>
          <p:nvSpPr>
            <p:cNvPr id="447" name="Line 14"/>
            <p:cNvSpPr/>
            <p:nvPr/>
          </p:nvSpPr>
          <p:spPr>
            <a:xfrm>
              <a:off x="2881440" y="3690720"/>
              <a:ext cx="0" cy="61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5"/>
            <p:cNvSpPr/>
            <p:nvPr/>
          </p:nvSpPr>
          <p:spPr>
            <a:xfrm>
              <a:off x="3341160" y="3645000"/>
              <a:ext cx="153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RNA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>
              <a:off x="2268360" y="4529160"/>
              <a:ext cx="28357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5257800" y="4224240"/>
              <a:ext cx="19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单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8"/>
          <p:cNvGrpSpPr/>
          <p:nvPr/>
        </p:nvGrpSpPr>
        <p:grpSpPr>
          <a:xfrm>
            <a:off x="2247840" y="4748040"/>
            <a:ext cx="4905360" cy="1312560"/>
            <a:chOff x="2247840" y="4748040"/>
            <a:chExt cx="4905360" cy="1312560"/>
          </a:xfrm>
        </p:grpSpPr>
        <p:sp>
          <p:nvSpPr>
            <p:cNvPr id="452" name="Line 19"/>
            <p:cNvSpPr/>
            <p:nvPr/>
          </p:nvSpPr>
          <p:spPr>
            <a:xfrm>
              <a:off x="2857320" y="474804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3162240" y="47480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1"/>
            <p:cNvSpPr/>
            <p:nvPr/>
          </p:nvSpPr>
          <p:spPr>
            <a:xfrm>
              <a:off x="2247840" y="570852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2"/>
            <p:cNvSpPr/>
            <p:nvPr/>
          </p:nvSpPr>
          <p:spPr>
            <a:xfrm>
              <a:off x="2247840" y="594180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3"/>
            <p:cNvSpPr/>
            <p:nvPr/>
          </p:nvSpPr>
          <p:spPr>
            <a:xfrm>
              <a:off x="5248080" y="5540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双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403884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意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补充了中心法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加深了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致癌、致病的认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利用反转录酶，进行基因操作，制备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c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61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二、逆转录病毒和癌基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逆转录病毒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信息中包括有病毒颗粒蛋白基因、逆转录酶基因、核心蛋白基因和被膜蛋白基因的基本结构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有时还含有病毒癌基因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损伤与修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五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1189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的类型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损伤（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 damage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各种体内外因素导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组成与结构发生变化。有的可称为突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从分子水平来看，突变就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碱基的改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是以半保留方式进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24382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4360" y="1989000"/>
            <a:ext cx="76197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，亲代双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解开为两条单链，各自作为模板，按照碱基配对的原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两个子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每一子代分子中各有一条链来自亲代，另一条是新合成的，这种复制方式叫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保留复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11160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有多种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常可分为几种类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脱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结构破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④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单链或双链断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⑤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的共价交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19810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可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缺失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插入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重排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rearrang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、错配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mis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的碱基错配称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点突变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转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同型碱基之间，即嘌呤代替另一嘌呤，或嘧啶代替另一嘧啶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颠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异型碱基之间，即嘌呤变嘧啶或嘧啶变嘌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027"/>
          <p:cNvSpPr/>
          <p:nvPr/>
        </p:nvSpPr>
        <p:spPr>
          <a:xfrm>
            <a:off x="395280" y="378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镰形红细胞贫血病人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Hb (HbS) </a:t>
            </a:r>
            <a:r>
              <a:rPr b="1" lang="el-GR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β</a:t>
            </a: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Group 1025"/>
          <p:cNvGrpSpPr/>
          <p:nvPr/>
        </p:nvGrpSpPr>
        <p:grpSpPr>
          <a:xfrm>
            <a:off x="394920" y="4653000"/>
            <a:ext cx="8498160" cy="1351440"/>
            <a:chOff x="394920" y="4653000"/>
            <a:chExt cx="8498160" cy="1351440"/>
          </a:xfrm>
        </p:grpSpPr>
        <p:sp>
          <p:nvSpPr>
            <p:cNvPr id="473" name="Text Box 1029"/>
            <p:cNvSpPr/>
            <p:nvPr/>
          </p:nvSpPr>
          <p:spPr>
            <a:xfrm>
              <a:off x="1187280" y="465300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val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30"/>
            <p:cNvSpPr/>
            <p:nvPr/>
          </p:nvSpPr>
          <p:spPr>
            <a:xfrm>
              <a:off x="3949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032"/>
            <p:cNvSpPr/>
            <p:nvPr/>
          </p:nvSpPr>
          <p:spPr>
            <a:xfrm>
              <a:off x="1763640" y="555300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033"/>
            <p:cNvSpPr/>
            <p:nvPr/>
          </p:nvSpPr>
          <p:spPr>
            <a:xfrm>
              <a:off x="1763640" y="580572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034"/>
            <p:cNvSpPr/>
            <p:nvPr/>
          </p:nvSpPr>
          <p:spPr>
            <a:xfrm>
              <a:off x="6100920" y="551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035"/>
            <p:cNvSpPr/>
            <p:nvPr/>
          </p:nvSpPr>
          <p:spPr>
            <a:xfrm>
              <a:off x="6116760" y="577224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1036"/>
            <p:cNvSpPr/>
            <p:nvPr/>
          </p:nvSpPr>
          <p:spPr>
            <a:xfrm>
              <a:off x="5343480" y="530064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G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37"/>
            <p:cNvSpPr/>
            <p:nvPr/>
          </p:nvSpPr>
          <p:spPr>
            <a:xfrm>
              <a:off x="394920" y="537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039"/>
          <p:cNvSpPr/>
          <p:nvPr/>
        </p:nvSpPr>
        <p:spPr>
          <a:xfrm>
            <a:off x="395280" y="112536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正常成人</a:t>
            </a:r>
            <a:r>
              <a:rPr b="1" lang="en-US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Hb (HbA)</a:t>
            </a:r>
            <a:r>
              <a:rPr b="1" lang="el-GR" sz="2800" spc="-1" strike="noStrike">
                <a:solidFill>
                  <a:srgbClr val="45c984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1024"/>
          <p:cNvGrpSpPr/>
          <p:nvPr/>
        </p:nvGrpSpPr>
        <p:grpSpPr>
          <a:xfrm>
            <a:off x="394920" y="1844640"/>
            <a:ext cx="8498160" cy="1280160"/>
            <a:chOff x="394920" y="1844640"/>
            <a:chExt cx="8498160" cy="1280160"/>
          </a:xfrm>
        </p:grpSpPr>
        <p:sp>
          <p:nvSpPr>
            <p:cNvPr id="483" name="Text Box 1041"/>
            <p:cNvSpPr/>
            <p:nvPr/>
          </p:nvSpPr>
          <p:spPr>
            <a:xfrm>
              <a:off x="1187280" y="184464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glu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042"/>
            <p:cNvSpPr/>
            <p:nvPr/>
          </p:nvSpPr>
          <p:spPr>
            <a:xfrm>
              <a:off x="39492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44"/>
            <p:cNvSpPr/>
            <p:nvPr/>
          </p:nvSpPr>
          <p:spPr>
            <a:xfrm>
              <a:off x="1692360" y="267192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45"/>
            <p:cNvSpPr/>
            <p:nvPr/>
          </p:nvSpPr>
          <p:spPr>
            <a:xfrm>
              <a:off x="1692360" y="292428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1046"/>
            <p:cNvSpPr/>
            <p:nvPr/>
          </p:nvSpPr>
          <p:spPr>
            <a:xfrm>
              <a:off x="6213600" y="263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047"/>
            <p:cNvSpPr/>
            <p:nvPr/>
          </p:nvSpPr>
          <p:spPr>
            <a:xfrm>
              <a:off x="6229440" y="289260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48"/>
            <p:cNvSpPr/>
            <p:nvPr/>
          </p:nvSpPr>
          <p:spPr>
            <a:xfrm>
              <a:off x="5364000" y="242100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    G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49"/>
            <p:cNvSpPr/>
            <p:nvPr/>
          </p:nvSpPr>
          <p:spPr>
            <a:xfrm>
              <a:off x="394920" y="249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、缺失 、插入 、框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缺失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一个碱基或一段核苷酸链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上消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插入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原来没有的一个碱基或一段核苷酸链插入到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中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框移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frame-shift)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突变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：三联体密码的阅读方式改变，造成蛋白质氨基酸排列顺序发生改变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026"/>
          <p:cNvGrpSpPr/>
          <p:nvPr/>
        </p:nvGrpSpPr>
        <p:grpSpPr>
          <a:xfrm>
            <a:off x="689040" y="2841480"/>
            <a:ext cx="8013600" cy="2275920"/>
            <a:chOff x="689040" y="2841480"/>
            <a:chExt cx="8013600" cy="2275920"/>
          </a:xfrm>
        </p:grpSpPr>
        <p:sp>
          <p:nvSpPr>
            <p:cNvPr id="493" name="Text Box 1027"/>
            <p:cNvSpPr/>
            <p:nvPr/>
          </p:nvSpPr>
          <p:spPr>
            <a:xfrm>
              <a:off x="3292560" y="4657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谷           酪           蛋           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028"/>
            <p:cNvSpPr/>
            <p:nvPr/>
          </p:nvSpPr>
          <p:spPr>
            <a:xfrm>
              <a:off x="2060640" y="2841480"/>
              <a:ext cx="63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华文楷体"/>
                </a:rPr>
                <a:t>C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C A U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…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029"/>
            <p:cNvSpPr/>
            <p:nvPr/>
          </p:nvSpPr>
          <p:spPr>
            <a:xfrm>
              <a:off x="3292560" y="3298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丙           缬           组          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30"/>
            <p:cNvSpPr/>
            <p:nvPr/>
          </p:nvSpPr>
          <p:spPr>
            <a:xfrm>
              <a:off x="841320" y="28414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正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031"/>
            <p:cNvSpPr/>
            <p:nvPr/>
          </p:nvSpPr>
          <p:spPr>
            <a:xfrm>
              <a:off x="2060640" y="413856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A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A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A U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C …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032"/>
            <p:cNvSpPr/>
            <p:nvPr/>
          </p:nvSpPr>
          <p:spPr>
            <a:xfrm>
              <a:off x="689040" y="4138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缺失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华文楷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 Box 1033"/>
          <p:cNvSpPr/>
          <p:nvPr/>
        </p:nvSpPr>
        <p:spPr>
          <a:xfrm>
            <a:off x="1692360" y="133992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缺失引起框移突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有双重生物学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是生物进化、分化的基础，突变与遗传的保守性存在着对立而又统一的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604880" y="37155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的损伤，可能导致生物体某些功能异常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5414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修复有多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一定条件下，机体可以纠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上错配的碱基，清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上的损伤，恢复其正常的结构，称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修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切除修复是人体细胞修复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的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重要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excision repairing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细胞内最重要和有效的修复方式，包括碱基切除修复与核苷酸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种形式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分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个基本步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识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修复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④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的连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733920" y="30492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0" y="30492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708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932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3880" y="2514600"/>
            <a:ext cx="38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509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52388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547640" y="256536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43600" y="251460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5167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94360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877080" y="257508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5120" y="1447920"/>
            <a:ext cx="167616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05520" y="1447920"/>
            <a:ext cx="160020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09480" y="5334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通过半保留复制，子代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和亲代的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是一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图10-7DNA损伤的切除修复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（二）其他的修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光修复：通过光修复酶使紫外线照射引起的嘧啶二聚体解聚的修复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重组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即从同源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母链上将相应核苷酸序列片段移至子链缺口处，然后用再合成的序列来弥补母链的空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③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SOS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广泛难以继续复制时，由此而诱发出一系列复杂的反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31920" y="2173320"/>
            <a:ext cx="535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按半保留复制方式，子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与亲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的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碱基序列一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，即子代保留了亲代的全部遗传信息，体现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遗传的保守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遗传的保守性，是物种稳定性的分子基础，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不是绝对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9960" y="1471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"/>
                <a:ea typeface="楷体"/>
              </a:rPr>
              <a:t>半保留复制的意义</a:t>
            </a:r>
            <a:r>
              <a:rPr b="1" lang="en-US" sz="3200" spc="-1" strike="noStrike">
                <a:solidFill>
                  <a:srgbClr val="ff99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42920" y="6093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图10-1DNA的半保留复制1"/>
          <p:cNvPicPr/>
          <p:nvPr/>
        </p:nvPicPr>
        <p:blipFill>
          <a:blip r:embed="rId1"/>
          <a:stretch/>
        </p:blipFill>
        <p:spPr>
          <a:xfrm>
            <a:off x="5651640" y="433440"/>
            <a:ext cx="3590640" cy="59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88678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从起始点开始呈双向复制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427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原核生物复制时，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从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起始点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(origin)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向两个方向解链，形成两个延伸方向相反的复制叉，称为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双向复制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11280" y="6149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多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复制子：习惯上把两个相邻复制起点之间的一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定为一个复制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1280" y="404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起始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rigin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or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特定的起始部位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4508640"/>
            <a:ext cx="7128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9:09:00Z</dcterms:created>
  <dc:creator/>
  <dc:description/>
  <dc:language>en-US</dc:language>
  <cp:lastModifiedBy/>
  <dcterms:modified xsi:type="dcterms:W3CDTF">2014-12-04T02:15:49Z</dcterms:modified>
  <cp:revision>155</cp:revision>
  <dc:subject/>
  <dc:title>没有幻灯片标题</dc:title>
</cp:coreProperties>
</file>