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E5125-9081-4C93-9F1C-0E5EE01E4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CD69E-D70B-43D0-B2F4-F83EFECC6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7B29B-C956-4879-BA4E-F5B2CF9F7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311D8-D202-434B-9ADC-18B6F1EBB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60C7AC-B278-4658-B424-40EF4A540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B0E26-E3BA-4206-91CE-61FFF32E2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8D080-6137-462B-800B-B52A3A25B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CD81A-A59E-45B9-93C0-89CBC8867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7DDF3-2095-4A35-870E-1E1F985E9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A36B5-F00A-4AA0-BDEE-C83C69800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A5E78-4D7D-484C-A73F-1EB507741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1F333-2547-4709-813F-188698F8F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515CB-B427-4E48-ADD9-DED6BA30E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6988F-C5B6-4947-B2F9-5BAF27503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81F4F-93D5-453B-AA62-A36ADC0F6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5D4620-6910-4091-84BB-FB6EA1EBAB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C98FA-A4AA-488D-B993-B16DDFA40F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765A2-85D4-41C1-ADE2-A87B2D416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EF713-80BD-432F-8906-1A3C4EB0B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A0319-EE87-4FD6-8E94-23E1EFF1C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A13C6-A61E-426F-80D5-99B6D19D9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E58F5-478F-4EBE-B468-AC1FA8BFF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1099F-3821-4D7A-973B-7E4D504C3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5CE48-9449-4F2F-93C4-01750354D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54B2B-CE94-4B62-8D19-CE810FADD323}" type="datetime3">
              <a:rPr b="0" lang="en-US" sz="1400" spc="-1" strike="noStrike">
                <a:solidFill>
                  <a:srgbClr val="000000"/>
                </a:solidFill>
                <a:latin typeface="Arial"/>
              </a:rPr>
              <a:t>July 30,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F10C-0747-4365-85C4-C2DCB0227F2A}"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9D771-4788-4BDF-995B-7CBFE265F62B}" type="datetime3">
              <a:rPr b="0" lang="en-US" sz="1400" spc="-1" strike="noStrike">
                <a:solidFill>
                  <a:srgbClr val="ffffff"/>
                </a:solidFill>
                <a:latin typeface="Arial"/>
              </a:rPr>
              <a:t>July 30,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4D0DF-669B-4EC1-9DD1-2F6F6B1D272B}"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7D85-D13E-4A21-82F4-C4E60A781BD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52C7-B12A-46AF-8717-A8A73DD1114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BDF2-4D22-4B5F-AF58-F733BD79831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7F8C-4979-48E7-8D1A-85CA3791474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4718-F65D-4A62-97A7-F017C38BAD9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80B2-C60B-4E3F-8874-5138A946C75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32FE-8FB7-49D7-85C5-4425F488D23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7C37-876B-433B-8219-7AA428E80EF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1075E-01FD-47A7-A76E-D04EB4B338B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D590A-E07E-4563-AA6C-36250E3C30C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FAC2B-D628-4253-B6E7-79E7F1E3E2C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7954F-D90D-46F3-8BCA-D49892C2529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7E880-6772-4A53-86C2-897940C4975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6011-4A03-4FED-9025-AEAE1D52E3E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6AAF-3AE1-4723-AF84-086E0CCEEF6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0BD4A-C724-4EB5-B7D0-C7249552AEC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2947B-E23C-4711-97C4-9F428B628C1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148D-50F7-484C-B9CF-8FD3B8A5317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23AB8-20EC-4501-BD79-87CBC287C85F}"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EFC66-4B13-48E4-96BD-2D98155E8FB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76807-A360-41A7-BB19-930F92B40C9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38868-726E-47AE-8C07-376C196E317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B070-D870-4BA9-829B-195EE605BCC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56A5C-0960-4F58-9F7C-C08A1CF30D5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A0FC3-187C-4F5D-8542-972919F8CF7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9B77-E9E5-422A-ADF3-254552597FBB}"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A815-2870-4700-A6CD-BE522A86CBF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EBC1-FE96-4132-9A17-31D1236DE31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3474D-3E66-4A04-807B-DA15BA8839A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194C-9B91-4750-ADCB-D6EEF4D3FF8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9309-4689-4E1C-AE43-1D6347B0638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38D1-A384-4BA0-886D-5F20EE47CCE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2E17-4FE8-437C-853D-ECB069381CC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3338-5A0F-47A3-B5D1-67935EC9FD9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B712-716F-476C-83DC-B48022C34A6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FFAC-04D2-4CDB-B70F-F80FE20EBE9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6C38-2026-4247-8A53-6DF4FD54FA7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6A10-99AD-4245-9E84-E3627A88CCD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73050-70CD-4D3C-B7D5-A838B310463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A3055-315D-489C-A75A-4956443E25BA}"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02F7-990E-49C3-BED5-7368367F53D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C324-01F6-46BB-B08D-E07DDB6106C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