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53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.wmf" ContentType="image/x-wmf"/>
  <Override PartName="/ppt/media/image52.jpeg" ContentType="image/jpeg"/>
  <Override PartName="/ppt/media/image4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8.png" ContentType="image/png"/>
  <Override PartName="/ppt/media/image39.png" ContentType="image/png"/>
  <Override PartName="/ppt/media/image40.wmf" ContentType="image/x-wmf"/>
  <Override PartName="/ppt/media/image43.png" ContentType="image/png"/>
  <Override PartName="/ppt/media/image44.png" ContentType="image/png"/>
  <Override PartName="/ppt/media/image45.png" ContentType="image/png"/>
  <Override PartName="/ppt/media/image33.jpeg" ContentType="image/jpeg"/>
  <Override PartName="/ppt/media/image30.wmf" ContentType="image/x-wmf"/>
  <Override PartName="/ppt/media/image34.png" ContentType="image/png"/>
  <Override PartName="/ppt/media/image46.png" ContentType="image/png"/>
  <Override PartName="/ppt/media/image6.wmf" ContentType="image/x-wmf"/>
  <Override PartName="/ppt/media/image35.png" ContentType="image/png"/>
  <Override PartName="/ppt/media/image47.png" ContentType="image/png"/>
  <Override PartName="/ppt/media/image49.jpeg" ContentType="image/jpeg"/>
  <Override PartName="/ppt/media/image36.png" ContentType="image/png"/>
  <Override PartName="/ppt/media/image48.png" ContentType="image/png"/>
  <Override PartName="/ppt/media/image8.wmf" ContentType="image/x-wmf"/>
  <Override PartName="/ppt/media/image32.png" ContentType="image/png"/>
  <Override PartName="/ppt/media/image41.png" ContentType="image/png"/>
  <Override PartName="/ppt/media/image9.wmf" ContentType="image/x-wmf"/>
  <Override PartName="/ppt/media/image28.png" ContentType="image/png"/>
  <Override PartName="/ppt/media/image51.png" ContentType="image/png"/>
  <Override PartName="/ppt/media/image12.wmf" ContentType="image/x-wmf"/>
  <Override PartName="/ppt/media/image7.wmf" ContentType="image/x-wmf"/>
  <Override PartName="/ppt/media/image37.wmf" ContentType="image/x-wmf"/>
  <Override PartName="/ppt/media/image50.png" ContentType="image/png"/>
  <Override PartName="/ppt/media/image11.wmf" ContentType="image/x-wmf"/>
  <Override PartName="/ppt/media/image10.wmf" ContentType="image/x-wmf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69C8-39D2-4ABC-A087-4FBE8DBF71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679D-5E08-4900-A7E6-FDAEB6205F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6C89-A2DC-4BF1-8871-7EB28C6BFD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3629-2B17-4F07-A77A-39431747FA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4F40-D630-46FB-BC23-B5C5AC5242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B178-9EC3-4C9B-AF7A-62E8BDE08D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82800" y="5634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ces stabilizing the DNA double helix can be overcome by heating the DNA in solution or by treating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very high or very low pH (low pH will also damage the DNA, whereas high pH will simply separat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ucleotide chains).  When the strands of DNA separate, the DNA is said to be denatured (when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is used to denature DNA, the DNA is said to be melted).   Because some of the forces stabiliz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ouble helix are contributed by base pairing interactions, and because A-T base pairs have only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in contrast to G-C base pairs which have three hydrogen bonds, regions of the DNA duplex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-T rich will denature first.  Once denaturation has begun, there is a cooperative unwinding of the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x that ultimately results in complete strand sepa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2295-54D1-46CA-BBF0-2B902347A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0F9B-E7EE-4214-885B-6FA58A94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5746-7668-4AEF-935C-9B8523D61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0B23-3FEC-4F91-8865-F11277459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A686-7FD7-4A6D-895C-1217903CD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4A90-9613-4F00-8CAF-18E8EDA2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CA48-9796-49AB-BD0D-D673C729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189A-98B1-4C09-929B-8BA25D8B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C59B-CD14-49B0-B36C-3F28BCD5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2595-71CD-4FE7-A672-2F4EFFD0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D5FD-D265-4F3D-AC3F-BCC21BD9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AE99-170A-4C30-ADBB-17896A56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AD3D-4F7E-4B9F-992D-8D6A1436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E514-FC0F-45FB-A733-82D7D2B6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470F-9784-468D-A325-C2B8F6C0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6B65-21A9-48E5-9686-AAA559A7B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B525-DF9A-4D6E-B6E7-449C13E7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04212-B143-4478-A789-80371891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B852B-3A51-4F96-99DA-15ACBF22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C6991-F439-4CD6-A6D1-45CB6AD8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7C481-DE7D-4A93-AEF2-35F48AF5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A3B94-4E03-4AA4-8F84-0796CF97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53FA-BF4D-4DED-A6FD-88E6FCF5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28951-F9F2-46DC-9E41-1D4E78ED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A4493-A45E-40DC-9D4E-D7B7C61F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E2E24-E0D6-4A64-86A6-D2C26460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079D4-5DE5-4E87-85AC-3F130EA4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DF471-EA91-434D-A197-0B38ACC3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7442D-E82B-4FE7-9E37-AD8E493E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7250D-3911-41F4-A5D1-1BCD0AC0A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C2F0-D0F6-4579-BC60-6E5E40E1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9316-D91C-4C0E-9CC0-15E6F442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21B5-5569-4862-8D83-31E5B3EA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5CEF-100F-4774-AC7F-56F58198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143B-7C74-464D-B16B-7A883A5A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4780-5C4A-481B-82E2-E1C38F3E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4A49-3339-4501-B478-93CC626BDA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49B0-EB71-4D15-83E8-C12A2F6E604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7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8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3506-72CA-4C82-8290-EAC1DD305C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1532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二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酸的结构与功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24000" y="4220640"/>
            <a:ext cx="8496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tructure and Function of Nucle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1332000" y="155736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碱基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bas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含氮的杂环化合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612720" y="378468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692360" y="3429000"/>
            <a:ext cx="71280" cy="12952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836720" y="31370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836720" y="44370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2989440" y="2852640"/>
            <a:ext cx="71280" cy="86364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989440" y="4292640"/>
            <a:ext cx="142560" cy="1584360"/>
          </a:xfrm>
          <a:custGeom>
            <a:avLst/>
            <a:gdLst>
              <a:gd name="textAreaLeft" fmla="*/ 91080 w 142560"/>
              <a:gd name="textAreaRight" fmla="*/ 142920 w 1425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205080" y="2563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腺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3132000" y="3355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鸟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3205080" y="47959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尿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3205080" y="55846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胸腺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3205080" y="400356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4861080" y="2781360"/>
            <a:ext cx="71280" cy="1584360"/>
          </a:xfrm>
          <a:custGeom>
            <a:avLst/>
            <a:gdLst>
              <a:gd name="textAreaLeft" fmla="*/ 0 w 71280"/>
              <a:gd name="textAreaRight" fmla="*/ 25560 w 712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4932360" y="3284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5581800" y="4795920"/>
            <a:ext cx="32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5580000" y="558972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4861080" y="508464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5005440" y="5877000"/>
            <a:ext cx="57456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04292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碱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971640" y="1125360"/>
            <a:ext cx="3095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r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4"/>
          <p:cNvSpPr/>
          <p:nvPr/>
        </p:nvSpPr>
        <p:spPr>
          <a:xfrm rot="1852200">
            <a:off x="3419640" y="400500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 rot="19771800">
            <a:off x="3492000" y="242064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Object 6"/>
          <p:cNvGraphicFramePr/>
          <p:nvPr/>
        </p:nvGraphicFramePr>
        <p:xfrm>
          <a:off x="468360" y="234936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4936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Group 18"/>
          <p:cNvGrpSpPr/>
          <p:nvPr/>
        </p:nvGrpSpPr>
        <p:grpSpPr>
          <a:xfrm>
            <a:off x="4932360" y="260280"/>
            <a:ext cx="3600360" cy="2895480"/>
            <a:chOff x="4932360" y="260280"/>
            <a:chExt cx="3600360" cy="2895480"/>
          </a:xfrm>
        </p:grpSpPr>
        <p:graphicFrame>
          <p:nvGraphicFramePr>
            <p:cNvPr id="210" name="Object 2"/>
            <p:cNvGraphicFramePr/>
            <p:nvPr/>
          </p:nvGraphicFramePr>
          <p:xfrm>
            <a:off x="5003640" y="26028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1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26028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2" name="Rectangle 9"/>
            <p:cNvSpPr/>
            <p:nvPr/>
          </p:nvSpPr>
          <p:spPr>
            <a:xfrm>
              <a:off x="4932360" y="263520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denine, 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19"/>
          <p:cNvGrpSpPr/>
          <p:nvPr/>
        </p:nvGrpSpPr>
        <p:grpSpPr>
          <a:xfrm>
            <a:off x="4932360" y="3357720"/>
            <a:ext cx="3743280" cy="2968200"/>
            <a:chOff x="4932360" y="3357720"/>
            <a:chExt cx="3743280" cy="2968200"/>
          </a:xfrm>
        </p:grpSpPr>
        <p:graphicFrame>
          <p:nvGraphicFramePr>
            <p:cNvPr id="214" name="Object 12"/>
            <p:cNvGraphicFramePr/>
            <p:nvPr/>
          </p:nvGraphicFramePr>
          <p:xfrm>
            <a:off x="4932360" y="33577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5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32360" y="33577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Rectangle 13"/>
            <p:cNvSpPr/>
            <p:nvPr/>
          </p:nvSpPr>
          <p:spPr>
            <a:xfrm>
              <a:off x="4932360" y="58053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uanine, G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2"/>
          <p:cNvGraphicFramePr/>
          <p:nvPr/>
        </p:nvGraphicFramePr>
        <p:xfrm>
          <a:off x="2050920" y="1052640"/>
          <a:ext cx="170028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052640"/>
                    <a:ext cx="170028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AutoShape 3"/>
          <p:cNvSpPr/>
          <p:nvPr/>
        </p:nvSpPr>
        <p:spPr>
          <a:xfrm>
            <a:off x="3995640" y="191628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4"/>
          <p:cNvSpPr/>
          <p:nvPr/>
        </p:nvSpPr>
        <p:spPr>
          <a:xfrm rot="17803800">
            <a:off x="2106360" y="351756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5"/>
          <p:cNvSpPr/>
          <p:nvPr/>
        </p:nvSpPr>
        <p:spPr>
          <a:xfrm rot="2620800">
            <a:off x="3563640" y="3212640"/>
            <a:ext cx="1218960" cy="335160"/>
          </a:xfrm>
          <a:prstGeom prst="rightArrow">
            <a:avLst>
              <a:gd name="adj1" fmla="val 50000"/>
              <a:gd name="adj2" fmla="val 909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84360" y="404640"/>
            <a:ext cx="4103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rimid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18"/>
          <p:cNvGrpSpPr/>
          <p:nvPr/>
        </p:nvGrpSpPr>
        <p:grpSpPr>
          <a:xfrm>
            <a:off x="755640" y="3478320"/>
            <a:ext cx="3384360" cy="2997360"/>
            <a:chOff x="755640" y="3478320"/>
            <a:chExt cx="3384360" cy="2997360"/>
          </a:xfrm>
        </p:grpSpPr>
        <p:sp>
          <p:nvSpPr>
            <p:cNvPr id="224" name="Rectangle 12"/>
            <p:cNvSpPr/>
            <p:nvPr/>
          </p:nvSpPr>
          <p:spPr>
            <a:xfrm>
              <a:off x="755640" y="599796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ytosine,C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5" name="Object 13"/>
            <p:cNvGraphicFramePr/>
            <p:nvPr/>
          </p:nvGraphicFramePr>
          <p:xfrm>
            <a:off x="1044360" y="347832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6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44360" y="347832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7" name="Group 16"/>
          <p:cNvGrpSpPr/>
          <p:nvPr/>
        </p:nvGrpSpPr>
        <p:grpSpPr>
          <a:xfrm>
            <a:off x="5003640" y="333360"/>
            <a:ext cx="3203640" cy="2968560"/>
            <a:chOff x="5003640" y="333360"/>
            <a:chExt cx="3203640" cy="2968560"/>
          </a:xfrm>
        </p:grpSpPr>
        <p:sp>
          <p:nvSpPr>
            <p:cNvPr id="228" name="Rectangle 10"/>
            <p:cNvSpPr/>
            <p:nvPr/>
          </p:nvSpPr>
          <p:spPr>
            <a:xfrm>
              <a:off x="500364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racil, U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9" name="Object 14"/>
            <p:cNvGraphicFramePr/>
            <p:nvPr/>
          </p:nvGraphicFramePr>
          <p:xfrm>
            <a:off x="529272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0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9272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1" name="Group 17"/>
          <p:cNvGrpSpPr/>
          <p:nvPr/>
        </p:nvGrpSpPr>
        <p:grpSpPr>
          <a:xfrm>
            <a:off x="4500720" y="3429000"/>
            <a:ext cx="3960720" cy="3041640"/>
            <a:chOff x="4500720" y="3429000"/>
            <a:chExt cx="3960720" cy="3041640"/>
          </a:xfrm>
        </p:grpSpPr>
        <p:sp>
          <p:nvSpPr>
            <p:cNvPr id="232" name="Rectangle 11"/>
            <p:cNvSpPr/>
            <p:nvPr/>
          </p:nvSpPr>
          <p:spPr>
            <a:xfrm>
              <a:off x="4573440" y="595008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ymine, T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3" name="Object 15"/>
            <p:cNvGraphicFramePr/>
            <p:nvPr/>
          </p:nvGraphicFramePr>
          <p:xfrm>
            <a:off x="4500720" y="342900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4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00720" y="342900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6912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DNA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与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的异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11280" y="2205000"/>
          <a:ext cx="7929360" cy="3484440"/>
        </p:xfrm>
        <a:graphic>
          <a:graphicData uri="http://schemas.openxmlformats.org/drawingml/2006/table">
            <a:tbl>
              <a:tblPr/>
              <a:tblGrid>
                <a:gridCol w="2014560"/>
                <a:gridCol w="3273480"/>
                <a:gridCol w="2641320"/>
              </a:tblGrid>
              <a:tr h="116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碱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戊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脱氧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611280" y="3716280"/>
            <a:ext cx="5635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, GR, UR, 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脱氧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R, dGR, dTR, d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324000" y="6922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核苷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179280" y="1700280"/>
            <a:ext cx="8353080" cy="1693800"/>
            <a:chOff x="179280" y="1700280"/>
            <a:chExt cx="8353080" cy="1693800"/>
          </a:xfrm>
        </p:grpSpPr>
        <p:sp>
          <p:nvSpPr>
            <p:cNvPr id="241" name="Text Box 5"/>
            <p:cNvSpPr/>
            <p:nvPr/>
          </p:nvSpPr>
          <p:spPr>
            <a:xfrm>
              <a:off x="179280" y="1700280"/>
              <a:ext cx="83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 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1.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苷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ribonucleoside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的形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6"/>
            <p:cNvSpPr/>
            <p:nvPr/>
          </p:nvSpPr>
          <p:spPr>
            <a:xfrm>
              <a:off x="593640" y="2276280"/>
              <a:ext cx="61318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碱基和核糖（脱氧核糖）通过</a:t>
              </a:r>
              <a:r>
                <a:rPr b="1" lang="zh-CN" sz="2800" spc="-1" strike="noStrike">
                  <a:solidFill>
                    <a:srgbClr val="cc0099"/>
                  </a:solidFill>
                  <a:latin typeface="Times New Roman"/>
                </a:rPr>
                <a:t>糖苷键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连接形成核苷（脱氧核苷）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24000" y="54936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9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与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脱氧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C-1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通过</a:t>
            </a:r>
            <a:r>
              <a:rPr b="1" lang="el-GR" sz="2800" spc="-1" strike="noStrike">
                <a:solidFill>
                  <a:srgbClr val="cc0099"/>
                </a:solidFill>
                <a:latin typeface="Times New Roman"/>
              </a:rPr>
              <a:t>β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-N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糖苷键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相连形成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或脱氧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611280" y="1700280"/>
          <a:ext cx="3822480" cy="45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3822480" cy="45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4932360" y="1844640"/>
          <a:ext cx="3730680" cy="429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844640"/>
                    <a:ext cx="373068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457200" y="4191120"/>
            <a:ext cx="6019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MP, GMP, UMP, C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脱氧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AMP, dGMP, dTMP, dCMP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50920" y="189000"/>
            <a:ext cx="856908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核苷酸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(ribonucleot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核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苷）和磷酸以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酯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形成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脱氧核苷酸）。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492360" y="1700280"/>
            <a:ext cx="5182920" cy="4104720"/>
            <a:chOff x="3492360" y="1700280"/>
            <a:chExt cx="5182920" cy="4104720"/>
          </a:xfrm>
        </p:grpSpPr>
        <p:graphicFrame>
          <p:nvGraphicFramePr>
            <p:cNvPr id="251" name="Object 5"/>
            <p:cNvGraphicFramePr/>
            <p:nvPr/>
          </p:nvGraphicFramePr>
          <p:xfrm>
            <a:off x="6893280" y="3351960"/>
            <a:ext cx="1782000" cy="603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93280" y="3351960"/>
                      <a:ext cx="1782000" cy="60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Object 6"/>
            <p:cNvGraphicFramePr/>
            <p:nvPr/>
          </p:nvGraphicFramePr>
          <p:xfrm>
            <a:off x="4263480" y="2185200"/>
            <a:ext cx="726120" cy="128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4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63480" y="2185200"/>
                      <a:ext cx="726120" cy="128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Object 7"/>
            <p:cNvGraphicFramePr/>
            <p:nvPr/>
          </p:nvGraphicFramePr>
          <p:xfrm>
            <a:off x="3492360" y="1700280"/>
            <a:ext cx="3831480" cy="4104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6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92360" y="1700280"/>
                      <a:ext cx="3831480" cy="41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684360" y="692280"/>
            <a:ext cx="37447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多磷酸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D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Object 3"/>
          <p:cNvGraphicFramePr/>
          <p:nvPr/>
        </p:nvGraphicFramePr>
        <p:xfrm>
          <a:off x="3059280" y="907920"/>
          <a:ext cx="54720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907920"/>
                    <a:ext cx="54720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1187280" y="1484280"/>
            <a:ext cx="7417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环化核苷酸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AM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GMP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是细胞信号转导中的第二信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5"/>
          <p:cNvGrpSpPr/>
          <p:nvPr/>
        </p:nvGrpSpPr>
        <p:grpSpPr>
          <a:xfrm>
            <a:off x="1550160" y="2492280"/>
            <a:ext cx="4950360" cy="3485880"/>
            <a:chOff x="1550160" y="2492280"/>
            <a:chExt cx="4950360" cy="3485880"/>
          </a:xfrm>
        </p:grpSpPr>
        <p:graphicFrame>
          <p:nvGraphicFramePr>
            <p:cNvPr id="262" name="Object 16"/>
            <p:cNvGraphicFramePr/>
            <p:nvPr/>
          </p:nvGraphicFramePr>
          <p:xfrm>
            <a:off x="2995200" y="2492280"/>
            <a:ext cx="3505320" cy="3485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3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95200" y="2492280"/>
                      <a:ext cx="3505320" cy="348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4" name="Rectangle 17"/>
            <p:cNvSpPr/>
            <p:nvPr/>
          </p:nvSpPr>
          <p:spPr>
            <a:xfrm>
              <a:off x="1550160" y="4711320"/>
              <a:ext cx="114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cAM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Text Box 25"/>
          <p:cNvSpPr/>
          <p:nvPr/>
        </p:nvSpPr>
        <p:spPr>
          <a:xfrm>
            <a:off x="971640" y="69228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苷酸衍生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0"/>
          <p:cNvSpPr/>
          <p:nvPr/>
        </p:nvSpPr>
        <p:spPr>
          <a:xfrm>
            <a:off x="-324000" y="691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核苷酸通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连接成核酸大分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1258920" y="2320920"/>
            <a:ext cx="7200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一个脱氧核苷酸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或核苷酸）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羟基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另一个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</a:t>
            </a:r>
            <a:r>
              <a:rPr b="1" lang="el-GR" sz="2800" spc="-1" strike="noStrike">
                <a:solidFill>
                  <a:srgbClr val="cc0099"/>
                </a:solidFill>
                <a:latin typeface="黑体"/>
              </a:rPr>
              <a:t>α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基团缩合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二酯键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hosphodiester bond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个脱氧核苷酸通过磷酸二酯键构成了具有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方向性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线性分子，称为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多聚脱氧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olydeoxynucleotid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；多聚核苷酸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分子组成及一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.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空间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理化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CAG"/>
          <p:cNvPicPr/>
          <p:nvPr/>
        </p:nvPicPr>
        <p:blipFill>
          <a:blip r:embed="rId1"/>
          <a:stretch/>
        </p:blipFill>
        <p:spPr>
          <a:xfrm>
            <a:off x="4067280" y="907920"/>
            <a:ext cx="2965320" cy="5400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A"/>
          <p:cNvPicPr/>
          <p:nvPr/>
        </p:nvPicPr>
        <p:blipFill>
          <a:blip r:embed="rId2"/>
          <a:stretch/>
        </p:blipFill>
        <p:spPr>
          <a:xfrm>
            <a:off x="4067280" y="907920"/>
            <a:ext cx="2369880" cy="3726000"/>
          </a:xfrm>
          <a:prstGeom prst="rect">
            <a:avLst/>
          </a:prstGeom>
          <a:ln w="0">
            <a:noFill/>
          </a:ln>
        </p:spPr>
      </p:pic>
      <p:grpSp>
        <p:nvGrpSpPr>
          <p:cNvPr id="270" name="Group 4"/>
          <p:cNvGrpSpPr/>
          <p:nvPr/>
        </p:nvGrpSpPr>
        <p:grpSpPr>
          <a:xfrm>
            <a:off x="2411280" y="907920"/>
            <a:ext cx="1655640" cy="520560"/>
            <a:chOff x="2411280" y="907920"/>
            <a:chExt cx="1655640" cy="520560"/>
          </a:xfrm>
        </p:grpSpPr>
        <p:sp>
          <p:nvSpPr>
            <p:cNvPr id="271" name="Text Box 5"/>
            <p:cNvSpPr/>
            <p:nvPr/>
          </p:nvSpPr>
          <p:spPr>
            <a:xfrm>
              <a:off x="2411280" y="907920"/>
              <a:ext cx="146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5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6"/>
            <p:cNvSpPr/>
            <p:nvPr/>
          </p:nvSpPr>
          <p:spPr>
            <a:xfrm>
              <a:off x="3677400" y="1136520"/>
              <a:ext cx="3895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7"/>
          <p:cNvGrpSpPr/>
          <p:nvPr/>
        </p:nvGrpSpPr>
        <p:grpSpPr>
          <a:xfrm>
            <a:off x="2843280" y="5950080"/>
            <a:ext cx="2088720" cy="520560"/>
            <a:chOff x="2843280" y="5950080"/>
            <a:chExt cx="2088720" cy="520560"/>
          </a:xfrm>
        </p:grpSpPr>
        <p:sp>
          <p:nvSpPr>
            <p:cNvPr id="274" name="Text Box 8"/>
            <p:cNvSpPr/>
            <p:nvPr/>
          </p:nvSpPr>
          <p:spPr>
            <a:xfrm>
              <a:off x="2843280" y="5950080"/>
              <a:ext cx="159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3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9"/>
            <p:cNvSpPr/>
            <p:nvPr/>
          </p:nvSpPr>
          <p:spPr>
            <a:xfrm>
              <a:off x="4305600" y="6178680"/>
              <a:ext cx="6264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6" name="Picture 10" descr="C"/>
          <p:cNvPicPr/>
          <p:nvPr/>
        </p:nvPicPr>
        <p:blipFill>
          <a:blip r:embed="rId3"/>
          <a:stretch/>
        </p:blipFill>
        <p:spPr>
          <a:xfrm>
            <a:off x="4067280" y="907920"/>
            <a:ext cx="1895400" cy="1982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1"/>
          <p:cNvSpPr/>
          <p:nvPr/>
        </p:nvSpPr>
        <p:spPr>
          <a:xfrm>
            <a:off x="5078880" y="134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5942160" y="4797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5798160" y="3068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14"/>
          <p:cNvGrpSpPr/>
          <p:nvPr/>
        </p:nvGrpSpPr>
        <p:grpSpPr>
          <a:xfrm>
            <a:off x="1332000" y="2637000"/>
            <a:ext cx="2807640" cy="520560"/>
            <a:chOff x="1332000" y="2637000"/>
            <a:chExt cx="2807640" cy="520560"/>
          </a:xfrm>
        </p:grpSpPr>
        <p:sp>
          <p:nvSpPr>
            <p:cNvPr id="281" name="Text Box 15"/>
            <p:cNvSpPr/>
            <p:nvPr/>
          </p:nvSpPr>
          <p:spPr>
            <a:xfrm>
              <a:off x="1332000" y="2637000"/>
              <a:ext cx="214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>
              <a:off x="3297600" y="2954880"/>
              <a:ext cx="842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17"/>
          <p:cNvGrpSpPr/>
          <p:nvPr/>
        </p:nvGrpSpPr>
        <p:grpSpPr>
          <a:xfrm>
            <a:off x="971640" y="4365720"/>
            <a:ext cx="3239280" cy="520560"/>
            <a:chOff x="971640" y="4365720"/>
            <a:chExt cx="3239280" cy="520560"/>
          </a:xfrm>
        </p:grpSpPr>
        <p:sp>
          <p:nvSpPr>
            <p:cNvPr id="284" name="Text Box 18"/>
            <p:cNvSpPr/>
            <p:nvPr/>
          </p:nvSpPr>
          <p:spPr>
            <a:xfrm>
              <a:off x="971640" y="4365720"/>
              <a:ext cx="246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>
              <a:off x="3239280" y="4675320"/>
              <a:ext cx="9716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4"/>
          <p:cNvGraphicFramePr/>
          <p:nvPr/>
        </p:nvGraphicFramePr>
        <p:xfrm>
          <a:off x="900000" y="260280"/>
          <a:ext cx="6985080" cy="60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60280"/>
                    <a:ext cx="698508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CAG"/>
          <p:cNvPicPr/>
          <p:nvPr/>
        </p:nvPicPr>
        <p:blipFill>
          <a:blip r:embed="rId1"/>
          <a:stretch/>
        </p:blipFill>
        <p:spPr>
          <a:xfrm>
            <a:off x="5364000" y="260280"/>
            <a:ext cx="3532320" cy="659772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3"/>
          <p:cNvGrpSpPr/>
          <p:nvPr/>
        </p:nvGrpSpPr>
        <p:grpSpPr>
          <a:xfrm>
            <a:off x="3708360" y="549360"/>
            <a:ext cx="1294920" cy="459720"/>
            <a:chOff x="3708360" y="549360"/>
            <a:chExt cx="1294920" cy="459720"/>
          </a:xfrm>
        </p:grpSpPr>
        <p:sp>
          <p:nvSpPr>
            <p:cNvPr id="290" name="Text Box 4"/>
            <p:cNvSpPr/>
            <p:nvPr/>
          </p:nvSpPr>
          <p:spPr>
            <a:xfrm>
              <a:off x="3708360" y="549360"/>
              <a:ext cx="114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5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>
              <a:off x="4698720" y="777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6"/>
          <p:cNvGrpSpPr/>
          <p:nvPr/>
        </p:nvGrpSpPr>
        <p:grpSpPr>
          <a:xfrm>
            <a:off x="4356000" y="6165720"/>
            <a:ext cx="1524240" cy="459720"/>
            <a:chOff x="4356000" y="6165720"/>
            <a:chExt cx="1524240" cy="459720"/>
          </a:xfrm>
        </p:grpSpPr>
        <p:sp>
          <p:nvSpPr>
            <p:cNvPr id="293" name="Text Box 7"/>
            <p:cNvSpPr/>
            <p:nvPr/>
          </p:nvSpPr>
          <p:spPr>
            <a:xfrm>
              <a:off x="4356000" y="616572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3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>
              <a:off x="5423040" y="6394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Rectangle 9"/>
          <p:cNvSpPr/>
          <p:nvPr/>
        </p:nvSpPr>
        <p:spPr>
          <a:xfrm>
            <a:off x="-612720" y="90792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 、核酸的一级结构是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苷酸的排列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666180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7668720" y="5157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7526880" y="29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0" y="2781360"/>
            <a:ext cx="507672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由于核苷酸间的差异主要是碱基不同，所以也称为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碱基序列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324000" y="260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书写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Object 3"/>
          <p:cNvGraphicFramePr/>
          <p:nvPr/>
        </p:nvGraphicFramePr>
        <p:xfrm>
          <a:off x="838080" y="1371600"/>
          <a:ext cx="775332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775332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26"/>
          <p:cNvSpPr/>
          <p:nvPr/>
        </p:nvSpPr>
        <p:spPr>
          <a:xfrm>
            <a:off x="684360" y="1197000"/>
            <a:ext cx="7920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三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空间结构与功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Dimensional Structure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Function of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4"/>
          <p:cNvSpPr/>
          <p:nvPr/>
        </p:nvSpPr>
        <p:spPr>
          <a:xfrm>
            <a:off x="1476360" y="3789360"/>
            <a:ext cx="6264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又分为二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ary structure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高级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900000" y="125424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空间结构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spatial structure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1403280" y="2205000"/>
            <a:ext cx="619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所有原子在三维空间的相对位置关系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构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826920" y="62064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二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60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双螺旋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3" descr="FI4P11"/>
          <p:cNvPicPr/>
          <p:nvPr/>
        </p:nvPicPr>
        <p:blipFill>
          <a:blip r:embed="rId1"/>
          <a:stretch/>
        </p:blipFill>
        <p:spPr>
          <a:xfrm>
            <a:off x="1042920" y="1989000"/>
            <a:ext cx="1922400" cy="4373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331-2"/>
          <p:cNvPicPr/>
          <p:nvPr/>
        </p:nvPicPr>
        <p:blipFill>
          <a:blip r:embed="rId2"/>
          <a:srcRect l="0" t="0" r="48787" b="22254"/>
          <a:stretch/>
        </p:blipFill>
        <p:spPr>
          <a:xfrm>
            <a:off x="3635280" y="2349360"/>
            <a:ext cx="2206800" cy="32702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31-2"/>
          <p:cNvPicPr/>
          <p:nvPr/>
        </p:nvPicPr>
        <p:blipFill>
          <a:blip r:embed="rId3"/>
          <a:srcRect l="51880" t="18941" r="0" b="4753"/>
          <a:stretch/>
        </p:blipFill>
        <p:spPr>
          <a:xfrm>
            <a:off x="6300720" y="2349360"/>
            <a:ext cx="206712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684360" y="404640"/>
            <a:ext cx="64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研究基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324000" y="1197000"/>
            <a:ext cx="8640720" cy="86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Chargaff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规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生物种属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碱基组成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同一个体的不同器官或组织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碱基组成相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[A] = [T]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[G] = [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碱基的理化数据分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氢键配对较合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纤维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X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线衍射图谱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3"/>
          <p:cNvSpPr/>
          <p:nvPr/>
        </p:nvSpPr>
        <p:spPr>
          <a:xfrm>
            <a:off x="324000" y="40464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二）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双螺旋结构要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539640" y="1125360"/>
            <a:ext cx="453708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反向平行，围绕同一中心轴构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右手双螺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uble heli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直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37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表面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大沟和小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磷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糖骨架位于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外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碱基垂直于螺旋轴而伸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内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每圈螺旋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.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个碱基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bp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螺距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54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5076720" y="1052640"/>
          <a:ext cx="374652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052640"/>
                    <a:ext cx="37465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838080" y="609480"/>
            <a:ext cx="34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碱基互补配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49236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90000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7596360" y="1484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529272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7" descr="qingjian`"/>
          <p:cNvPicPr/>
          <p:nvPr/>
        </p:nvPicPr>
        <p:blipFill>
          <a:blip r:embed="rId1"/>
          <a:stretch/>
        </p:blipFill>
        <p:spPr>
          <a:xfrm>
            <a:off x="4859280" y="2133720"/>
            <a:ext cx="4100400" cy="4103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qingjian"/>
          <p:cNvPicPr/>
          <p:nvPr/>
        </p:nvPicPr>
        <p:blipFill>
          <a:blip r:embed="rId2"/>
          <a:stretch/>
        </p:blipFill>
        <p:spPr>
          <a:xfrm>
            <a:off x="324000" y="2205000"/>
            <a:ext cx="4321080" cy="3848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900000" y="1773360"/>
            <a:ext cx="5710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  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</a:rPr>
              <a:t>核 酸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nucleic acid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)</a:t>
            </a:r>
            <a:r>
              <a:rPr b="0" lang="en-US" sz="3600" spc="-1" strike="noStrike">
                <a:solidFill>
                  <a:srgbClr val="cc0099"/>
                </a:solidFill>
                <a:latin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405080" y="2565360"/>
            <a:ext cx="66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是以核苷酸为基本组成单位的生物大分子，携带和传递遗传信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468360" y="836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沟与小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Object 4"/>
          <p:cNvGraphicFramePr/>
          <p:nvPr/>
        </p:nvGraphicFramePr>
        <p:xfrm>
          <a:off x="684360" y="1700280"/>
          <a:ext cx="7991280" cy="42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799128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3"/>
          <p:cNvSpPr/>
          <p:nvPr/>
        </p:nvSpPr>
        <p:spPr>
          <a:xfrm>
            <a:off x="611280" y="981000"/>
            <a:ext cx="439236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通过碱基间的氢键相连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两个氢键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三个氢键，这种配对的规律，称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互补规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双螺旋稳定的因素：横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氢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纵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间的堆积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Object 4"/>
          <p:cNvGraphicFramePr/>
          <p:nvPr/>
        </p:nvGraphicFramePr>
        <p:xfrm>
          <a:off x="4932360" y="549360"/>
          <a:ext cx="38448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549360"/>
                    <a:ext cx="38448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ABZ-DNA"/>
          <p:cNvPicPr/>
          <p:nvPr/>
        </p:nvPicPr>
        <p:blipFill>
          <a:blip r:embed="rId1">
            <a:lum contrast="6000"/>
          </a:blip>
          <a:srcRect l="0" t="2895" r="4484" b="5350"/>
          <a:stretch/>
        </p:blipFill>
        <p:spPr>
          <a:xfrm>
            <a:off x="900000" y="1744560"/>
            <a:ext cx="7056720" cy="45720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"/>
          <p:cNvSpPr/>
          <p:nvPr/>
        </p:nvSpPr>
        <p:spPr>
          <a:xfrm>
            <a:off x="179280" y="765000"/>
            <a:ext cx="7848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三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多样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4"/>
          <p:cNvSpPr/>
          <p:nvPr/>
        </p:nvSpPr>
        <p:spPr>
          <a:xfrm>
            <a:off x="539640" y="69120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四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多链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826920" y="1413000"/>
            <a:ext cx="7705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5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3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被质子化，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7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形成氢键；同时，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4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氢原子也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O-6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形成氢键。另一个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A/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对之间，可形成额外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氢键，由此形成了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＋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+A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链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iplex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104760"/>
            <a:ext cx="889308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3"/>
          <p:cNvGraphicFramePr/>
          <p:nvPr/>
        </p:nvGraphicFramePr>
        <p:xfrm>
          <a:off x="1476360" y="1484280"/>
          <a:ext cx="6048360" cy="50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84280"/>
                    <a:ext cx="604836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4"/>
          <p:cNvSpPr/>
          <p:nvPr/>
        </p:nvSpPr>
        <p:spPr>
          <a:xfrm>
            <a:off x="971640" y="549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三链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026"/>
          <p:cNvSpPr/>
          <p:nvPr/>
        </p:nvSpPr>
        <p:spPr>
          <a:xfrm>
            <a:off x="611280" y="6271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二、超螺旋结构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高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033"/>
          <p:cNvSpPr/>
          <p:nvPr/>
        </p:nvSpPr>
        <p:spPr>
          <a:xfrm>
            <a:off x="1116000" y="2060280"/>
            <a:ext cx="7561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超螺旋结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helix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链再盘绕即形成超螺旋结构。</a:t>
            </a:r>
            <a:r>
              <a:rPr b="1" lang="zh-CN" sz="2800" spc="-1" strike="noStrike">
                <a:solidFill>
                  <a:srgbClr val="000099"/>
                </a:solidFill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034"/>
          <p:cNvSpPr/>
          <p:nvPr/>
        </p:nvSpPr>
        <p:spPr>
          <a:xfrm>
            <a:off x="1116000" y="3428640"/>
            <a:ext cx="6553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正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osi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双螺旋方同相同。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35"/>
          <p:cNvSpPr/>
          <p:nvPr/>
        </p:nvSpPr>
        <p:spPr>
          <a:xfrm>
            <a:off x="1116000" y="4797360"/>
            <a:ext cx="6985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负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ega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方向相反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179280" y="736560"/>
            <a:ext cx="806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原核生物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环状超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2" descr="核酸超螺旋"/>
          <p:cNvPicPr/>
          <p:nvPr/>
        </p:nvPicPr>
        <p:blipFill>
          <a:blip r:embed="rId1"/>
          <a:stretch/>
        </p:blipFill>
        <p:spPr>
          <a:xfrm>
            <a:off x="755640" y="2060640"/>
            <a:ext cx="7777080" cy="253980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3"/>
          <p:cNvSpPr/>
          <p:nvPr/>
        </p:nvSpPr>
        <p:spPr>
          <a:xfrm>
            <a:off x="900000" y="4941720"/>
            <a:ext cx="7632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核生物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为环状，以负超螺旋的形式存在，平均每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就有一个超螺旋形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79280" y="40464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在真核生物细胞核内组装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7480" indent="-125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    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高度有序和致密的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027"/>
          <p:cNvSpPr/>
          <p:nvPr/>
        </p:nvSpPr>
        <p:spPr>
          <a:xfrm>
            <a:off x="900000" y="1557360"/>
            <a:ext cx="727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028"/>
          <p:cNvSpPr/>
          <p:nvPr/>
        </p:nvSpPr>
        <p:spPr>
          <a:xfrm>
            <a:off x="755640" y="1700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029"/>
          <p:cNvSpPr/>
          <p:nvPr/>
        </p:nvSpPr>
        <p:spPr>
          <a:xfrm>
            <a:off x="755640" y="2349360"/>
            <a:ext cx="748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030"/>
          <p:cNvSpPr/>
          <p:nvPr/>
        </p:nvSpPr>
        <p:spPr>
          <a:xfrm>
            <a:off x="755640" y="249228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真核生物染色体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蛋白质构成，其基本单位是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小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nucleosom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031"/>
          <p:cNvSpPr/>
          <p:nvPr/>
        </p:nvSpPr>
        <p:spPr>
          <a:xfrm>
            <a:off x="2195640" y="3645000"/>
            <a:ext cx="626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0bp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组蛋白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Object 8"/>
          <p:cNvGraphicFramePr/>
          <p:nvPr/>
        </p:nvGraphicFramePr>
        <p:xfrm>
          <a:off x="2484360" y="404640"/>
          <a:ext cx="3826080" cy="59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404640"/>
                    <a:ext cx="382608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3" descr="2-15线粒体1"/>
          <p:cNvPicPr/>
          <p:nvPr/>
        </p:nvPicPr>
        <p:blipFill>
          <a:blip r:embed="rId1"/>
          <a:stretch/>
        </p:blipFill>
        <p:spPr>
          <a:xfrm>
            <a:off x="0" y="0"/>
            <a:ext cx="8388360" cy="6597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684360" y="2060640"/>
            <a:ext cx="77040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一节 核酸的结构与功能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黑体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verview of Structure and Fun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200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承载遗传信息的物质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971640" y="2468880"/>
            <a:ext cx="705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基本功能是以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形式荷载遗传信息，并作为基因复制和转录的模板。它是生命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遗传的物质基础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也是个体生命活动的信息基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971640" y="4588920"/>
            <a:ext cx="7129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从结构上定义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指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分子中的特定区段，其中的核苷酸排列顺序决定了基因的功能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422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四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结构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3" descr="RNA"/>
          <p:cNvPicPr/>
          <p:nvPr/>
        </p:nvPicPr>
        <p:blipFill>
          <a:blip r:embed="rId1"/>
          <a:stretch/>
        </p:blipFill>
        <p:spPr>
          <a:xfrm>
            <a:off x="2700360" y="3789360"/>
            <a:ext cx="3887640" cy="278460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1908000" y="2711520"/>
            <a:ext cx="63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tructure and Function of  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539640" y="1749600"/>
            <a:ext cx="7993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信使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NA(messenger RNA, m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合成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质的直接模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不均一核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n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有内含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ntr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是氨基酸的编码序列，而内含子是非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码序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经过剪切后成为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539640" y="549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一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是蛋白质合成的直接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AutoShape 1039"/>
          <p:cNvSpPr/>
          <p:nvPr/>
        </p:nvSpPr>
        <p:spPr>
          <a:xfrm>
            <a:off x="539640" y="2133720"/>
            <a:ext cx="2160720" cy="1368360"/>
          </a:xfrm>
          <a:prstGeom prst="wedgeRoundRectCallout">
            <a:avLst>
              <a:gd name="adj1" fmla="val 43314"/>
              <a:gd name="adj2" fmla="val 83527"/>
              <a:gd name="adj3" fmla="val 16667"/>
            </a:avLst>
          </a:prstGeom>
          <a:solidFill>
            <a:srgbClr val="e436e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内含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intr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046"/>
          <p:cNvSpPr/>
          <p:nvPr/>
        </p:nvSpPr>
        <p:spPr>
          <a:xfrm>
            <a:off x="468360" y="112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1047"/>
          <p:cNvSpPr/>
          <p:nvPr/>
        </p:nvSpPr>
        <p:spPr>
          <a:xfrm>
            <a:off x="4572000" y="2276640"/>
            <a:ext cx="2305080" cy="1225440"/>
          </a:xfrm>
          <a:prstGeom prst="wedgeRoundRectCallout">
            <a:avLst>
              <a:gd name="adj1" fmla="val -74587"/>
              <a:gd name="adj2" fmla="val 89768"/>
              <a:gd name="adj3" fmla="val 16667"/>
            </a:avLst>
          </a:prstGeom>
          <a:solidFill>
            <a:srgbClr val="66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外显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ex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050"/>
          <p:cNvSpPr/>
          <p:nvPr/>
        </p:nvSpPr>
        <p:spPr>
          <a:xfrm>
            <a:off x="2843280" y="3933720"/>
            <a:ext cx="1584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052"/>
          <p:cNvSpPr/>
          <p:nvPr/>
        </p:nvSpPr>
        <p:spPr>
          <a:xfrm>
            <a:off x="2340000" y="3933720"/>
            <a:ext cx="50328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053"/>
          <p:cNvSpPr/>
          <p:nvPr/>
        </p:nvSpPr>
        <p:spPr>
          <a:xfrm>
            <a:off x="4427640" y="3933720"/>
            <a:ext cx="93636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049"/>
          <p:cNvSpPr/>
          <p:nvPr/>
        </p:nvSpPr>
        <p:spPr>
          <a:xfrm>
            <a:off x="1547640" y="3933720"/>
            <a:ext cx="792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051"/>
          <p:cNvSpPr/>
          <p:nvPr/>
        </p:nvSpPr>
        <p:spPr>
          <a:xfrm>
            <a:off x="5364000" y="3933720"/>
            <a:ext cx="1008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054"/>
          <p:cNvSpPr/>
          <p:nvPr/>
        </p:nvSpPr>
        <p:spPr>
          <a:xfrm>
            <a:off x="6732720" y="37162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055"/>
          <p:cNvSpPr/>
          <p:nvPr/>
        </p:nvSpPr>
        <p:spPr>
          <a:xfrm>
            <a:off x="6732720" y="3789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L 0.08664 2.22222E-006 E">
                                      <p:cBhvr>
                                        <p:cTn id="359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-0.10226 2.22222E-006 E">
                                      <p:cBhvr>
                                        <p:cTn id="361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3789360"/>
            <a:ext cx="8675640" cy="23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甲基化鸟苷酸的帽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cap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m7GpppNm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的多聚腺苷酸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polyA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，称为多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由氨基酸编码区和非编码区构成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0" y="144360"/>
            <a:ext cx="91440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84360" y="620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的真核生物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Object 6"/>
          <p:cNvGraphicFramePr/>
          <p:nvPr/>
        </p:nvGraphicFramePr>
        <p:xfrm>
          <a:off x="539640" y="1268280"/>
          <a:ext cx="8209080" cy="23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68280"/>
                    <a:ext cx="8209080" cy="23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900000" y="620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</a:rPr>
              <a:t>帽子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3" descr="帽子结构"/>
          <p:cNvPicPr/>
          <p:nvPr/>
        </p:nvPicPr>
        <p:blipFill>
          <a:blip r:embed="rId1"/>
          <a:srcRect l="920" t="1433" r="920" b="1854"/>
          <a:stretch/>
        </p:blipFill>
        <p:spPr>
          <a:xfrm>
            <a:off x="826920" y="1484280"/>
            <a:ext cx="76327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026"/>
          <p:cNvSpPr/>
          <p:nvPr/>
        </p:nvSpPr>
        <p:spPr>
          <a:xfrm>
            <a:off x="1619280" y="2060640"/>
            <a:ext cx="633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内向胞质的转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维系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参与翻译起始的调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027"/>
          <p:cNvSpPr/>
          <p:nvPr/>
        </p:nvSpPr>
        <p:spPr>
          <a:xfrm>
            <a:off x="900000" y="10382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帽子结构和多聚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尾的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611280" y="1628640"/>
            <a:ext cx="784836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8e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一级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含稀有碱基较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为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—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CCA-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大多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0~9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核苷酸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08000" y="54936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蛋白质合成时氨基酸的转运工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"/>
          <p:cNvSpPr/>
          <p:nvPr/>
        </p:nvSpPr>
        <p:spPr>
          <a:xfrm>
            <a:off x="3276720" y="40464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稀有碱基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Object 3"/>
          <p:cNvGraphicFramePr/>
          <p:nvPr/>
        </p:nvGraphicFramePr>
        <p:xfrm>
          <a:off x="1835280" y="1125360"/>
          <a:ext cx="530532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125360"/>
                    <a:ext cx="530532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tRNA"/>
          <p:cNvPicPr/>
          <p:nvPr/>
        </p:nvPicPr>
        <p:blipFill>
          <a:blip r:embed="rId1"/>
          <a:srcRect l="0" t="0" r="0" b="5932"/>
          <a:stretch/>
        </p:blipFill>
        <p:spPr>
          <a:xfrm>
            <a:off x="3276720" y="260280"/>
            <a:ext cx="5510160" cy="633564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3"/>
          <p:cNvSpPr/>
          <p:nvPr/>
        </p:nvSpPr>
        <p:spPr>
          <a:xfrm>
            <a:off x="684360" y="620640"/>
            <a:ext cx="431928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2491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三叶草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6948360" y="1413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酸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6804000" y="3933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额外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755640" y="2565360"/>
            <a:ext cx="25923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氨基酸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HU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反密码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l-GR" sz="2400" spc="-1" strike="noStrike">
                <a:solidFill>
                  <a:srgbClr val="ff3300"/>
                </a:solidFill>
                <a:latin typeface="Times New Roman"/>
              </a:rPr>
              <a:t>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额外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826920" y="54936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核酸的分类及分布</a:t>
            </a:r>
            <a:r>
              <a:rPr b="1" lang="zh-CN" sz="3600" spc="-1" strike="noStrike">
                <a:solidFill>
                  <a:srgbClr val="2808e8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103640" y="4149720"/>
            <a:ext cx="5040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、细胞质和线粒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611280" y="1700280"/>
            <a:ext cx="4318560" cy="3759480"/>
            <a:chOff x="611280" y="1700280"/>
            <a:chExt cx="4318560" cy="3759480"/>
          </a:xfrm>
        </p:grpSpPr>
        <p:sp>
          <p:nvSpPr>
            <p:cNvPr id="149" name="Text Box 5"/>
            <p:cNvSpPr/>
            <p:nvPr/>
          </p:nvSpPr>
          <p:spPr>
            <a:xfrm>
              <a:off x="699480" y="2202120"/>
              <a:ext cx="3591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oxyribonucleic acid, DN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6"/>
            <p:cNvSpPr/>
            <p:nvPr/>
          </p:nvSpPr>
          <p:spPr>
            <a:xfrm>
              <a:off x="851040" y="5000040"/>
              <a:ext cx="346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ibonucleic acid, RNA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7"/>
            <p:cNvGrpSpPr/>
            <p:nvPr/>
          </p:nvGrpSpPr>
          <p:grpSpPr>
            <a:xfrm>
              <a:off x="611280" y="1700280"/>
              <a:ext cx="4318560" cy="3363120"/>
              <a:chOff x="611280" y="1700280"/>
              <a:chExt cx="4318560" cy="3363120"/>
            </a:xfrm>
          </p:grpSpPr>
          <p:grpSp>
            <p:nvGrpSpPr>
              <p:cNvPr id="152" name="Group 8"/>
              <p:cNvGrpSpPr/>
              <p:nvPr/>
            </p:nvGrpSpPr>
            <p:grpSpPr>
              <a:xfrm>
                <a:off x="691200" y="1700280"/>
                <a:ext cx="4238640" cy="3363120"/>
                <a:chOff x="691200" y="1700280"/>
                <a:chExt cx="4238640" cy="3363120"/>
              </a:xfrm>
            </p:grpSpPr>
            <p:sp>
              <p:nvSpPr>
                <p:cNvPr id="153" name="Text Box 9"/>
                <p:cNvSpPr/>
                <p:nvPr/>
              </p:nvSpPr>
              <p:spPr>
                <a:xfrm>
                  <a:off x="851400" y="1700280"/>
                  <a:ext cx="4078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脱氧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Text Box 10"/>
                <p:cNvSpPr/>
                <p:nvPr/>
              </p:nvSpPr>
              <p:spPr>
                <a:xfrm>
                  <a:off x="691200" y="4542840"/>
                  <a:ext cx="1721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AutoShape 11"/>
              <p:cNvSpPr/>
              <p:nvPr/>
            </p:nvSpPr>
            <p:spPr>
              <a:xfrm>
                <a:off x="611280" y="1986840"/>
                <a:ext cx="159840" cy="2797920"/>
              </a:xfrm>
              <a:custGeom>
                <a:avLst/>
                <a:gdLst>
                  <a:gd name="textAreaLeft" fmla="*/ 102240 w 159840"/>
                  <a:gd name="textAreaRight" fmla="*/ 159840 w 159840"/>
                  <a:gd name="textAreaTop" fmla="*/ 72720 h 2797920"/>
                  <a:gd name="textAreaBottom" fmla="*/ 2725200 h 279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Text Box 12"/>
          <p:cNvSpPr/>
          <p:nvPr/>
        </p:nvSpPr>
        <p:spPr>
          <a:xfrm>
            <a:off x="4140360" y="4724280"/>
            <a:ext cx="439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参与遗传信息的复制与表达。某些病毒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也可作为遗传信息的载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4067280" y="1628640"/>
            <a:ext cx="446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和线粒体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067280" y="2205000"/>
            <a:ext cx="4392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携带遗传信息，决定细胞和个体的遗传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enotyp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611280" y="404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倒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Object 6"/>
          <p:cNvGraphicFramePr/>
          <p:nvPr/>
        </p:nvGraphicFramePr>
        <p:xfrm>
          <a:off x="2843280" y="907920"/>
          <a:ext cx="482436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907920"/>
                    <a:ext cx="482436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5003640" y="1413000"/>
            <a:ext cx="360072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反密码子环上有一个由三个核苷酸构成的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反密码子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ticodon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反密码子依照碱基互补的原则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密码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Object 4"/>
          <p:cNvGraphicFramePr/>
          <p:nvPr/>
        </p:nvGraphicFramePr>
        <p:xfrm>
          <a:off x="34920" y="1557360"/>
          <a:ext cx="5076720" cy="46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557360"/>
                    <a:ext cx="5076720" cy="46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Rectangle 5"/>
          <p:cNvSpPr/>
          <p:nvPr/>
        </p:nvSpPr>
        <p:spPr>
          <a:xfrm>
            <a:off x="0" y="47628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反密码子识别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密码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826920" y="2349360"/>
            <a:ext cx="7417080" cy="21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NA(ribosomal R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RNA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细胞内含量最多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NA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&gt;8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％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核糖体蛋白结合组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ibosom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作为蛋白质生物合成的场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1044720" y="476280"/>
            <a:ext cx="71992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构成的核糖体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是蛋白质合成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2627280" y="54936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84360" y="1484280"/>
          <a:ext cx="7632720" cy="4456080"/>
        </p:xfrm>
        <a:graphic>
          <a:graphicData uri="http://schemas.openxmlformats.org/drawingml/2006/table">
            <a:tbl>
              <a:tblPr/>
              <a:tblGrid>
                <a:gridCol w="1655640"/>
                <a:gridCol w="2917800"/>
                <a:gridCol w="3059280"/>
              </a:tblGrid>
              <a:tr h="52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小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3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4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6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大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5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6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3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.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核糖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7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8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18SrRNA"/>
          <p:cNvPicPr/>
          <p:nvPr/>
        </p:nvPicPr>
        <p:blipFill>
          <a:blip r:embed="rId1">
            <a:lum contrast="100000"/>
          </a:blip>
          <a:srcRect l="0" t="0" r="5553" b="11360"/>
          <a:stretch/>
        </p:blipFill>
        <p:spPr>
          <a:xfrm>
            <a:off x="2124000" y="1341360"/>
            <a:ext cx="4248360" cy="522144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4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611280" y="549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8S 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826920" y="62064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蛋白质合成时形成的复合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Object 7"/>
          <p:cNvGraphicFramePr/>
          <p:nvPr/>
        </p:nvGraphicFramePr>
        <p:xfrm>
          <a:off x="611280" y="1268280"/>
          <a:ext cx="8137440" cy="487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68280"/>
                    <a:ext cx="8137440" cy="48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262080"/>
            <a:ext cx="88930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四、细胞内存在多种功能各异的非编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0" y="1341360"/>
            <a:ext cx="9144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长链非编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NA(lncRNA)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个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短链（小）非编码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c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小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核苷酸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826920" y="1413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611280" y="3429000"/>
            <a:ext cx="820872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ncRNA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功能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转录及表观遗传水平调控基因表达，参与细胞分化、器官形成、胚胎发育、物质代谢等重要生命活动及某些疾病的发生和发展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027"/>
          <p:cNvSpPr/>
          <p:nvPr/>
        </p:nvSpPr>
        <p:spPr>
          <a:xfrm>
            <a:off x="1547640" y="836640"/>
            <a:ext cx="669780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36680">
              <a:lnSpc>
                <a:spcPct val="12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内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仁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胞质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催化性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片段干扰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028"/>
          <p:cNvSpPr/>
          <p:nvPr/>
        </p:nvSpPr>
        <p:spPr>
          <a:xfrm>
            <a:off x="1476360" y="5661000"/>
            <a:ext cx="7128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428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2048"/>
          <p:cNvSpPr/>
          <p:nvPr/>
        </p:nvSpPr>
        <p:spPr>
          <a:xfrm>
            <a:off x="900000" y="33336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种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2050"/>
          <p:cNvSpPr/>
          <p:nvPr/>
        </p:nvSpPr>
        <p:spPr>
          <a:xfrm>
            <a:off x="971640" y="4437000"/>
            <a:ext cx="777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功能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参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转录后加工和转运以及基因表达过程的调控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026"/>
          <p:cNvSpPr/>
          <p:nvPr/>
        </p:nvSpPr>
        <p:spPr>
          <a:xfrm>
            <a:off x="611280" y="2349360"/>
            <a:ext cx="8028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华文行楷"/>
              </a:rPr>
              <a:t>The Physical and Chemical Characters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027"/>
          <p:cNvSpPr/>
          <p:nvPr/>
        </p:nvSpPr>
        <p:spPr>
          <a:xfrm>
            <a:off x="2962440" y="1844640"/>
            <a:ext cx="3193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五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55640" y="7650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核酸的一般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116000" y="1916280"/>
            <a:ext cx="7201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核酸为多元酸，具有较强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酸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线性高分子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黏度极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60nm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波长有最大吸收峰，是由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的共轭双键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决定的。这一特性常用作核酸的定性、定量分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24000" y="1125360"/>
            <a:ext cx="849780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二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分子组成及一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The Chemical Component and Primary Structure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各种碱基的紫外吸收"/>
          <p:cNvPicPr/>
          <p:nvPr/>
        </p:nvPicPr>
        <p:blipFill>
          <a:blip r:embed="rId1"/>
          <a:stretch/>
        </p:blipFill>
        <p:spPr>
          <a:xfrm>
            <a:off x="826920" y="333360"/>
            <a:ext cx="7201080" cy="60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1763640" y="1268280"/>
            <a:ext cx="64818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1. 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或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定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1.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当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el-GR" sz="2800" spc="-1" strike="noStrike">
                <a:solidFill>
                  <a:srgbClr val="000000"/>
                </a:solidFill>
                <a:latin typeface="黑体"/>
                <a:ea typeface="黑体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寡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判断核酸样品的纯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1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2268360" y="47628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紫外吸收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4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5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611280" y="404640"/>
            <a:ext cx="756108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3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核酸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指所有可以水解核酸的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底物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deoxyribonuclease, D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ribonuclease, R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切割部位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内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限制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非特异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外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´→3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´→5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酸外切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468360" y="620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变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naturation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900000" y="1268280"/>
            <a:ext cx="76327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定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在某些理化因素作用下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双链解开成两条单链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实质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氢键的断裂，一级结构无改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900000" y="3068640"/>
            <a:ext cx="7777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方法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过量酸，碱，加热，变性试剂如尿素、         酰胺以及某些有机溶剂如乙醇、丙酮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971640" y="4289400"/>
            <a:ext cx="60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变性后其他理化性质变化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2195640" y="5013360"/>
            <a:ext cx="5472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</a:rPr>
              <a:t>OD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黑体"/>
              </a:rPr>
              <a:t>260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增高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黏度下降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7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AutoShape 8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244680" cy="16430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3322800" cy="1440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" descr=""/>
          <p:cNvPicPr/>
          <p:nvPr/>
        </p:nvPicPr>
        <p:blipFill>
          <a:blip r:embed="rId3"/>
          <a:stretch/>
        </p:blipFill>
        <p:spPr>
          <a:xfrm>
            <a:off x="1835280" y="3141720"/>
            <a:ext cx="1108080" cy="29512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"/>
          <p:cNvPicPr/>
          <p:nvPr/>
        </p:nvPicPr>
        <p:blipFill>
          <a:blip r:embed="rId4"/>
          <a:stretch/>
        </p:blipFill>
        <p:spPr>
          <a:xfrm>
            <a:off x="5651640" y="3500280"/>
            <a:ext cx="1577880" cy="244980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6227640" y="2924280"/>
            <a:ext cx="24480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7"/>
          <p:cNvSpPr/>
          <p:nvPr/>
        </p:nvSpPr>
        <p:spPr>
          <a:xfrm>
            <a:off x="3564000" y="1773360"/>
            <a:ext cx="1584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8"/>
          <p:cNvSpPr/>
          <p:nvPr/>
        </p:nvSpPr>
        <p:spPr>
          <a:xfrm flipH="1">
            <a:off x="3563640" y="4797360"/>
            <a:ext cx="16556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6227640" y="2421000"/>
            <a:ext cx="0" cy="863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0"/>
          <p:cNvSpPr/>
          <p:nvPr/>
        </p:nvSpPr>
        <p:spPr>
          <a:xfrm>
            <a:off x="611280" y="2602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的变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900000" y="2421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双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2"/>
          <p:cNvSpPr/>
          <p:nvPr/>
        </p:nvSpPr>
        <p:spPr>
          <a:xfrm>
            <a:off x="6804000" y="2492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部分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3"/>
          <p:cNvSpPr/>
          <p:nvPr/>
        </p:nvSpPr>
        <p:spPr>
          <a:xfrm>
            <a:off x="1332000" y="6021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单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4"/>
          <p:cNvSpPr/>
          <p:nvPr/>
        </p:nvSpPr>
        <p:spPr>
          <a:xfrm>
            <a:off x="5580000" y="6093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大部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4784760" y="56786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611280" y="1844640"/>
            <a:ext cx="2952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变性的本质是双链间氢键的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4" descr="D:\Wei\教学\本科\生化原理2\BIOCHEM\CHAPT12\342-1.JPG"/>
          <p:cNvPicPr/>
          <p:nvPr/>
        </p:nvPicPr>
        <p:blipFill>
          <a:blip r:embed="rId1">
            <a:lum contrast="30000"/>
          </a:blip>
          <a:srcRect l="5839" t="0" r="1012" b="16436"/>
          <a:stretch/>
        </p:blipFill>
        <p:spPr>
          <a:xfrm>
            <a:off x="3780000" y="404640"/>
            <a:ext cx="4875120" cy="619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2627280" y="58053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紫外吸收光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Picture 3" descr="变性曲线"/>
          <p:cNvPicPr/>
          <p:nvPr/>
        </p:nvPicPr>
        <p:blipFill>
          <a:blip r:embed="rId1"/>
          <a:stretch/>
        </p:blipFill>
        <p:spPr>
          <a:xfrm>
            <a:off x="1476360" y="1700280"/>
            <a:ext cx="6337440" cy="393696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468360" y="549360"/>
            <a:ext cx="83534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增色效应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性时其溶液</a:t>
            </a:r>
            <a:r>
              <a:rPr b="1" lang="en-US" sz="2800" spc="-1" strike="noStrike">
                <a:solidFill>
                  <a:srgbClr val="d01ccc"/>
                </a:solidFill>
                <a:latin typeface="Arial"/>
              </a:rPr>
              <a:t>OD</a:t>
            </a:r>
            <a:r>
              <a:rPr b="1" lang="en-US" sz="2800" spc="-1" strike="noStrike" baseline="-25000">
                <a:solidFill>
                  <a:srgbClr val="d01ccc"/>
                </a:solidFill>
                <a:latin typeface="Arial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高的现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0" y="108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Picture 3" descr="Tm"/>
          <p:cNvPicPr/>
          <p:nvPr/>
        </p:nvPicPr>
        <p:blipFill>
          <a:blip r:embed="rId1"/>
          <a:stretch/>
        </p:blipFill>
        <p:spPr>
          <a:xfrm>
            <a:off x="250920" y="981000"/>
            <a:ext cx="4932360" cy="51753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4"/>
          <p:cNvSpPr/>
          <p:nvPr/>
        </p:nvSpPr>
        <p:spPr>
          <a:xfrm>
            <a:off x="395280" y="4046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解链曲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5364000" y="981000"/>
            <a:ext cx="352908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m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紫外光吸收值达到最大值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的温度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链温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又称融解温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melting temperature, T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其大小与</a:t>
            </a:r>
            <a:r>
              <a:rPr b="1" lang="en-US" sz="2800" spc="-1" strike="noStrike">
                <a:solidFill>
                  <a:srgbClr val="d01ccc"/>
                </a:solidFill>
                <a:latin typeface="Times New Roman"/>
              </a:rPr>
              <a:t>G+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量成正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melting-3a"/>
          <p:cNvPicPr/>
          <p:nvPr/>
        </p:nvPicPr>
        <p:blipFill>
          <a:blip r:embed="rId1"/>
          <a:stretch/>
        </p:blipFill>
        <p:spPr>
          <a:xfrm>
            <a:off x="1476360" y="1268280"/>
            <a:ext cx="5607000" cy="398952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3"/>
          <p:cNvSpPr/>
          <p:nvPr/>
        </p:nvSpPr>
        <p:spPr>
          <a:xfrm>
            <a:off x="0" y="144360"/>
            <a:ext cx="91440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1476360" y="5589720"/>
            <a:ext cx="684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+C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量越高，解链温度就越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826920" y="549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解链曲线的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复性与分子杂交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900000" y="1557360"/>
            <a:ext cx="777564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复性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enaturation)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的定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适当条件下，变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两条互补链可恢复天然的双螺旋构象，这一现象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复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971640" y="5084640"/>
            <a:ext cx="6696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减色效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复性时，其溶液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cc0099"/>
                </a:solidFill>
                <a:latin typeface="Arial"/>
                <a:ea typeface="黑体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1042920" y="3357720"/>
            <a:ext cx="734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变性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缓慢冷却后即可复性，这一过程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退火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nealing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826920" y="177336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元素组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71640" y="25653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主要元素组成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(9%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~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 11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971640" y="342900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比较，核酸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一般不含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而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的含量较为稳定，占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9%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~ 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11%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468360" y="54936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核酸的基本组成单位是核苷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684360" y="1700280"/>
            <a:ext cx="78483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种类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单链分子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放在同一溶液中，只要两种单链分子之间存在着一定程度的碱基配对关系，在适宜的条件可以在不同的分子间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杂化双链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heteroduplex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这种杂化双链可以在不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之间形成，也可以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或者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形成。这种现象称为核酸分子杂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684360" y="9079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酸分子杂交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ybridizati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Object 6"/>
          <p:cNvGraphicFramePr/>
          <p:nvPr/>
        </p:nvGraphicFramePr>
        <p:xfrm>
          <a:off x="755640" y="260280"/>
          <a:ext cx="7632720" cy="635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0280"/>
                    <a:ext cx="7632720" cy="63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755640" y="1341360"/>
            <a:ext cx="792180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核酸分子杂交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研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中某一种基因的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确定两种核酸分子间的序列相似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某些专一序列在待检样品中存在与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基因芯片技术的基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4"/>
          <p:cNvGrpSpPr/>
          <p:nvPr/>
        </p:nvGrpSpPr>
        <p:grpSpPr>
          <a:xfrm>
            <a:off x="755640" y="1989000"/>
            <a:ext cx="7345440" cy="2816640"/>
            <a:chOff x="755640" y="1989000"/>
            <a:chExt cx="7345440" cy="2816640"/>
          </a:xfrm>
        </p:grpSpPr>
        <p:sp>
          <p:nvSpPr>
            <p:cNvPr id="165" name="Rectangle 5"/>
            <p:cNvSpPr/>
            <p:nvPr/>
          </p:nvSpPr>
          <p:spPr>
            <a:xfrm>
              <a:off x="755640" y="1989000"/>
              <a:ext cx="302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分子组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6"/>
            <p:cNvSpPr/>
            <p:nvPr/>
          </p:nvSpPr>
          <p:spPr>
            <a:xfrm>
              <a:off x="1414440" y="262404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碱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基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e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嘌呤碱，嘧啶碱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1414440" y="338580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戊糖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ibos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糖，脱氧核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1414440" y="4224240"/>
              <a:ext cx="55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磷酸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osphat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900000" y="5335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戊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684360" y="1557360"/>
            <a:ext cx="3816360" cy="4336920"/>
            <a:chOff x="684360" y="1557360"/>
            <a:chExt cx="3816360" cy="4336920"/>
          </a:xfrm>
        </p:grpSpPr>
        <p:sp>
          <p:nvSpPr>
            <p:cNvPr id="171" name="Text Box 4"/>
            <p:cNvSpPr/>
            <p:nvPr/>
          </p:nvSpPr>
          <p:spPr>
            <a:xfrm>
              <a:off x="1621080" y="5373720"/>
              <a:ext cx="28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RNA</a:t>
              </a: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3708720" y="2494080"/>
              <a:ext cx="54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1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6"/>
            <p:cNvSpPr/>
            <p:nvPr/>
          </p:nvSpPr>
          <p:spPr>
            <a:xfrm>
              <a:off x="2989440" y="2997360"/>
              <a:ext cx="54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2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7"/>
            <p:cNvSpPr/>
            <p:nvPr/>
          </p:nvSpPr>
          <p:spPr>
            <a:xfrm>
              <a:off x="2197440" y="2997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3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1476720" y="2565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4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1472040" y="1922400"/>
              <a:ext cx="54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5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7" name="Object 10"/>
            <p:cNvGraphicFramePr/>
            <p:nvPr/>
          </p:nvGraphicFramePr>
          <p:xfrm>
            <a:off x="684360" y="1557360"/>
            <a:ext cx="3384720" cy="302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8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436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Text Box 11"/>
            <p:cNvSpPr/>
            <p:nvPr/>
          </p:nvSpPr>
          <p:spPr>
            <a:xfrm>
              <a:off x="1998720" y="4870440"/>
              <a:ext cx="186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2"/>
          <p:cNvGrpSpPr/>
          <p:nvPr/>
        </p:nvGrpSpPr>
        <p:grpSpPr>
          <a:xfrm>
            <a:off x="4572000" y="1557360"/>
            <a:ext cx="4043520" cy="4314600"/>
            <a:chOff x="4572000" y="1557360"/>
            <a:chExt cx="4043520" cy="4314600"/>
          </a:xfrm>
        </p:grpSpPr>
        <p:sp>
          <p:nvSpPr>
            <p:cNvPr id="181" name="Rectangle 13"/>
            <p:cNvSpPr/>
            <p:nvPr/>
          </p:nvSpPr>
          <p:spPr>
            <a:xfrm>
              <a:off x="5491440" y="535140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DNA</a:t>
              </a:r>
              <a:r>
                <a:rPr b="1" lang="zh-CN" sz="2800" spc="-1" strike="noStrike">
                  <a:solidFill>
                    <a:srgbClr val="a50021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2" name="Object 14"/>
            <p:cNvGraphicFramePr/>
            <p:nvPr/>
          </p:nvGraphicFramePr>
          <p:xfrm>
            <a:off x="4572000" y="1557360"/>
            <a:ext cx="3384720" cy="302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3" name="Object 1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Rectangle 15"/>
            <p:cNvSpPr/>
            <p:nvPr/>
          </p:nvSpPr>
          <p:spPr>
            <a:xfrm>
              <a:off x="5381640" y="4870440"/>
              <a:ext cx="31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脱氧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deoxy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2T09:39:54Z</dcterms:created>
  <dc:creator>Benny Lee</dc:creator>
  <dc:description/>
  <dc:language>en-US</dc:language>
  <cp:lastModifiedBy>ZhangLL</cp:lastModifiedBy>
  <dcterms:modified xsi:type="dcterms:W3CDTF">2014-12-03T09:01:03Z</dcterms:modified>
  <cp:revision>446</cp:revision>
  <dc:subject/>
  <dc:title>第二章 核酸的结构和功能</dc:title>
</cp:coreProperties>
</file>