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AF540-6790-436E-8BFC-0ABB6EECD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7C457-20E3-42D9-9CE8-6F9D1238A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AF8A0-CF41-4D9B-A3CB-8C324A5A4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DB001-7AAE-47EB-AB8B-8A6E6ACDA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2A7424-0DDE-4B56-A378-328BBE937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A95EA-69BD-4826-B362-60371EC07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AD406-87BB-4D5A-AC49-FDA7A2631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7F9EB-5E91-423A-9DD9-4CA68A0FB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6A31A-AB5E-4C53-A30C-382707DBE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C34D4-1DD1-4973-9143-D30171A20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6B487-9B28-40CF-8927-6799E530F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1BBFF-79F4-42F6-AD81-37BD02304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C6C3C-EDB4-4A83-80E2-A2C1F7202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F1D5F-79E7-40FD-8BBE-B4721361C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AECAE-8E67-4C95-8E20-735DE1C44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A43454-85EF-46E1-8210-E5F7EB601A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8412F-BEB4-4310-B7ED-77718C8EA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511E1-604A-45F7-B820-16CB83A92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F8E50-B410-489F-9513-CE7F685EF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4AC7D-D75B-4A9D-AE17-AB63A133C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0D019-E7A9-43F0-8A9D-BE438DAF8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C4D11-918C-4119-8C7E-8886F2A4D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7BCC0-6E1E-4521-BA57-83E5B22AC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AD914-A85B-48D3-A65B-7CFBD1168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4C3C-2FD8-4523-A055-E252D668335C}" type="datetime3">
              <a:rPr b="0" lang="en-US" sz="1400" spc="-1" strike="noStrike">
                <a:solidFill>
                  <a:srgbClr val="000000"/>
                </a:solidFill>
                <a:latin typeface="Arial"/>
              </a:rPr>
              <a:t>July 29,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808D-8CFE-4D47-A0D8-6FC0B0C9B950}"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E86F-2499-45A2-AE9E-3FE9A03337B6}" type="datetime3">
              <a:rPr b="0" lang="en-US" sz="1400" spc="-1" strike="noStrike">
                <a:solidFill>
                  <a:srgbClr val="ffffff"/>
                </a:solidFill>
                <a:latin typeface="Arial"/>
              </a:rPr>
              <a:t>July 29,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411E-03FA-4B3F-B20A-39157181E82E}"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D68D-9524-47A6-9F85-1BB6D7E72FF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9715-D101-43E4-97D5-341C5BE93D4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C272-235D-435A-9051-8AF83D83AA4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8A8A-FC3A-4630-A974-B0D8C41AF03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7ED0-AC8E-4910-8C34-A52884C53BD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7A44-C6DB-4C9E-B80D-2716BA3C971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05BD-5E83-47BE-A35E-5F4B5A8FC2D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5B57-A1F3-4FAF-ACD2-F0BFEC79D3D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E1D8-4D73-44F7-AC84-1E1585F35D1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F92F-DEDB-4BF9-852E-7646D120A5A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73DC-2ADF-4726-B0DD-E12D08BD5BF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7FDE-F02C-4E51-B372-0E2817EEF28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1F51-ABB0-42FB-BEF8-7F302D26BB1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727E-1634-484C-A35F-F4D4D0331CA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FD12-5BEE-4471-868D-D7B54CD2CFA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B245-7B64-4530-BE53-D4BA8B6B57B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5CFAF-A7DE-42A2-812D-4F8E0D71258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5758-4497-4475-8F0C-AC7F609C962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D11A-64F3-414F-B6E0-C57CD3588537}"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E361-4606-4E1B-8C3F-DBE5E4A0C14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76EB-745D-4189-ABE5-475BFB798B2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28BD-65CE-45C6-A613-B673E81DD2A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971E-30C5-4E80-8280-A2B5C0AA6FD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C1B4-03A3-4914-B5EA-A010E5D2AFB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737A-6C42-46A8-9CE4-E51A1A24388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71D7-A846-493D-9EB9-9C717F84740B}"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3A7C-4772-4E91-89EC-38B982DDC4F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6B23-949D-4BD9-BE92-529E085B5AE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36D7-C37B-4619-A42B-E7110BD1593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B898-B10A-45BC-8957-FD7FA138C55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630F-E006-4B25-9E16-688C957A977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12B3A-33E2-4DB8-AACD-383891E56AE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73BC-E529-4CCA-AF34-B67A99577CA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384B-E4A6-433B-B167-AE2600D096E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A3F5-17EB-475F-B9AE-D3D947C90BE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081F-51C6-4FB3-8A20-A3072249E4D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3034-3FC0-49E5-9F0B-492E4D8CB7C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A5E3-D92A-40AC-9428-C21945005CD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F3568-18DF-424F-AAE5-69C4020AE1E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A6D7-931D-4F76-94A0-4BF5483B83EC}"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E518-20E1-45F4-8A35-866CB135D36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B6A3-4785-442D-92C1-1B8C8AED766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