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1EDF8-B970-4CBE-929E-B6137D584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5AC4-4860-45FA-8F20-3E7B2BF2A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E12A-0F46-4390-AD7F-88937976C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B2CED-F136-4D0C-AA2C-ACCD1CF79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1E237-EF58-4FFC-8B27-FCEAC5F79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E3461-4F48-4A05-AD69-7177C9CD5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1469B-55E6-4DAE-A39A-72559491F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A38FE-9206-460C-9B25-3AD6F3329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21394-5DB0-4726-AD5F-61B7DBBCA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F377E-984B-4233-A5B7-BD2756789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A3E2A-C96E-4AD4-B186-14AC5D7A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CC1DA-7687-41C2-97FA-E322E5B7C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DC3CE-963B-4EC9-9C66-42902ADAA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C4DCF-529B-4488-B448-96B2D1448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DEEED-5D99-458B-B6AE-06A007A57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8E90F-81C3-4C9E-90E2-3C20D34C5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EBA52-E510-4DA1-97EE-7178F5617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684D2-CB68-4BC3-ADA5-3D48DCAF6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DA52-C140-47C8-8ADB-728DF8FA6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2E224-1538-42A5-8A37-F5A3C3F17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842E-8B74-4F9D-A920-3D9672D38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B65B-6757-478D-9597-D2BD5CDC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C7D7F-1C43-4731-8711-6C81094A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D0CB5-D70C-4783-BA3E-A0254BC2A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412E-CA72-4686-9BF6-52DFA98FD4F7}"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BCC0-A2F1-4AA1-8710-8346E09BABA1}"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9DB6-3FA4-4FB0-94A8-ACADD23CF645}" type="datetime3">
              <a:rPr b="0" lang="en-US" sz="1400" spc="-1" strike="noStrike">
                <a:solidFill>
                  <a:srgbClr val="ffffff"/>
                </a:solidFill>
                <a:latin typeface="Arial"/>
              </a:rPr>
              <a:t>July 31,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E86D-1A70-4D36-924D-650E38A61275}"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16AC-286F-4EC2-BFD8-4A023EF821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2C43-C4F5-40B4-B66B-5258159061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2D09-86AE-4057-8584-9F2738BCA35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854F-E297-4B8E-B533-B6C08EC9747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07A9-941B-4AC5-A698-D4258367E3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341B-BEBB-463D-8379-753B96A1680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F704-71E2-4548-A131-7C4FD57B3FA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06D9-4171-4E97-9B0B-ED3A0C89B6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9B25-A273-43FA-B746-B61B1EDAC5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9606-E798-4362-B048-C94A74F3EDC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44AF-DF43-443F-B3EF-EE4253BCCD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FCE8-390B-4E2F-AFAF-6FA1732DB9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BB52-FF93-4FF4-BD22-306F4FA9E12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28EB-0202-489D-84C1-B5EF61B9DD6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5FB2-F837-4E4A-9E78-C81C8EAF53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7359-88E3-4475-B211-CB23FC8419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4E83-6595-4E48-9DCD-04161192E30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BE2F-671B-427F-8B18-3A9CFA0C841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08CE-0923-4997-9FAB-FB3FDF04DD75}"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7947-77FB-4262-B823-FF916413D6C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1FB8-5897-40B5-BD8A-522DDCC45A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0DA4-5C30-4B65-8EBD-624D557062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360A-7902-428B-8851-FBAFDAE4360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7A33-0BE9-4626-8264-78F0ABC94C8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771A-36F2-4AA0-817D-E51387C2E37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1312-446C-4521-9AAE-C28257D6308A}"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921F-CCAE-44E4-A111-02A1C37D28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AA97-B63C-47D5-BD03-86F0124D0E1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1620-21CD-4EA8-9DB1-5C80D3D6E2A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8CCA-1E12-4856-A381-57BB57C197B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8B98-15A3-4306-8C34-B64E49729C3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1DD5-FE21-48F2-9A64-95162A417F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D9B7-9397-4160-893D-CC7485F2E4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7212-8F7E-47F2-BB42-BFC07EEBD01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64E9-C954-4264-8F8A-02AB7A8676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2EA7-BA2E-4226-B50C-B872AABE1D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566D-CAC0-4CC9-9D81-39909F2F6F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CCF3-7B59-40E8-93CA-B624195359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3C4E-3A74-4490-8AF0-A60961FDA1A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291A-3E01-443E-8694-925D47A4C5A1}"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1838-B657-4B40-B48A-1B9E1BB4C2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A5B9-E42F-4230-8E92-76B1FC9ED9B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