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gif" ContentType="image/gif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B229-4B29-4AFD-9066-471A9A573DA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BC23-EC21-4508-A4C9-6B9D2C879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4E04-ABFB-467E-AD1E-5F18FC7E3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4DF3-DEA1-447E-B6D1-583ECC9D7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468360" y="6410160"/>
            <a:ext cx="8629560" cy="316800"/>
            <a:chOff x="468360" y="6410160"/>
            <a:chExt cx="8629560" cy="316800"/>
          </a:xfrm>
        </p:grpSpPr>
        <p:sp>
          <p:nvSpPr>
            <p:cNvPr id="1" name="Text Box 13"/>
            <p:cNvSpPr/>
            <p:nvPr/>
          </p:nvSpPr>
          <p:spPr>
            <a:xfrm>
              <a:off x="5218200" y="6419880"/>
              <a:ext cx="38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高职高专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急救护理学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配套课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4"/>
            <p:cNvSpPr/>
            <p:nvPr/>
          </p:nvSpPr>
          <p:spPr>
            <a:xfrm>
              <a:off x="468360" y="6410160"/>
              <a:ext cx="8424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18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2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1116000" y="1628640"/>
            <a:ext cx="7632720" cy="39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00"/>
                </a:solidFill>
                <a:latin typeface="华文新魏"/>
                <a:ea typeface="华文新魏"/>
              </a:rPr>
              <a:t>急救护理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N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第九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意外伤害病人的救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未标题-1"/>
          <p:cNvPicPr/>
          <p:nvPr/>
        </p:nvPicPr>
        <p:blipFill>
          <a:blip r:embed="rId2"/>
          <a:stretch/>
        </p:blipFill>
        <p:spPr>
          <a:xfrm>
            <a:off x="-1260360" y="1125360"/>
            <a:ext cx="4838760" cy="48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3"/>
          <p:cNvSpPr/>
          <p:nvPr/>
        </p:nvSpPr>
        <p:spPr>
          <a:xfrm>
            <a:off x="2050920" y="0"/>
            <a:ext cx="44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0"/>
          <p:cNvSpPr/>
          <p:nvPr/>
        </p:nvSpPr>
        <p:spPr>
          <a:xfrm>
            <a:off x="250920" y="631800"/>
            <a:ext cx="8893080" cy="57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物理降温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环境降温 移至空调室内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℃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皮肤降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部降温，用冰帽、冰袋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水乙醇擦浴，冰袋冷敷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水浴：将患者浸浴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中，每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，测肛温，肛温降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停止降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体内降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股动脉注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注入病人胃内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S200ml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比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g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保留灌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④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静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-4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持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10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Box 3"/>
          <p:cNvSpPr/>
          <p:nvPr/>
        </p:nvSpPr>
        <p:spPr>
          <a:xfrm>
            <a:off x="1187280" y="0"/>
            <a:ext cx="57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4"/>
          <p:cNvSpPr/>
          <p:nvPr/>
        </p:nvSpPr>
        <p:spPr>
          <a:xfrm>
            <a:off x="468360" y="1484280"/>
            <a:ext cx="867564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药物降温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 5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静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血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塞米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推，改善机体反应性，防止脑水肿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工冬眠：氯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mg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mg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派替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Box 3"/>
          <p:cNvSpPr/>
          <p:nvPr/>
        </p:nvSpPr>
        <p:spPr>
          <a:xfrm>
            <a:off x="2124000" y="0"/>
            <a:ext cx="42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10"/>
          <p:cNvSpPr/>
          <p:nvPr/>
        </p:nvSpPr>
        <p:spPr>
          <a:xfrm>
            <a:off x="539640" y="1341360"/>
            <a:ext cx="7129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治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5"/>
          <p:cNvSpPr/>
          <p:nvPr/>
        </p:nvSpPr>
        <p:spPr>
          <a:xfrm>
            <a:off x="539640" y="2060640"/>
            <a:ext cx="842508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纠正水、电解质紊乱输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5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0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控制脑水肿  地西泮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~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静脉注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防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IC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莨菪碱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54-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~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稀释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盐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，静脉滴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防治肾衰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快速注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 甘露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静脉注射速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保持尿量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ml/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其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3"/>
          <p:cNvSpPr/>
          <p:nvPr/>
        </p:nvSpPr>
        <p:spPr>
          <a:xfrm>
            <a:off x="2700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6"/>
          <p:cNvSpPr/>
          <p:nvPr/>
        </p:nvSpPr>
        <p:spPr>
          <a:xfrm>
            <a:off x="324000" y="846000"/>
            <a:ext cx="84978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一般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室温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-2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饮食：清淡、细软、易消化、高热量、高维生素、高蛋白、低脂肪饮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口腔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皮肤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保持呼吸道通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高热惊厥的护理：防止坠床和舌咬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病情观察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密切观察患者的生命体征、神志、瞳孔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降温护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准确执行各种降温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3"/>
          <p:cNvSpPr/>
          <p:nvPr/>
        </p:nvSpPr>
        <p:spPr>
          <a:xfrm>
            <a:off x="1116000" y="3333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g高温季节预防中暑"/>
          <p:cNvPicPr/>
          <p:nvPr/>
        </p:nvPicPr>
        <p:blipFill>
          <a:blip r:embed="rId1"/>
          <a:stretch/>
        </p:blipFill>
        <p:spPr>
          <a:xfrm>
            <a:off x="684360" y="1844640"/>
            <a:ext cx="792000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128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某，男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与朋友喝完三瓶啤酒后去水库游泳，被水草缠住，朋友发现后将其救至岸上。患者口唇青紫、意识丧失、全身湿冷、脉搏细弱、上腹部膨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0328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人员到达现场后应如何救护该患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AutoShape 47"/>
          <p:cNvSpPr/>
          <p:nvPr/>
        </p:nvSpPr>
        <p:spPr>
          <a:xfrm>
            <a:off x="2340000" y="2060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5"/>
          <p:cNvSpPr/>
          <p:nvPr/>
        </p:nvSpPr>
        <p:spPr>
          <a:xfrm>
            <a:off x="2362320" y="33526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8"/>
          <p:cNvSpPr/>
          <p:nvPr/>
        </p:nvSpPr>
        <p:spPr>
          <a:xfrm>
            <a:off x="2362320" y="48006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8"/>
          <p:cNvSpPr/>
          <p:nvPr/>
        </p:nvSpPr>
        <p:spPr>
          <a:xfrm>
            <a:off x="234000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"/>
          <p:cNvSpPr/>
          <p:nvPr/>
        </p:nvSpPr>
        <p:spPr>
          <a:xfrm>
            <a:off x="1619280" y="47628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节 淹溺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2"/>
          <p:cNvSpPr/>
          <p:nvPr/>
        </p:nvSpPr>
        <p:spPr>
          <a:xfrm>
            <a:off x="176364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324000" y="1197000"/>
            <a:ext cx="864072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病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外落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泳时原有疾病发作，突然发生颅脑外伤或潜水意外导致意识障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水用具故障，发生潜水病；潜水时间过长体力不支；被异物缠绕或肢体抽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入湿地、粪池、污水池、化学物质储存池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泳前过量饮酒或服用过量镇静药物；初学游泳及自杀者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2"/>
          <p:cNvSpPr/>
          <p:nvPr/>
        </p:nvSpPr>
        <p:spPr>
          <a:xfrm>
            <a:off x="205092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324000" y="907920"/>
            <a:ext cx="8424720" cy="41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发病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性淹溺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入水后，因受强烈刺激引起喉头痉挛，以致呼吸道完全梗阻，造成窒息，呼吸道和肺泡很少或无水吸入，约占淹溺者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湿性淹溺 约占淹溺者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。根据淹溺发生水域不同分淡水淹溺和海水淹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2"/>
          <p:cNvSpPr/>
          <p:nvPr/>
        </p:nvSpPr>
        <p:spPr>
          <a:xfrm>
            <a:off x="2627280" y="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24000" y="1197000"/>
            <a:ext cx="842472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淡水淹溺   淡水进人血液循环，稀释血液，引起低钠、低氯和低蛋白血症；血中的红细胞在低渗血浆中破碎，引起血管内溶血，导致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高钾血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导致心室颤动而致心脏停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血后过量的游离血红蛋白堵塞肾小管，引起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急性肾功能衰竭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水淹溺   海水含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化钠及大量钙盐和镁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水对呼吸道和肺泡有化学性刺激作用。肺泡上皮细胞和肺毛细血管内皮细胞受海水损伤后，大量蛋白质及水分向肺间质和肺泡腔内渗出，引起急性肺水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海水淹溺可引起高钙血症和高镁血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46"/>
          <p:cNvGrpSpPr/>
          <p:nvPr/>
        </p:nvGrpSpPr>
        <p:grpSpPr>
          <a:xfrm>
            <a:off x="314280" y="2060640"/>
            <a:ext cx="8037360" cy="3023640"/>
            <a:chOff x="314280" y="2060640"/>
            <a:chExt cx="8037360" cy="3023640"/>
          </a:xfrm>
        </p:grpSpPr>
        <p:grpSp>
          <p:nvGrpSpPr>
            <p:cNvPr id="243" name="Group 41"/>
            <p:cNvGrpSpPr/>
            <p:nvPr/>
          </p:nvGrpSpPr>
          <p:grpSpPr>
            <a:xfrm>
              <a:off x="314280" y="2060640"/>
              <a:ext cx="8036640" cy="3023640"/>
              <a:chOff x="314280" y="2060640"/>
              <a:chExt cx="8036640" cy="3023640"/>
            </a:xfrm>
          </p:grpSpPr>
          <p:grpSp>
            <p:nvGrpSpPr>
              <p:cNvPr id="244" name="Group 39"/>
              <p:cNvGrpSpPr/>
              <p:nvPr/>
            </p:nvGrpSpPr>
            <p:grpSpPr>
              <a:xfrm>
                <a:off x="2195280" y="2060640"/>
                <a:ext cx="6155640" cy="3023640"/>
                <a:chOff x="2195280" y="2060640"/>
                <a:chExt cx="6155640" cy="3023640"/>
              </a:xfrm>
            </p:grpSpPr>
            <p:sp>
              <p:nvSpPr>
                <p:cNvPr id="245" name="Line 3"/>
                <p:cNvSpPr/>
                <p:nvPr/>
              </p:nvSpPr>
              <p:spPr>
                <a:xfrm>
                  <a:off x="2428200" y="3039120"/>
                  <a:ext cx="55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4"/>
                <p:cNvSpPr/>
                <p:nvPr/>
              </p:nvSpPr>
              <p:spPr>
                <a:xfrm>
                  <a:off x="2489040" y="3791520"/>
                  <a:ext cx="490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Line 5"/>
                <p:cNvSpPr/>
                <p:nvPr/>
              </p:nvSpPr>
              <p:spPr>
                <a:xfrm>
                  <a:off x="2428200" y="4467960"/>
                  <a:ext cx="55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" name="Group 6"/>
                <p:cNvGrpSpPr/>
                <p:nvPr/>
              </p:nvGrpSpPr>
              <p:grpSpPr>
                <a:xfrm>
                  <a:off x="2195280" y="2286000"/>
                  <a:ext cx="797760" cy="376200"/>
                  <a:chOff x="2195280" y="2286000"/>
                  <a:chExt cx="797760" cy="376200"/>
                </a:xfrm>
              </p:grpSpPr>
              <p:sp>
                <p:nvSpPr>
                  <p:cNvPr id="249" name="Line 7"/>
                  <p:cNvSpPr/>
                  <p:nvPr/>
                </p:nvSpPr>
                <p:spPr>
                  <a:xfrm>
                    <a:off x="2502360" y="2286360"/>
                    <a:ext cx="490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8"/>
                  <p:cNvSpPr/>
                  <p:nvPr/>
                </p:nvSpPr>
                <p:spPr>
                  <a:xfrm flipV="1">
                    <a:off x="2195280" y="2286000"/>
                    <a:ext cx="307080" cy="376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AutoShape 12"/>
                <p:cNvSpPr/>
                <p:nvPr/>
              </p:nvSpPr>
              <p:spPr>
                <a:xfrm>
                  <a:off x="2975760" y="2060640"/>
                  <a:ext cx="5157360" cy="482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AutoShape 14"/>
                <p:cNvSpPr/>
                <p:nvPr/>
              </p:nvSpPr>
              <p:spPr>
                <a:xfrm>
                  <a:off x="2975760" y="2800800"/>
                  <a:ext cx="5373360" cy="775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AutoShape 16"/>
                <p:cNvSpPr/>
                <p:nvPr/>
              </p:nvSpPr>
              <p:spPr>
                <a:xfrm>
                  <a:off x="3060720" y="3644640"/>
                  <a:ext cx="5290200" cy="4784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Oval 18"/>
                <p:cNvSpPr/>
                <p:nvPr/>
              </p:nvSpPr>
              <p:spPr>
                <a:xfrm>
                  <a:off x="2905200" y="2176920"/>
                  <a:ext cx="18684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866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Oval 19"/>
                <p:cNvSpPr/>
                <p:nvPr/>
              </p:nvSpPr>
              <p:spPr>
                <a:xfrm>
                  <a:off x="2913840" y="2927880"/>
                  <a:ext cx="18432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222288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Oval 20"/>
                <p:cNvSpPr/>
                <p:nvPr/>
              </p:nvSpPr>
              <p:spPr>
                <a:xfrm>
                  <a:off x="2913840" y="3678480"/>
                  <a:ext cx="18432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866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AutoShape 21"/>
                <p:cNvSpPr/>
                <p:nvPr/>
              </p:nvSpPr>
              <p:spPr>
                <a:xfrm>
                  <a:off x="2975760" y="4255920"/>
                  <a:ext cx="5373360" cy="82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Oval 23"/>
                <p:cNvSpPr/>
                <p:nvPr/>
              </p:nvSpPr>
              <p:spPr>
                <a:xfrm>
                  <a:off x="2905200" y="4393800"/>
                  <a:ext cx="18684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222288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Group 27"/>
              <p:cNvGrpSpPr/>
              <p:nvPr/>
            </p:nvGrpSpPr>
            <p:grpSpPr>
              <a:xfrm>
                <a:off x="314280" y="2852640"/>
                <a:ext cx="2081160" cy="1800360"/>
                <a:chOff x="314280" y="2852640"/>
                <a:chExt cx="2081160" cy="1800360"/>
              </a:xfrm>
            </p:grpSpPr>
            <p:sp>
              <p:nvSpPr>
                <p:cNvPr id="260" name="Oval 28"/>
                <p:cNvSpPr/>
                <p:nvPr/>
              </p:nvSpPr>
              <p:spPr>
                <a:xfrm>
                  <a:off x="500040" y="3445920"/>
                  <a:ext cx="182880" cy="60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cccc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Oval 29"/>
                <p:cNvSpPr/>
                <p:nvPr/>
              </p:nvSpPr>
              <p:spPr>
                <a:xfrm>
                  <a:off x="336960" y="3444480"/>
                  <a:ext cx="2058480" cy="60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e8a"/>
                    </a:gs>
                    <a:gs pos="50000">
                      <a:srgbClr val="ccccff"/>
                    </a:gs>
                    <a:gs pos="100000">
                      <a:srgbClr val="6e6e8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30"/>
                <p:cNvSpPr/>
                <p:nvPr/>
              </p:nvSpPr>
              <p:spPr>
                <a:xfrm>
                  <a:off x="314280" y="3464280"/>
                  <a:ext cx="2059920" cy="60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2a2"/>
                    </a:gs>
                    <a:gs pos="100000">
                      <a:srgbClr val="ccccff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Oval 31"/>
                <p:cNvSpPr/>
                <p:nvPr/>
              </p:nvSpPr>
              <p:spPr>
                <a:xfrm>
                  <a:off x="435240" y="3445920"/>
                  <a:ext cx="1858320" cy="608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Oval 32"/>
                <p:cNvSpPr/>
                <p:nvPr/>
              </p:nvSpPr>
              <p:spPr>
                <a:xfrm>
                  <a:off x="466200" y="2852640"/>
                  <a:ext cx="1798920" cy="180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Oval 33"/>
                <p:cNvSpPr/>
                <p:nvPr/>
              </p:nvSpPr>
              <p:spPr>
                <a:xfrm>
                  <a:off x="488880" y="2862360"/>
                  <a:ext cx="1756440" cy="175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Oval 34"/>
                <p:cNvSpPr/>
                <p:nvPr/>
              </p:nvSpPr>
              <p:spPr>
                <a:xfrm>
                  <a:off x="508680" y="2879280"/>
                  <a:ext cx="1669320" cy="164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Oval 35"/>
                <p:cNvSpPr/>
                <p:nvPr/>
              </p:nvSpPr>
              <p:spPr>
                <a:xfrm>
                  <a:off x="585000" y="2904480"/>
                  <a:ext cx="1484280" cy="133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Text Box 36"/>
                <p:cNvSpPr/>
                <p:nvPr/>
              </p:nvSpPr>
              <p:spPr>
                <a:xfrm>
                  <a:off x="449280" y="3310560"/>
                  <a:ext cx="18270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 </a:t>
                  </a: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学习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目标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9" name="Text Box 40"/>
            <p:cNvSpPr/>
            <p:nvPr/>
          </p:nvSpPr>
          <p:spPr>
            <a:xfrm>
              <a:off x="3243240" y="2060640"/>
              <a:ext cx="5108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掌握中暑、淹溺、电击伤概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42"/>
            <p:cNvSpPr/>
            <p:nvPr/>
          </p:nvSpPr>
          <p:spPr>
            <a:xfrm>
              <a:off x="2950920" y="2779920"/>
              <a:ext cx="51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掌握中暑、淹溺、电击伤的现场          急救方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43"/>
            <p:cNvSpPr/>
            <p:nvPr/>
          </p:nvSpPr>
          <p:spPr>
            <a:xfrm>
              <a:off x="3274920" y="3645000"/>
              <a:ext cx="50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熟悉中暑、淹溺及电击伤的表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44"/>
            <p:cNvSpPr/>
            <p:nvPr/>
          </p:nvSpPr>
          <p:spPr>
            <a:xfrm>
              <a:off x="3238200" y="4364280"/>
              <a:ext cx="489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熟悉中暑、淹溺及电击伤的防范措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2"/>
          <p:cNvSpPr/>
          <p:nvPr/>
        </p:nvSpPr>
        <p:spPr>
          <a:xfrm>
            <a:off x="270036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250920" y="907920"/>
            <a:ext cx="8569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楷体_GB2312"/>
              </a:rPr>
              <a:t>（一）淹溺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楷体_GB2312"/>
              </a:rPr>
              <a:t>（二）临床表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"/>
          <p:cNvSpPr/>
          <p:nvPr/>
        </p:nvSpPr>
        <p:spPr>
          <a:xfrm>
            <a:off x="324000" y="2931120"/>
            <a:ext cx="88200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志清，呼吸、心跳存在，面色苍白，口唇青紫，恐惧。可有头痛、胸痛、咳嗽及视觉障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鼻充满泡沫、污物或外溢血性泡沫，眼球结膜充血，颜面肿胀，皮肤苍白，四肢厥冷、寒战，脉搏细弱，呼吸表浅或不规则，可有剧烈咳嗽，咳粉红色泡沫状痰，上腹部膨隆。肺部可闻及干、湿啰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危重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淹溺者出现意识丧失，或伴有抽搐，呼吸停止，心脏停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2"/>
          <p:cNvSpPr/>
          <p:nvPr/>
        </p:nvSpPr>
        <p:spPr>
          <a:xfrm>
            <a:off x="226836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395280" y="981000"/>
            <a:ext cx="8569440" cy="432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实验室及其他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"/>
          <p:cNvSpPr/>
          <p:nvPr/>
        </p:nvSpPr>
        <p:spPr>
          <a:xfrm>
            <a:off x="358920" y="2098800"/>
            <a:ext cx="878508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周血白细胞总数和中性粒细胞增多，红细胞和血红蛋白因血液浓缩或稀释而有所不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检查  显示斑片状浸润，有时可出现典型肺水肿征象，若胸片异常加重或肺内阴影持续存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以上，则提示吸入水后继发细菌性肺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液检查   可出现蛋白尿、管型尿，发生溶血时可出现血红蛋白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电图检查  可出现不同类型心律失常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-T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改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2"/>
          <p:cNvSpPr/>
          <p:nvPr/>
        </p:nvSpPr>
        <p:spPr>
          <a:xfrm>
            <a:off x="2916360" y="333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324000" y="1268280"/>
            <a:ext cx="856908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迅速将淹溺者救出水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6" descr="http://www.emss.org.cn/cgi-bin/zxkd/images/e20031206-05.gif"/>
          <p:cNvPicPr/>
          <p:nvPr/>
        </p:nvPicPr>
        <p:blipFill>
          <a:blip r:embed="rId1"/>
          <a:stretch/>
        </p:blipFill>
        <p:spPr>
          <a:xfrm>
            <a:off x="395280" y="2421000"/>
            <a:ext cx="799308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2"/>
          <p:cNvSpPr/>
          <p:nvPr/>
        </p:nvSpPr>
        <p:spPr>
          <a:xfrm>
            <a:off x="176364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250920" y="1197000"/>
            <a:ext cx="856908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179280" y="1197000"/>
            <a:ext cx="8569440" cy="45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保持呼吸道通畅</a:t>
            </a:r>
            <a:r>
              <a:rPr b="1" lang="zh-CN" sz="28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患者救出水后，应立即除去口鼻淤泥、杂草及呕吐物、拉出舌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倒水处理</a:t>
            </a:r>
            <a:r>
              <a:rPr b="1" lang="zh-CN" sz="28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膝顶法；肩顶法；抱腹法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四）心肺复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Object 2"/>
          <p:cNvGraphicFramePr/>
          <p:nvPr/>
        </p:nvGraphicFramePr>
        <p:xfrm>
          <a:off x="3276720" y="549360"/>
          <a:ext cx="2730240" cy="38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549360"/>
                    <a:ext cx="2730240" cy="38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3"/>
          <p:cNvGraphicFramePr/>
          <p:nvPr/>
        </p:nvGraphicFramePr>
        <p:xfrm>
          <a:off x="6012000" y="549360"/>
          <a:ext cx="2935080" cy="42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549360"/>
                    <a:ext cx="2935080" cy="42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4"/>
          <p:cNvGraphicFramePr/>
          <p:nvPr/>
        </p:nvGraphicFramePr>
        <p:xfrm>
          <a:off x="0" y="476280"/>
          <a:ext cx="3368520" cy="387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76280"/>
                    <a:ext cx="336852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Text Box 5"/>
          <p:cNvSpPr/>
          <p:nvPr/>
        </p:nvSpPr>
        <p:spPr>
          <a:xfrm>
            <a:off x="533520" y="5029200"/>
            <a:ext cx="861048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膝顶法          肩顶法                抱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事项：动作迅速、保持淹溺者头胸部下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2"/>
          <p:cNvSpPr/>
          <p:nvPr/>
        </p:nvSpPr>
        <p:spPr>
          <a:xfrm>
            <a:off x="2124000" y="333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395280" y="981000"/>
            <a:ext cx="856944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维持呼吸道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自主呼吸者，继续进行有效的人工呼吸。并及时吸痰及清除呼吸道内的水和分泌物。静脉注射呼吸兴奋剂，如洛贝林、可拉明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维持循环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电监测，如有室颤，可电除颤或药物除颤。必要时作胸内心脏按压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对症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纠正血容量不足；处理肺水肿；防止脑水肿；防治肺部感染；保护肾功能；注意并发症及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2"/>
          <p:cNvSpPr/>
          <p:nvPr/>
        </p:nvSpPr>
        <p:spPr>
          <a:xfrm>
            <a:off x="255600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250920" y="907920"/>
            <a:ext cx="8893080" cy="568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密切观察病情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密观察病人的神志、呼吸频率、深度，判断呼吸困难程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监测尿的颜色、量、性质，准确记录尿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输液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淡水淹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严格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静脉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输液滴速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从小剂量低速度开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海水淹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给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葡萄糖和血浆液体等输入，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切忌输入生理盐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复温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四）心理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2"/>
          <p:cNvSpPr/>
          <p:nvPr/>
        </p:nvSpPr>
        <p:spPr>
          <a:xfrm>
            <a:off x="140328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79280" y="1197000"/>
            <a:ext cx="8569440" cy="40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楷体_GB2312"/>
              </a:rPr>
              <a:t>（一）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通过多种途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如主题活动、大众媒体等），开展多层面的健康教育培训和宣传活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向群众宣传溺水的危害，认识溺水的危险因素，提高防范意识，减少危险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危险场所应设置明显警示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；公共游泳场必须设置深、浅水的醒目标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三）加强游泳安全知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游泳前做好准备活动，避免腓肠肌痉挛；指导游泳者学会水中自救和互救技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案  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，男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于搬运物品时脚意外踏在电动缝包机电缆线接头上，被电击跳起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右，重重摔倒，在场的其他工人急忙拽断电缆线，拉下闸刀，同时拨打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救电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你在现场应如何紧急处理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1928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人员到达现场后应如何救护该患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AutoShape 47"/>
          <p:cNvSpPr/>
          <p:nvPr/>
        </p:nvSpPr>
        <p:spPr>
          <a:xfrm>
            <a:off x="2362320" y="20574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45"/>
          <p:cNvSpPr/>
          <p:nvPr/>
        </p:nvSpPr>
        <p:spPr>
          <a:xfrm>
            <a:off x="2411280" y="335772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48"/>
          <p:cNvSpPr/>
          <p:nvPr/>
        </p:nvSpPr>
        <p:spPr>
          <a:xfrm>
            <a:off x="2411280" y="479736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48"/>
          <p:cNvSpPr/>
          <p:nvPr/>
        </p:nvSpPr>
        <p:spPr>
          <a:xfrm>
            <a:off x="248436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"/>
          <p:cNvSpPr/>
          <p:nvPr/>
        </p:nvSpPr>
        <p:spPr>
          <a:xfrm>
            <a:off x="1619280" y="47628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三节 电击伤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案    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900000" y="1413000"/>
            <a:ext cx="777744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夏天在篮球场打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周身大汗，回宿舍喝大量纯净水，突然出现四肢、腹部肌肉阵发性痉挛、疼痛。既往健康。急打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47636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你是现场目击的者，该如何救护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2"/>
          <p:cNvSpPr/>
          <p:nvPr/>
        </p:nvSpPr>
        <p:spPr>
          <a:xfrm>
            <a:off x="1979640" y="18900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4"/>
          <p:cNvSpPr/>
          <p:nvPr/>
        </p:nvSpPr>
        <p:spPr>
          <a:xfrm>
            <a:off x="179280" y="112536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病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"/>
          <p:cNvSpPr/>
          <p:nvPr/>
        </p:nvSpPr>
        <p:spPr>
          <a:xfrm>
            <a:off x="395280" y="1556640"/>
            <a:ext cx="63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外事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违反安全用电规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电线路、设备未及时检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知识缺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250920" y="350028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发病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4149720"/>
            <a:ext cx="8569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击对人体所造成的伤害，以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心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最要害部位。触电事故引起死亡的原因较多，但大都是由于电流刺激人体心脏引起心室的纤维性颤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称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室颤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停搏。电流引起呼吸中枢麻痹导致呼吸停止而死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2"/>
          <p:cNvSpPr/>
          <p:nvPr/>
        </p:nvSpPr>
        <p:spPr>
          <a:xfrm>
            <a:off x="2700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4"/>
          <p:cNvSpPr/>
          <p:nvPr/>
        </p:nvSpPr>
        <p:spPr>
          <a:xfrm>
            <a:off x="468360" y="1101600"/>
            <a:ext cx="8964720" cy="62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触电史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触电的时间、地点、电源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影响触电损伤程度的因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强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压高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阻大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通过人体的途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接触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2"/>
          <p:cNvSpPr/>
          <p:nvPr/>
        </p:nvSpPr>
        <p:spPr>
          <a:xfrm>
            <a:off x="2484360" y="11592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4"/>
          <p:cNvSpPr/>
          <p:nvPr/>
        </p:nvSpPr>
        <p:spPr>
          <a:xfrm>
            <a:off x="179280" y="549360"/>
            <a:ext cx="5977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临床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全身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395280" y="2139840"/>
            <a:ext cx="799164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者惊吓、心悸、面色苍白、头晕、乏力。重者立即出现昏迷、强直性肌肉收缩、休克、心律失常、心跳及呼吸极微弱呈假死状态或心脏骤停、呼吸停止、出现紫绀。如复苏不及时可致死亡。幸存者可有定向力丧失和癫痫发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95280" y="3860640"/>
            <a:ext cx="79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低电压电击伤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伤口面积小，呈现灰白色或焦黄色，呈圆形或椭圆形，与健康皮肤分界清楚，边缘规则整齐，一般不损伤内脏，致残率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高电压电击伤  伤口面积较大，并可深达肌肉、骨骼，甚至使组织呈炭化状态，并伴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坏死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095480" y="321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96040" y="34290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局部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并发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可有短期精神异常、心律失常、肢体瘫痪、继发性出血或血供障碍、局部组织坏死继发感染、急性肾功能衰竭、脑外伤、脊髓损伤、内脏损伤、肢体骨折、永久性失明或耳聋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1907640" y="-36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71640" y="3068640"/>
            <a:ext cx="705636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四）实验室及其他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血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可有血清肌酸磷酸激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PK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同工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K-MB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乳酸脱氢酶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谷氨酸草酰乙酸转氨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OT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活性增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中可见血红蛋白或肌红蛋白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Box 2"/>
          <p:cNvSpPr/>
          <p:nvPr/>
        </p:nvSpPr>
        <p:spPr>
          <a:xfrm>
            <a:off x="2195640" y="26028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7"/>
          <p:cNvSpPr/>
          <p:nvPr/>
        </p:nvSpPr>
        <p:spPr>
          <a:xfrm>
            <a:off x="250920" y="1197000"/>
            <a:ext cx="8137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）迅速脱离电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闭电闸、挑开电线、切断电线、拉开触电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现场急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"/>
          <p:cNvSpPr/>
          <p:nvPr/>
        </p:nvSpPr>
        <p:spPr>
          <a:xfrm>
            <a:off x="324000" y="3255480"/>
            <a:ext cx="89643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确定病人为呼吸、心跳停止的重型触电者，应立即进行现场心肺复苏。对于呼吸麻痹者，抢救时间要长，不要轻易放弃，应延长心肺复苏时间以争取伤者获救的机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护创面，防止再损伤、再污染。包扎伤口，一般不涂抹任何油膏或药物，用无菌敷料保护好创面待进一步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神志清楚，仅感心慌、乏力和四肢麻木的轻型触电者，应就地休息，观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给予消除恐惧等心理护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Box 2"/>
          <p:cNvSpPr/>
          <p:nvPr/>
        </p:nvSpPr>
        <p:spPr>
          <a:xfrm>
            <a:off x="197964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7"/>
          <p:cNvSpPr/>
          <p:nvPr/>
        </p:nvSpPr>
        <p:spPr>
          <a:xfrm>
            <a:off x="250920" y="1197000"/>
            <a:ext cx="81374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一）维持呼吸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呼吸道分泌物，气管插管呼吸机正压人工吸氧。心电监测 ，进行有效的心肺复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二）维持循环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苏中可应用肾上腺素、利多卡因等复苏药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三）维持中枢神经系统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应用冰帽、冰袋降温，降低脑代谢，减轻脑水肿。并静脉滴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甘露醇等以减轻脑水肿，促进脑细胞代谢药物，维护脑细胞功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四）创面处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创、换药、植皮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五）其他对症处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感染，纠正水电解质紊乱，防治急性肾功能衰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2"/>
          <p:cNvSpPr/>
          <p:nvPr/>
        </p:nvSpPr>
        <p:spPr>
          <a:xfrm>
            <a:off x="2268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7"/>
          <p:cNvSpPr/>
          <p:nvPr/>
        </p:nvSpPr>
        <p:spPr>
          <a:xfrm>
            <a:off x="539640" y="1484280"/>
            <a:ext cx="813780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严密观察病情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严密观察生命体征、神志、循环功能、肾功能及患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加强基础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合并伤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伴有颅脑损伤、气胸、血胸、内脏破裂、四肢骨折等，应及时配合医生做好抢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"/>
          <p:cNvSpPr/>
          <p:nvPr/>
        </p:nvSpPr>
        <p:spPr>
          <a:xfrm>
            <a:off x="1042920" y="248328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．普及安全用电知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使用各种电气设备时，应严格遵守操作规程，定期检查与维护；严格安全生产用电的管理，遵守用电操作规程，执行保护防范措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学会用电自我保护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遇到火灾等意外事故，先切断电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雷雨天不要在大树下、电线杆旁、空旷的高大建筑物中避雨，以防被雷电击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2"/>
          <p:cNvSpPr/>
          <p:nvPr/>
        </p:nvSpPr>
        <p:spPr>
          <a:xfrm>
            <a:off x="161928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3"/>
          <p:cNvSpPr/>
          <p:nvPr/>
        </p:nvSpPr>
        <p:spPr>
          <a:xfrm>
            <a:off x="324000" y="333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    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6"/>
          <p:cNvSpPr/>
          <p:nvPr/>
        </p:nvSpPr>
        <p:spPr>
          <a:xfrm>
            <a:off x="611280" y="1905120"/>
            <a:ext cx="8208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中暑、淹溺和电击伤这三种意外伤害是很常见的物理性损伤。本章的主要内容包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中暑的病因、发病机制、病情评估及救护措施；②淹溺的病因、发病机制、病情评估及救护措施；③电击伤的病因、发病机制、病情评估及救护措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AutoShape 47"/>
          <p:cNvSpPr/>
          <p:nvPr/>
        </p:nvSpPr>
        <p:spPr>
          <a:xfrm>
            <a:off x="2362320" y="20574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5"/>
          <p:cNvSpPr/>
          <p:nvPr/>
        </p:nvSpPr>
        <p:spPr>
          <a:xfrm>
            <a:off x="2362320" y="33526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8"/>
          <p:cNvSpPr/>
          <p:nvPr/>
        </p:nvSpPr>
        <p:spPr>
          <a:xfrm>
            <a:off x="2362320" y="48006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"/>
          <p:cNvSpPr/>
          <p:nvPr/>
        </p:nvSpPr>
        <p:spPr>
          <a:xfrm>
            <a:off x="1619280" y="47628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节  中暑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8"/>
          <p:cNvSpPr/>
          <p:nvPr/>
        </p:nvSpPr>
        <p:spPr>
          <a:xfrm>
            <a:off x="234000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2"/>
          <p:cNvSpPr/>
          <p:nvPr/>
        </p:nvSpPr>
        <p:spPr>
          <a:xfrm>
            <a:off x="190800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7"/>
          <p:cNvSpPr/>
          <p:nvPr/>
        </p:nvSpPr>
        <p:spPr>
          <a:xfrm>
            <a:off x="826920" y="1844640"/>
            <a:ext cx="561672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一）病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产热增加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散热减少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热适应能力下降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中暑的机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2627280" y="189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179280" y="981000"/>
            <a:ext cx="8785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病史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在高热环境下突然发生高热及中枢神经系统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临床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先兆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高温环境下出现大汗、口渴、无力、头晕、眼花、耳鸣、恶心、心悸、注意力不集中、四肢发麻等，体温不超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.5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脱离高温环境，稍事休息，即可恢复</a:t>
            </a: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 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轻度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上述症状加重，同时兼有以下情况之一。⑴面色潮红、胸闷、心率快、皮肤灼热； ⑵体温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；⑶早期周围循环衰竭表现，如恶心、呕吐、面色苍白、皮肤湿冷、大汗、脉搏细弱，血压下降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如及时处理，可较快恢复正常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3"/>
          <p:cNvSpPr/>
          <p:nvPr/>
        </p:nvSpPr>
        <p:spPr>
          <a:xfrm>
            <a:off x="2843280" y="189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179280" y="981000"/>
            <a:ext cx="87138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 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重度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除轻度中暑症状外，同时伴有高热、痉挛、昏厥、昏迷，可分为以下几型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l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 热痉挛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多见于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健康青年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患者口渴，尿少，肌肉痉挛及疼痛，体温正常。多发生在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四肢肌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咀嚼肌、腹直肌，最常见于腓肠肌。患者体温一般正常，意识清，多能自行缓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热衰竭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此型最常见，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见于老年人、儿童和慢性疾病病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临床表现为头痛、头晕、恶心、呕吐，继而胸闷、面色苍白，皮肤湿冷，脉搏细速、体位性低血压，血压降低手足抽搐和昏迷。体温稍高或正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3"/>
          <p:cNvSpPr/>
          <p:nvPr/>
        </p:nvSpPr>
        <p:spPr>
          <a:xfrm>
            <a:off x="2195640" y="33336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324000" y="1557360"/>
            <a:ext cx="8569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 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 热射病（中暑性高热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此型最严重，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高热、无汗、意识障碍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肛温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。皮肤干燥、灼热、无汗，烦躁不安神志模糊逐渐转为昏迷伴有抽搐。严重者可发生肺水肿、心功能不全、肝功能损害等。以老年人或原有慢性疾病病人教多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实验室检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高，以中性粒细胞增高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3"/>
          <p:cNvSpPr/>
          <p:nvPr/>
        </p:nvSpPr>
        <p:spPr>
          <a:xfrm>
            <a:off x="1763640" y="18900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5"/>
          <p:cNvSpPr/>
          <p:nvPr/>
        </p:nvSpPr>
        <p:spPr>
          <a:xfrm>
            <a:off x="2411280" y="1844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尽快脱离高温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下箭头 6"/>
          <p:cNvSpPr/>
          <p:nvPr/>
        </p:nvSpPr>
        <p:spPr>
          <a:xfrm>
            <a:off x="3635280" y="2421000"/>
            <a:ext cx="432000" cy="792000"/>
          </a:xfrm>
          <a:prstGeom prst="downArrow">
            <a:avLst>
              <a:gd name="adj1" fmla="val 50000"/>
              <a:gd name="adj2" fmla="val 49967"/>
            </a:avLst>
          </a:prstGeom>
          <a:solidFill>
            <a:srgbClr val="ffff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7"/>
          <p:cNvSpPr/>
          <p:nvPr/>
        </p:nvSpPr>
        <p:spPr>
          <a:xfrm>
            <a:off x="2556000" y="314172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物理降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下箭头 8"/>
          <p:cNvSpPr/>
          <p:nvPr/>
        </p:nvSpPr>
        <p:spPr>
          <a:xfrm>
            <a:off x="3708360" y="3645000"/>
            <a:ext cx="358920" cy="72072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ffff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9"/>
          <p:cNvSpPr/>
          <p:nvPr/>
        </p:nvSpPr>
        <p:spPr>
          <a:xfrm>
            <a:off x="2627280" y="443700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补充水分和电解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9:22Z</dcterms:created>
  <dc:creator>番茄花园</dc:creator>
  <dc:description/>
  <dc:language>en-US</dc:language>
  <cp:lastModifiedBy>微软用户</cp:lastModifiedBy>
  <dcterms:modified xsi:type="dcterms:W3CDTF">2013-01-30T06:12:11Z</dcterms:modified>
  <cp:revision>908</cp:revision>
  <dc:subject/>
  <dc:title>Reading Fun</dc:title>
</cp:coreProperties>
</file>