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5AF6-5156-4E65-BE0C-872C3F78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2866-5A74-44CC-8D19-CE3771BA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6435-AE46-45D2-A5EE-AD9FD9AB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35C2-5277-4A38-846B-1C87B33E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3ACF-4BC8-4BB1-9DCE-534276AF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57A71-C3ED-4C49-A952-C4D094F0FF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63EF5-3CA6-479E-9A7F-9CB1267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98C78-DB78-4A3C-BED0-B1DB830A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7EE88-AA52-46F9-99E7-EC8F7E22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2A3C2-BC68-4A7D-B27A-B336F53E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2CF7-B5B7-4A31-B263-D1BE211B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C48A2-8959-41A0-8000-374F0E5F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484F0-361E-470A-8A59-BEE9E996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F4DBB-07B3-4EE4-9A5E-6A9329EB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E9A14-92AA-495F-819F-8E1ADA68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86BEA-8512-4BD5-A109-543E4F2E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05178-24A3-4329-BD13-17140A45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20954-EA9E-49FF-B30F-E9BE8F8356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EBA3-B4BB-4F67-9A35-F63F7B9F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AB6B-1E3C-4001-AD1C-0AF70F5E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8424-1D3A-45F2-ADEE-5793FF23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BE30-2957-44E5-84EA-E6B991B4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F97D-524D-422F-A31F-29D38F5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20DB-A8B6-43C7-9E1C-161B32DA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8D45-E699-4C60-9C11-36D8C5BCF70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601956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dddddd">
                  <a:alpha val="48235"/>
                </a:srgbClr>
              </a:gs>
              <a:gs pos="100000">
                <a:srgbClr val="ffffff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3851280" y="3500280"/>
            <a:ext cx="1582560" cy="1582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24b98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531F-F2FF-403A-B5E6-7F94A9840851}" type="slidenum">
              <a:rPr b="0" lang="zh-CN" sz="1000" spc="-1" strike="noStrike">
                <a:solidFill>
                  <a:srgbClr val="124b9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5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505320" y="685800"/>
            <a:ext cx="54115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4b98"/>
                </a:solidFill>
                <a:latin typeface="Arial"/>
                <a:ea typeface="宋体"/>
              </a:rPr>
              <a:t>病原生物学与免疫学</a:t>
            </a:r>
            <a:endParaRPr b="0" lang="en-US" sz="4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主    编  陆予云  汪晓静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副主编  孙庶强  李    睿  郝   燕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编    委  曹美香  李旭文  李福玲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梅    蕾   魏桂芬 万巧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杨冬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北京大学医学出版社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70800" y="2133720"/>
            <a:ext cx="453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微生物的分布及与人类的关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医学微生物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经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实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现代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28600" y="1639800"/>
            <a:ext cx="89154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人体寄生虫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人体寄生虫学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人体寄生虫学是研究人体寄生虫的形态结构、生长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繁殖规律、致病机制、实验诊断、流行规律和防治原则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科学。人体寄生虫包括医学原虫、医学蠕虫和医学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肢动物三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蠕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原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节肢动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（二）人体寄生虫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学习目标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解释免疫的概念与功能；解释微生物、病原微生物、寄生虫的概念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说出免疫的类型；说出微生物、寄生虫的分类及其类型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知道免疫学、医学微生物学与人体寄生虫学的发展与现状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57150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495080" y="1676520"/>
            <a:ext cx="6201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免疫的概念与功能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免疫的概念  免疫是机体免疫系统识别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自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非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性异物，并通过免疫应答排除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性异物，以维持机体生理功能平衡与稳定的功能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免疫的功能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防御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稳定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监视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5920" y="1793880"/>
            <a:ext cx="95842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124b98"/>
                </a:solidFill>
                <a:latin typeface="Arial"/>
                <a:ea typeface="宋体"/>
              </a:rPr>
              <a:t>免疫的功能及其表现</a:t>
            </a:r>
            <a:endParaRPr b="0" lang="en-US" sz="32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功能     正常表现（有利）         异常表现 （有害）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------------------------------------------------------------------------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防御     抵抗病原生物入侵        过高：超敏反应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过低：免疫缺陷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稳定     清除衰老、损伤细胞    自身免疫病              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监视     清除突变细胞               恶性肿瘤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_________________________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23680" y="1828800"/>
            <a:ext cx="60332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免疫的类型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固有免疫  又称非特异性免疫或先天性免疫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是人类在长期的种系发生和进化过程中与微生物接触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逐渐建立起来的防御功能。特点：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生来就有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可以遗传，相对稳定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无特异性，对各种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异物可迅速应答，产生非特异性的抗感染免疫作用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1828800"/>
            <a:ext cx="177260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适应性免疫 又称特异性免疫或获得性免疫。是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指人出生后，在后天生活过程中与抗原性物质接触后产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的免疫。特点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是机体后天生活过程中受抗原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质刺激产生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作用特异性，即只对刺激产生该免疫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物质发生作用。适应性免疫是在固有免疫的基础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上建交起来的，主要通过抗体和效应淋巴细胞而发挥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液免疫和细胞免疫作用（见第四章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应答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。</a:t>
            </a:r>
            <a:r>
              <a:rPr b="0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5"/>
          <p:cNvSpPr/>
          <p:nvPr/>
        </p:nvSpPr>
        <p:spPr>
          <a:xfrm>
            <a:off x="7391520" y="6553080"/>
            <a:ext cx="1523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2209680"/>
            <a:ext cx="89154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免疫学的发展史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经验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科学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现代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至今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5"/>
          <p:cNvSpPr/>
          <p:nvPr/>
        </p:nvSpPr>
        <p:spPr>
          <a:xfrm>
            <a:off x="7315200" y="6477120"/>
            <a:ext cx="1523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027880" y="1981080"/>
            <a:ext cx="551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医学微生物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微生物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微生物是一群个体微小、结构简单，肉眼不能直接见到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必须借助光学或电子显微镜放大几百倍、几千倍甚至几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万倍才能看到的微小生物。微生物具有种类多、分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广、繁殖快的特点，有的种类与人类关系密切。按其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构与组成不同，可将它们分为三型八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640160" y="1752480"/>
            <a:ext cx="602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非细胞型微生物 无典型的细胞结构，仅由核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和蛋白质外壳组成，是最小的一类微生物，能通过滤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器。核心中只有单一的核酸（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或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R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，缺乏酶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统，只能在活细胞内增殖。病毒为其代表，另外，近年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发现的结构中没有核酸只有蛋白质的朊粒也归为此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原核细胞型微生物 细胞的分化程度较低，仅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原始核质，无核仁和核膜，胞质内细胞器不完整。包括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细菌、支原体、衣原体、放线菌、立克次体和螺旋体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真核细胞型微生物 细胞核分化程度较高，有核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膜、核仁和染色体，胞质内细胞器完整，真菌属此类微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物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cp:keywords/>
  <dc:language>en-US</dc:language>
  <cp:lastModifiedBy>USER</cp:lastModifiedBy>
  <cp:lastPrinted>1899-12-30T00:00:00Z</cp:lastPrinted>
  <dcterms:modified xsi:type="dcterms:W3CDTF">2014-04-16T06:42:00Z</dcterms:modified>
  <cp:revision>8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