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711A-3D53-47AA-BB5A-54599A733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A601-CDBD-40F2-8BFB-3E990F7FA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F7D9-F593-4546-88A8-550934A4F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A001-5D14-4EE5-8257-654B26476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E0DEE-77A7-4992-88A1-1692D209B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E3874-635D-4BFE-BB57-75655EC9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31BC9-9AD1-4351-B7F0-8F3A8CE9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776AE-00F8-4A02-AF2B-6397DCBD9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33796-9E15-4D0B-878E-1AA215351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ECDD0-F445-4FFA-8227-856BCE7AD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D9A18-8A30-4093-ADFF-D0DFE4D4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3B7D-7532-4B1B-9BEB-C7C7A827D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94091-B299-43AA-9B02-55BC617D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773F3-C066-4E0C-B7C1-C515AB9A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073A7-8DBF-4EA4-A261-F8ED855BC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BC2E9-B649-4B0E-B542-8F15B19C9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79E5A-3E6B-4214-8FEE-90302A814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0165-1F64-46E5-8003-9AFC2C35D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8E56-B24D-4E9E-9D95-154287DD6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B07A-FA71-4E48-B158-F3CEC3CC6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E908-DE2E-4ABE-A441-3FB18E11E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BA7A-2B9C-4405-9025-CA1EA0F3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B618-12FD-4371-831D-DB9D9B0C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8DEA-CA39-42D5-ADF4-B31C0979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D3478-FDE2-419F-AFD0-3ECAD795F8B2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DC6F9-58B1-4506-BA00-3F9B057613EC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90720" y="2971800"/>
            <a:ext cx="449568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医学节肢动物的发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2209680"/>
            <a:ext cx="548640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仿宋_GB2312"/>
                <a:ea typeface="楷体_GB2312"/>
              </a:rPr>
              <a:t>医学节肢动物的形态特征与主要种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304920"/>
            <a:ext cx="8991720" cy="1828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zh-CN" sz="5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第九节 医学节肢动物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3733920"/>
            <a:ext cx="449604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医学节肢动物对人体的危害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09680" y="5181480"/>
            <a:ext cx="449604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重要医学节肢动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4343400"/>
            <a:ext cx="449568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医学节肢动物的生态与防制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2362320" cy="2178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276720" y="380880"/>
            <a:ext cx="2361960" cy="2063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6095880" y="304920"/>
            <a:ext cx="1957680" cy="2133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990720" y="26668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楷体_GB2312"/>
              </a:rPr>
              <a:t>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77120" y="26668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楷体_GB2312"/>
              </a:rPr>
              <a:t>白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86200" y="26668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楷体_GB2312"/>
              </a:rPr>
              <a:t>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228600" y="3200400"/>
            <a:ext cx="2666880" cy="19479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3429000" y="3200400"/>
            <a:ext cx="2087640" cy="2133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7"/>
          <a:stretch/>
        </p:blipFill>
        <p:spPr>
          <a:xfrm>
            <a:off x="6095880" y="3276720"/>
            <a:ext cx="2438640" cy="19396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990720" y="54100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楷体_GB2312"/>
              </a:rPr>
              <a:t>阴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9880" y="5562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楷体_GB2312"/>
              </a:rPr>
              <a:t>臭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629400" y="5562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楷体_GB2312"/>
              </a:rPr>
              <a:t>硬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2554200" cy="28195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048120" y="3809880"/>
            <a:ext cx="2743200" cy="22449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5867280" y="304920"/>
            <a:ext cx="1862280" cy="2590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809880" y="31240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楷体_GB2312"/>
              </a:rPr>
              <a:t>蠕形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31240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楷体_GB2312"/>
              </a:rPr>
              <a:t>疥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3429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楷体_GB2312"/>
              </a:rPr>
              <a:t>软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29000" y="60958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楷体_GB2312"/>
              </a:rPr>
              <a:t>恙螨幼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3886200" y="380880"/>
            <a:ext cx="93024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457200" y="380880"/>
          <a:ext cx="8229600" cy="5747040"/>
        </p:xfrm>
        <a:graphic>
          <a:graphicData uri="http://schemas.openxmlformats.org/drawingml/2006/table">
            <a:tbl>
              <a:tblPr/>
              <a:tblGrid>
                <a:gridCol w="2378160"/>
                <a:gridCol w="5851440"/>
              </a:tblGrid>
              <a:tr h="489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00"/>
                          </a:solidFill>
                          <a:latin typeface="宋体"/>
                          <a:ea typeface="楷体_GB2312"/>
                        </a:rPr>
                        <a:t>媒介节肢动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00"/>
                          </a:solidFill>
                          <a:latin typeface="宋体"/>
                          <a:ea typeface="楷体_GB2312"/>
                        </a:rPr>
                        <a:t>虫媒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蚊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疟疾、丝虫病、流行性乙型脑炎、登革热等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结膜吸吮线虫病；多种消化道、呼吸道、眼部、皮肤的细菌性、病毒性和寄生虫性疾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白蛉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黑热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蚤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鼠疫、地方性斑疹伤寒、膜壳绦虫病等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蟑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美丽筒线虫病、缩小膜壳绦虫病等；多种消化道的细菌性、病毒性和寄生虫性疾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流行性斑疹伤寒、虱性回归热、战壕热等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森林脑炎、新疆出血热、蜱媒回归热等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恙螨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恙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革螨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流行性出血热、森林脑炎、立克次体痘等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33520" y="2057400"/>
            <a:ext cx="7772400" cy="26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医学节肢动物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以直接或间接方式危害人体健康的节肢动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媒介节肢动物或传播媒介  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  <a:ea typeface="楷体_GB2312"/>
              </a:rPr>
              <a:t>能传播疾病的节肢动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虫媒病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由媒介节肢动物所传播的疾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2860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Tahoma"/>
                <a:ea typeface="楷体_GB2312"/>
              </a:rPr>
              <a:t>第九节 医学节肢动物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8153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ahoma"/>
                <a:ea typeface="楷体_GB2312"/>
              </a:rPr>
              <a:t>医学节肢动物的形态特征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身体分节，两侧对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体表由坚韧的外骨骼组成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附肢成对、分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循环系统为开放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228240" y="380880"/>
            <a:ext cx="84582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ahoma"/>
                <a:ea typeface="楷体_GB2312"/>
              </a:rPr>
              <a:t>一、医学节肢动物的形态特征与主要种类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ahoma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cc00"/>
                </a:solidFill>
                <a:latin typeface="Tahoma"/>
                <a:ea typeface="楷体_GB2312"/>
              </a:rPr>
              <a:t>医学节肢动物的主要种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昆虫纲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蚊、蝇、蚤、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蛛形纲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蜱、螨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甲壳纲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蟹、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  <a:ea typeface="楷体_GB2312"/>
              </a:rPr>
              <a:t>蝲蛄、剑水蚤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唇足纲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蜈蚣</a:t>
            </a: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倍足纲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马陆</a:t>
            </a: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228240" y="380880"/>
            <a:ext cx="89154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ahoma"/>
                <a:ea typeface="楷体_GB2312"/>
              </a:rPr>
              <a:t>一、医学节肢动物的形态特征与主要种类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变态  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节肢动物由卵到成虫的发育过程中所经历的形态、生理和生活习性等一系列的改变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全变态  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发育过程经历蛹期，蛹前发育期的幼虫在形态和生活习性等方面与成虫完全不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半变态或不完全变态  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发育过程中无需经历蛹期，成虫前发育期的若虫在形态和生活习性等方面与成虫相似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仅表现为虫体较小，生殖器官未发育成熟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二、医学节肢动物的发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（一）直接危害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叮刺、吸血和骚扰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蚊、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寄生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疥螨、蝇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毒害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硬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致敏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尘螨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三、医学节肢动物对人体的危害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（二）间接危害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机械性传播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病原体在节肢动物体内或体表没有发育和繁殖只是被机械性携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生物性传播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病原体在节肢动物体内必须经过发育、繁殖具有感染性后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才能传播给新宿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三、医学节肢动物对人体的危害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ahoma"/>
                <a:ea typeface="楷体_GB2312"/>
              </a:rPr>
              <a:t>（一）医学节肢动物的生态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指医学节肢动物与其所生存环境之间的相互关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（二）医学节肢动物的防制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环境治理、物理防制、化学防制、生物防制、遗传防制以及法规防制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四、医学节肢动物的生态与防制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04560" y="23623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重要医学节肢动物的形态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重要医学节肢动物与其传播的虫媒病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五、重要医学节肢动物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4-04-17T18:11:02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