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AF6-06A7-4384-A48E-52C23DA1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D84-593E-4E9E-BC7B-15C8F2EB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F26-8AEC-41DD-8349-39618A38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2C6-4E7F-4EEF-9D12-DE25F9D4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488-6173-4111-9A2D-0F97D0EC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576A-90F9-40E3-BCCB-E690F70D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4D4B-B5D7-4A03-A3B2-8B46A556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0312-C34C-4ABF-8B08-B4F9CCDC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F09-9674-47FC-90DC-7CDC0A14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21A-5075-488A-AB6C-E1A18FAB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382B-9543-4C10-90B6-9D8FA47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C9C-6F14-40A3-9652-81F6779A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3E73-36AB-421E-8750-7406A77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CFEF-7777-425D-8342-688B2598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7CCD-1949-4AAB-8384-D757EA6A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2195-3B42-4BCC-88D4-D9314111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8B7F-E18D-4794-BE97-A4C13E8E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DF6-7954-493C-8D76-98FC52CF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646-836D-46AB-B173-DDBF850B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451-ADF8-4354-839A-81D589E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C43-8808-4EDD-B7F2-6D050DF7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DE5-65A8-43E3-845D-29BEAC8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5E6-C5E7-4A35-938A-450D5904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A8C-7D7B-4672-BB5B-920E4DD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EBC-905D-431F-8A66-CDD811C8001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9615-AB05-46EC-9A74-6F824CBE134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143000"/>
            <a:ext cx="5867640" cy="9907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七节 鞭  毛 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590920"/>
            <a:ext cx="7086600" cy="36576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4724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阴道毛滴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ahoma"/>
                <a:ea typeface="楷体_GB2312"/>
              </a:rPr>
              <a:t>蓝氏贾第鞭毛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流行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男、女性感染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途径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直接或间接接触传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滋养体的抵抗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8686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流行与防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8458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３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共公卫生设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个人卫生，规范个人行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甲硝唑（灭滴灵）内服、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%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乳酸或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高锰酸钾溶液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“自净作用”</a:t>
            </a:r>
            <a:br>
              <a:rPr sz="40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13372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杆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上皮细胞中的糖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维持阴道内的酸性环境，抑制了包括滴虫在内的病原生物的生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4382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2004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75960" cy="762120"/>
          </a:xfrm>
          <a:prstGeom prst="downArrow">
            <a:avLst>
              <a:gd name="adj1" fmla="val 50000"/>
              <a:gd name="adj2" fmla="val 2508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外阴瘙痒或烧灼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阴道分泌物增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典型白带为灰黄色泡沫状，有臭味，有时会混有血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滴虫性阴道炎的临床表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2232000"/>
            <a:ext cx="5562360" cy="321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生理盐水直接涂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5105520" cy="42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14040" y="2514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瑞氏或姬氏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滋养体的抵抗力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厕所板上可生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79246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能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可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6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普通肥皂水中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800600"/>
            <a:ext cx="82296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潮湿的毛巾、衣裤中可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229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蓝氏贾第鞭毛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蓝氏贾第鞭毛虫的形态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895480"/>
            <a:ext cx="3200400" cy="3581640"/>
          </a:xfrm>
          <a:custGeom>
            <a:avLst/>
            <a:gdLst>
              <a:gd name="textAreaLeft" fmla="*/ 162720 w 3200400"/>
              <a:gd name="textAreaRight" fmla="*/ 3037680 w 3200400"/>
              <a:gd name="textAreaTop" fmla="*/ 162720 h 3581640"/>
              <a:gd name="textAreaBottom" fmla="*/ 3418920 h 3581640"/>
            </a:gdLst>
            <a:ahLst/>
            <a:rect l="textAreaLeft" t="textAreaTop" r="textAreaRight" b="textAreaBottom"/>
            <a:pathLst>
              <a:path w="21600" h="24173">
                <a:moveTo>
                  <a:pt x="3750" y="0"/>
                </a:moveTo>
                <a:arcTo wR="3750" hR="3750" stAng="16200000" swAng="-5400000"/>
                <a:lnTo>
                  <a:pt x="0" y="20423"/>
                </a:lnTo>
                <a:arcTo wR="3750" hR="3750" stAng="10800000" swAng="-5400000"/>
                <a:lnTo>
                  <a:pt x="17850" y="24173"/>
                </a:lnTo>
                <a:arcTo wR="3750" hR="3750" stAng="5400000" swAng="-5400000"/>
                <a:lnTo>
                  <a:pt x="21600" y="3750"/>
                </a:lnTo>
                <a:arcTo wR="3750" hR="3750" stAng="0" swAng="-5400000"/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梨形，背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吸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翻滚式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１．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200320" cy="287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41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</a:t>
            </a: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蓝氏贾第鞭毛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２．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276720"/>
            <a:ext cx="3352680" cy="3047760"/>
          </a:xfrm>
          <a:prstGeom prst="roundRect">
            <a:avLst>
              <a:gd name="adj" fmla="val 1736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椭圆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囊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丝状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752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未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02256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一、阴道毛滴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1240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724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562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33526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裂增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二指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95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随粪便排出体外，发育至四核成熟包囊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657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5812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800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1337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52480"/>
            <a:ext cx="761976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二指肠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熟的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口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52280"/>
            <a:ext cx="81536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28800"/>
            <a:ext cx="7239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盘的吸附以及化学性刺激对肠黏膜的损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量虫体形成的机械性屏障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宿主的免疫力降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症状带虫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第虫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蓝氏贾第鞭毛虫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2209680"/>
            <a:ext cx="64008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粪检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   碘液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  生理盐水直接　　　　涂片或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指肠引流液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133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区域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95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好发人群   免疫力低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486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因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包囊的外排量大且抵抗力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卫生条件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医疗水平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954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３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治疗药物：甲硝唑、丙硫咪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注意饮食卫生，加强水源、粪便管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299280" cy="451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大量滋养体覆盖于小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腹痛、腹泻、腹胀、呕吐、发热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厌食等。以腹泻为主，腹泻呈水样，量大、恶臭、一般无脓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病的临床表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4647960" cy="46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5562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碘液染色中的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女性的阴道、尿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男性的尿道、生殖系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寄生部位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41008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5334120"/>
            <a:ext cx="4343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姬氏染色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在水中和粪便中分别可以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以上；加氯消毒饮水不能杀死包囊；在传播媒介蝇的消化道可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包囊的抵抗力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一）阴道毛滴虫的形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梨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动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268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5341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二）阴道毛滴虫的生活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7467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殖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或间接接触传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致病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477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与乳酸杆菌争夺糖原，破坏阴道的“自净作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致病细菌的协同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机体生理机能失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阴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尿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男性前列腺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阴道毛滴虫的实验诊断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5410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阴道分泌物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理盐水涂片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涂片染色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尿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前列腺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057400"/>
            <a:ext cx="70102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性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中青年女性感染居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传播疾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5:3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