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type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79E1-C93F-40A8-A78D-906EAE323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81A7-8FAF-484E-8AC0-AF5F91C9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FAB9-4F1E-4513-BC92-E9D190835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D1CB-B940-4684-AE73-D29C57BFA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7006-7F94-4922-8D57-CA2D5017D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971A-1FE1-48C9-85C9-33B669D4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0ED0-DB94-4C71-87E3-4D61EC9D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5824-4FF0-4D80-BBDD-5EC3E8CD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8F61-ACB2-4875-80E4-84D334BD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7B59-3E75-4B10-8B48-9EBB1C5A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FDFC-A50E-4795-BA32-A7196570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992A-97E1-4396-B955-C7EFE3BC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D086-09A1-44EA-B3D2-FD029987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722F-E6F0-4284-9D94-019CADEE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E468-F528-4946-A1A8-639434B4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D0CC-CE63-480D-9262-059352185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DC26-142D-4AFB-A126-D788F2329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C147-A0CB-4B3C-9218-0A04AE45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DC95-5CA0-44AB-96AF-CC58CAA0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CC62-DE07-4806-9CA5-719AFB8D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F7CB-97F6-4FFB-8F51-7774A5C3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76DC-5932-4834-8E31-BB38FFDB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8FBF-4AE8-47C0-9B90-0217A9CE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E762-B4E5-4A56-9793-21F1EF71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10F0-CBEB-4050-94FA-AD9274C6BD8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CDE4-A26F-429A-8A28-072109936F9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971800" y="4800600"/>
            <a:ext cx="548640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楷体_GB2312"/>
              </a:rPr>
              <a:t>致病特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4114800"/>
            <a:ext cx="45720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楷体_GB2312"/>
              </a:rPr>
              <a:t>生活史类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5562720"/>
            <a:ext cx="472428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楷体_GB2312"/>
              </a:rPr>
              <a:t>分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3352680"/>
            <a:ext cx="449568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楷体_GB2312"/>
              </a:rPr>
              <a:t>生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2590920"/>
            <a:ext cx="548640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楷体_GB2312"/>
              </a:rPr>
              <a:t>形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04920"/>
            <a:ext cx="8991720" cy="1828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第五节 医学原虫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4920" y="0"/>
            <a:ext cx="7924680" cy="106668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2514600"/>
            <a:ext cx="7696080" cy="2971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根据运动细胞器分类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根足虫纲：阿米巴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鞭毛虫纲：阴道毛滴虫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孢子虫纲：疟原虫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纤毛虫纲：结肠小袋纤毛虫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五、医学原虫的分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以伪足作为运动器官，做变形运动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活史多有滋养体和包囊两个时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活于人体的种类只有溶组织内阿米巴致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30492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第六节 根 足 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219320" y="236232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形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38862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致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457200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实验诊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5257800"/>
            <a:ext cx="40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流行与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溶组织内阿米巴</a:t>
            </a:r>
            <a:br>
              <a:rPr sz="5400"/>
            </a:b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320040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生活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114800" y="1828800"/>
            <a:ext cx="4572000" cy="37702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57200" y="22860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一、溶组织内阿米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一）溶组织内阿米巴形态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495680" y="2133720"/>
            <a:ext cx="4419720" cy="2825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257800" y="55627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楷体_GB2312"/>
              </a:rPr>
              <a:t>铁苏木素染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981080"/>
            <a:ext cx="4572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滋养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型滋养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外质活动度大，伪足明显，内质含红细胞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一）溶组织内阿米巴形态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4267080" cy="2817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257800" y="5486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541008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楷体_GB2312"/>
              </a:rPr>
              <a:t>         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楷体_GB2312"/>
              </a:rPr>
              <a:t>铁苏木素染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133720"/>
            <a:ext cx="457200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滋养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肠腔型滋养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4084560"/>
            <a:ext cx="3200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体小、</a:t>
            </a:r>
            <a:r>
              <a:rPr b="1" lang="zh-CN" sz="3200" spc="-1" strike="noStrike">
                <a:solidFill>
                  <a:srgbClr val="ff7c80"/>
                </a:solidFill>
                <a:latin typeface="Tahoma"/>
                <a:ea typeface="楷体_GB2312"/>
              </a:rPr>
              <a:t>伪足不明显，运动</a:t>
            </a:r>
            <a:r>
              <a:rPr b="1" lang="zh-CN" sz="32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不活泼，内质不含红细胞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一）溶组织内阿米巴形态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32004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未成熟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47242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成熟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495680" y="1981080"/>
            <a:ext cx="2244960" cy="3124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572000" y="5410080"/>
            <a:ext cx="1981080" cy="87696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单核包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铁苏木素染色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13720" y="1981080"/>
            <a:ext cx="2330280" cy="31244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858000" y="5486400"/>
            <a:ext cx="2057400" cy="86256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四核包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碘液染色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2971800"/>
            <a:ext cx="2133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核包囊双核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82280" y="1846440"/>
            <a:ext cx="152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cc3300"/>
                </a:solidFill>
                <a:latin typeface="Tahoma"/>
                <a:ea typeface="楷体_GB2312"/>
              </a:rPr>
              <a:t>包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72428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四核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二）溶组织内阿米巴生活史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514600"/>
            <a:ext cx="121932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四核包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274320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25146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肠腔型小滋养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29000" y="38862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肠腔型小滋养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05320" y="54100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组织型大滋养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54100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组织型大滋养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5880" y="2514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包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34120" y="274320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81680" y="27432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191120" y="29718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419720" y="29718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91120" y="43434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419720" y="43434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55627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590920" y="57150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2362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Times New Roman"/>
                <a:ea typeface="隶书"/>
              </a:rPr>
              <a:t>经口感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828800" y="2819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Times New Roman"/>
              </a:rPr>
              <a:t>在小肠下段脱囊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28954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99"/>
                </a:solidFill>
                <a:latin typeface="宋体"/>
              </a:rPr>
              <a:t>(</a:t>
            </a:r>
            <a:r>
              <a:rPr b="1" lang="zh-CN" sz="1600" spc="-1" strike="noStrike">
                <a:solidFill>
                  <a:srgbClr val="000099"/>
                </a:solidFill>
                <a:latin typeface="宋体"/>
              </a:rPr>
              <a:t>结肠下段</a:t>
            </a:r>
            <a:r>
              <a:rPr b="0" lang="zh-CN" sz="1600" spc="-1" strike="noStrike">
                <a:solidFill>
                  <a:srgbClr val="000099"/>
                </a:solidFill>
                <a:latin typeface="宋体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71560" y="4343400"/>
            <a:ext cx="667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Times New Roman"/>
              </a:rPr>
              <a:t>侵入组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81040" y="2819520"/>
            <a:ext cx="667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00"/>
                </a:solidFill>
                <a:latin typeface="Times New Roman"/>
                <a:ea typeface="隶书"/>
              </a:rPr>
              <a:t>二分裂增殖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362320" y="5791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00"/>
                </a:solidFill>
                <a:latin typeface="Times New Roman"/>
                <a:ea typeface="隶书"/>
              </a:rPr>
              <a:t>二分裂增殖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41148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86400" y="563868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859520" y="2438280"/>
            <a:ext cx="1003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随粪便排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体外（发育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08920" y="388620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随稀水样便排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体外（死亡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138800" y="53341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随脓血便排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体外（死亡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152388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基本过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二）溶组织内阿米巴生活史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3581280" y="2362320"/>
            <a:ext cx="480060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小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滋养体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581280"/>
            <a:ext cx="6705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致病阶段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感染阶段与方式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核包囊，误食感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寄生部位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盲部、结肠黏膜皱褶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生殖方式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分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1981080"/>
            <a:ext cx="22860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Tahoma"/>
                <a:ea typeface="楷体_GB2312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Tahoma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Tahoma"/>
                <a:ea typeface="楷体_GB2312"/>
              </a:rPr>
              <a:t>基本形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18288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主要知识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48320" y="28195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29400" y="28195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三）溶组织内阿米巴致病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2362320"/>
            <a:ext cx="6629400" cy="35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.</a:t>
            </a:r>
            <a:r>
              <a:rPr b="1" lang="zh-CN" sz="4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致病因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虫株毒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的协同作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宿主的机体抵抗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三）溶组织内阿米巴致病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523880" y="2057400"/>
            <a:ext cx="5257800" cy="30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临床类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无症状带虫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90%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肠阿米巴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肠外阿米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47840" y="3886200"/>
            <a:ext cx="779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细胞膜、细胞质、细胞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281952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三个组成部分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6094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一、医学原虫的形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6868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四）溶组织内阿米巴的实验诊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1905120"/>
            <a:ext cx="800100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病原检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粪便检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生理盐水涂片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碘液染色</a:t>
            </a:r>
            <a:r>
              <a:rPr b="1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活组织检查</a:t>
            </a:r>
            <a:r>
              <a:rPr b="1" lang="zh-CN" sz="40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肠镜检、脓腔穿刺检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04560" y="1904760"/>
            <a:ext cx="8839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cc3300"/>
                </a:solidFill>
                <a:latin typeface="Tahoma"/>
                <a:ea typeface="楷体_GB2312"/>
              </a:rPr>
              <a:t>免疫学诊断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用于外阿米巴病的诊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LIS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F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HA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方法检测抗体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396252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分子生物学检查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探针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CR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技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四）溶组织内阿米巴的实验诊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溶组织内阿米巴流行与防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1889280"/>
            <a:ext cx="75438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流行分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流行于热带和亚热带地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人群的经济状况、卫生条件及饮食习惯等有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国南方高于北方、农村高于城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宋体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  <a:ea typeface="楷体_GB2312"/>
              </a:rPr>
              <a:t>流行因素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染源外排包囊数量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囊抵抗力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播方式多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水源污染，食物污染，蝇、蟑螂等昆虫携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0" y="228600"/>
            <a:ext cx="92203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溶组织内阿米巴的流行与防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228960" y="152280"/>
            <a:ext cx="9372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溶组织内阿米巴的流行与防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1523880" y="2133720"/>
            <a:ext cx="6934320" cy="23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防治原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消化道传染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治疗药物   甲硝唑、大蒜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304920"/>
            <a:ext cx="3809880" cy="5715000"/>
          </a:xfrm>
          <a:custGeom>
            <a:avLst/>
            <a:gdLst>
              <a:gd name="textAreaLeft" fmla="*/ 185760 w 3809880"/>
              <a:gd name="textAreaRight" fmla="*/ 3624120 w 3809880"/>
              <a:gd name="textAreaTop" fmla="*/ 185760 h 5715000"/>
              <a:gd name="textAreaBottom" fmla="*/ 5529240 h 5715000"/>
            </a:gdLst>
            <a:ahLst/>
            <a:rect l="textAreaLeft" t="textAreaTop" r="textAreaRight" b="textAreaBottom"/>
            <a:pathLst>
              <a:path w="21600" h="32400">
                <a:moveTo>
                  <a:pt x="3600" y="0"/>
                </a:moveTo>
                <a:arcTo wR="3600" hR="3600" stAng="16200000" swAng="-5400000"/>
                <a:lnTo>
                  <a:pt x="0" y="28800"/>
                </a:lnTo>
                <a:arcTo wR="3600" hR="3600" stAng="10800000" swAng="-5400000"/>
                <a:lnTo>
                  <a:pt x="18000" y="32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4724280" y="2057400"/>
          <a:ext cx="3408480" cy="464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2057400"/>
                    <a:ext cx="340848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4724280" y="380880"/>
          <a:ext cx="3353040" cy="1714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380880"/>
                    <a:ext cx="335304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2895480" y="47242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743200" y="4343400"/>
            <a:ext cx="2057400" cy="198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肠阿米巴病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914400"/>
            <a:ext cx="4114800" cy="18288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114300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好发部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回盲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乙状结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2819520"/>
            <a:ext cx="3962160" cy="19047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2971800"/>
            <a:ext cx="304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溃疡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火山口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孤立分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4800600"/>
            <a:ext cx="3962520" cy="2057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47920" y="4952880"/>
            <a:ext cx="28191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粪便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果酱样黏液          脓血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3809880" y="457200"/>
          <a:ext cx="4953240" cy="293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457200"/>
                    <a:ext cx="4953240" cy="2935440"/>
                  </a:xfrm>
                  <a:prstGeom prst="rect">
                    <a:avLst/>
                  </a:prstGeom>
                  <a:ln w="1260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457200" y="990720"/>
            <a:ext cx="2743200" cy="373356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3733560"/>
              <a:gd name="textAreaBottom" fmla="*/ 3599640 h 3733560"/>
            </a:gdLst>
            <a:ahLst/>
            <a:rect l="textAreaLeft" t="textAreaTop" r="textAreaRight" b="textAreaBottom"/>
            <a:pathLst>
              <a:path w="21600" h="29397">
                <a:moveTo>
                  <a:pt x="3600" y="0"/>
                </a:moveTo>
                <a:arcTo wR="3600" hR="3600" stAng="16200000" swAng="-5400000"/>
                <a:lnTo>
                  <a:pt x="0" y="25797"/>
                </a:lnTo>
                <a:arcTo wR="3600" hR="3600" stAng="10800000" swAng="-5400000"/>
                <a:lnTo>
                  <a:pt x="18000" y="29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肠外阿米病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2057400"/>
            <a:ext cx="35812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阿米巴肝脓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阿米巴肺脓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阿米巴脑脓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3809880" y="3352680"/>
            <a:ext cx="5105520" cy="3505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791320" y="586728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楷体_GB2312"/>
              </a:rPr>
              <a:t>阿米巴肝脓肿组织切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066680" y="0"/>
            <a:ext cx="7010640" cy="106668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05120" y="3048120"/>
            <a:ext cx="3581280" cy="4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送：及时、保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057400" y="2362320"/>
            <a:ext cx="3200400" cy="4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取：脓、黏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52480" y="1676520"/>
            <a:ext cx="5029200" cy="4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看：酱红色黏液，腥臭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7621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楷体_GB2312"/>
              </a:rPr>
              <a:t>粪检滋养体应注意的问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35053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楷体_GB2312"/>
              </a:rPr>
              <a:t>粪检包囊应注意的问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46483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阴性结果时，应间隔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再查一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81080" y="3962520"/>
            <a:ext cx="6934320" cy="1371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功能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运动、营养、排泄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侵袭、感觉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17521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.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细胞膜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3048120"/>
            <a:ext cx="38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结构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单位膜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2860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一、医学原虫的形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.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细胞质—代谢的中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19051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基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2971800" y="160020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外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1600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凝胶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2971800" y="2286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内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23623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溶胶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95480" y="3352680"/>
            <a:ext cx="228600" cy="15242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3886200"/>
            <a:ext cx="18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细胞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3352680" y="312408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膜质细胞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380988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运动细胞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3352680" y="464832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营养细胞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352680"/>
            <a:ext cx="152280" cy="1447920"/>
          </a:xfrm>
          <a:custGeom>
            <a:avLst/>
            <a:gdLst>
              <a:gd name="textAreaLeft" fmla="*/ 97200 w 152280"/>
              <a:gd name="textAreaRight" fmla="*/ 15264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556272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内含物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5943600" y="327672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伪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5" action="ppaction://hlinksldjump"/>
          </p:cNvPr>
          <p:cNvSpPr/>
          <p:nvPr/>
        </p:nvSpPr>
        <p:spPr>
          <a:xfrm>
            <a:off x="5943600" y="380988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鞭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6" action="ppaction://hlinksldjump"/>
          </p:cNvPr>
          <p:cNvSpPr/>
          <p:nvPr/>
        </p:nvSpPr>
        <p:spPr>
          <a:xfrm>
            <a:off x="6019920" y="434340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纤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1828800"/>
            <a:ext cx="152640" cy="1143000"/>
          </a:xfrm>
          <a:custGeom>
            <a:avLst/>
            <a:gdLst>
              <a:gd name="textAreaLeft" fmla="*/ 97560 w 152640"/>
              <a:gd name="textAreaRight" fmla="*/ 15300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3048120" y="56386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营养小体、代谢产物、共生物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28600"/>
            <a:ext cx="822960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一、医学原虫的形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3352680"/>
            <a:ext cx="8153280" cy="32004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组成部分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核膜   核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核仁   染色质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3.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细胞核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30492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一、医学原虫的形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440" y="16761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.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运动</a:t>
            </a: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伪足运动  鞭毛运动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纤毛运动  滑行运动或扭动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4419720"/>
            <a:ext cx="769608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.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营养与代谢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摄食与排泄方式多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22860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二、医学原虫的生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3.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生殖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58080" y="2181960"/>
            <a:ext cx="78278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生殖方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世代交替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有性生殖与无性交替出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37339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无性生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18288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有性生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121932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接合生殖  纤毛虫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274320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29200" y="236232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配子生殖   疟原虫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181480" y="3807720"/>
            <a:ext cx="24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二分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3200400"/>
            <a:ext cx="15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多分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1320" y="472428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81480" y="4419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出芽生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19520" y="2133720"/>
            <a:ext cx="152280" cy="198108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152388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3429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0"/>
            <a:ext cx="82296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二、医学原虫的生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14400" y="2209680"/>
            <a:ext cx="8381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直接发育型  不需要中间宿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际传播型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434340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转换宿主型  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需要中间宿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三、医学原虫的生活史类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0" y="2666880"/>
            <a:ext cx="533520" cy="7632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3124080"/>
            <a:ext cx="7848720" cy="34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播散倾向</a:t>
            </a:r>
            <a:br>
              <a:rPr sz="4000"/>
            </a:b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阿米巴：血流    肝、肺、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495680"/>
            <a:ext cx="609480" cy="76320"/>
          </a:xfrm>
          <a:prstGeom prst="rightArrow">
            <a:avLst>
              <a:gd name="adj1" fmla="val 50000"/>
              <a:gd name="adj2" fmla="val 19964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5105520"/>
            <a:ext cx="731520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机会致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弓形虫、肺孢子虫、隐孢子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四、医学原虫的致病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1600200"/>
            <a:ext cx="838188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增殖作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疟原虫：裂体增殖   寒战、发热、出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8:02:30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