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2E76-8F1B-4A36-8411-5CF85D05A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1829-D6D8-43D5-AFDD-CD40BA70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4194-1396-4062-9E93-108059282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B965-690E-4825-BB21-64E2FD65D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5139-0F5D-4E11-A6D0-4CDD2B832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443E-3AE1-44EF-B297-CA546926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D451-B403-4A11-AD91-A0EA10F5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87ACF-E39D-43B7-963E-8DD73506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36BC-FC0A-4285-A211-A13AEC69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9C09-8DF9-471D-B3C3-60D66421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4ED61-63D7-4660-B042-CBAB2B4D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74BA-A997-4D4E-B890-A4555135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2043-BB05-418D-AEC7-64C2D7F2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7B59-3695-419D-A5A5-093950AA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818E-E622-4ED9-BA00-7A311B82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2A140-2B0F-42D6-A8AB-24200F05D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B508-AC69-4117-AFDD-767CEB489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25F4-1454-46F0-9ACC-964A0E3E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2668-3ADC-4EA1-9BD8-269A174B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DABF-543E-4264-B4F5-5B9BAC94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E1ED-BF7D-4024-9EBB-3016C84A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4F2B-575F-4D6D-B013-FCEE88F1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DD3E-AE12-40F9-B511-FA0ECC56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DA0D-F341-4267-9823-77701E74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EC34-5329-4BD1-A96B-032E126B576C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E54E-9A24-4ECF-BC56-9102FF9DA4A8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971800" y="4800600"/>
            <a:ext cx="548640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4114800"/>
            <a:ext cx="45720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3352680"/>
            <a:ext cx="449568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2590920"/>
            <a:ext cx="548640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52280"/>
            <a:ext cx="8839080" cy="228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第十四章 </a:t>
            </a:r>
            <a:br>
              <a:rPr sz="6000"/>
            </a:br>
            <a:r>
              <a:rPr b="1" lang="zh-CN" sz="6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人体寄生虫学概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77840" y="2658960"/>
            <a:ext cx="538668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．解释寄生关系、寄生虫、机会致病性寄生虫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宿主、中间宿主、终宿主、保虫宿主、转续宿主、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活史、感染阶段、非消除性免疫的概念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．说出寄生虫对人体的损害以及人体对寄生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的免疫特点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．知道寄生虫病流行的环节、特点和防治原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以及其实验诊断方法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二、寄生虫病的流行状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寄生虫的感染虫种和人数多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食源性寄生虫病的发病率升高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机会致病性寄生虫病的发病人数增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与行为方式有关的寄生虫感染普遍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重要寄生虫病的疫情还不稳定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第三节 寄生虫病的流行与防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三、寄生虫病的防治原则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第三节 寄生虫病的流行与防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2988000"/>
            <a:ext cx="7238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220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控制传染源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20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切断传播途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20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保护易感人群  </a:t>
            </a: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疫情监测、个人防护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28240" y="18288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一、病原检查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血液、组织液、排泄物或活组织检出寄生虫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二、免疫学诊断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诊断早期、轻度、深部、单性寄生的寄生虫感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第四节  寄生虫病的实验诊断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寄生虫感染途径与方式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途径</a:t>
            </a: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、食物、土壤、空气、中间宿主、昆虫媒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方式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口感染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皮肤感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接触感染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媒介节肢动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：经输血、胎盘、呼吸、乳汁及自身感染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楷体_GB2312"/>
              </a:rPr>
              <a:t>控制传染源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17528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ahoma"/>
                <a:ea typeface="楷体_GB2312"/>
              </a:rPr>
              <a:t>普查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2666880"/>
            <a:ext cx="4572000" cy="838440"/>
          </a:xfrm>
          <a:prstGeom prst="roundRect">
            <a:avLst>
              <a:gd name="adj" fmla="val 22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治疗患者、带虫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3886200"/>
            <a:ext cx="5715000" cy="762120"/>
          </a:xfrm>
          <a:prstGeom prst="roundRect">
            <a:avLst>
              <a:gd name="adj" fmla="val 22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治疗家畜和捕杀野生动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切断传播途径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加强粪便和水源管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注意环境和个人卫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防制媒介节肢动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控制中间宿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2027160"/>
            <a:ext cx="7772400" cy="39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一、寄生虫及其分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概念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营寄生生活的低等小动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分类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体外寄生虫与体内寄生虫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专性寄生虫与兼性寄生虫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机会致病性寄生虫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6094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ahoma"/>
                <a:ea typeface="楷体_GB2312"/>
              </a:rPr>
              <a:t>第一节  寄生虫与宿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560" y="1980720"/>
            <a:ext cx="8839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ahoma"/>
                <a:ea typeface="楷体_GB2312"/>
              </a:rPr>
              <a:t>二、宿主及其种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概念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寄生关系中被寄生虫寄生并受害的生物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种类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终宿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中间宿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保虫宿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转续宿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ahoma"/>
                <a:ea typeface="楷体_GB2312"/>
              </a:rPr>
              <a:t>第一节  寄生虫与宿主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4800600" y="396252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ahoma"/>
                <a:ea typeface="楷体_GB2312"/>
              </a:rPr>
              <a:t>前三种宿主为正常宿主，转续宿主为非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ahoma"/>
                <a:ea typeface="楷体_GB2312"/>
              </a:rPr>
              <a:t>常宿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三、寄生虫的生活史与感染阶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活史：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寄生虫完成一代生长发育繁殖的全过程及其所需要的外界环境条件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感染阶段：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寄生虫生活史中具有感染人体能力的发育阶段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ahoma"/>
                <a:ea typeface="楷体_GB2312"/>
              </a:rPr>
              <a:t>第一节 寄生虫与宿主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一、寄生虫对宿主的损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夺取营养：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寄生虫的共性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机械性损伤：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压迫、损伤、梗阻等多种形式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5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毒害作用与免疫病理损伤：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由分泌物、排泄物等    所致，为寄生虫最严重的致病作用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-360" y="228600"/>
            <a:ext cx="89917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第二节 寄生虫与宿主的相互关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9144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二、宿主对寄生虫的免疫作用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固有免疫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非特异性免疫）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适应性免疫（特异性免疫）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消除性免疫    少见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非消除性免疫  多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-360" y="228600"/>
            <a:ext cx="89917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第二节 寄生虫与宿主的相互关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寄生虫与宿主相互作用的结果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寄生虫被彻底清除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寄生病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带虫感染：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为寄生虫病重要的传染源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-360" y="228600"/>
            <a:ext cx="89917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第二节 寄生虫与宿主的相互关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一、寄生虫病的流行环节与特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寄生虫病的流行环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传染源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、带虫者、保虫宿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传播途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易感人群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第三节 寄生虫病的流行与防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920" y="19051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寄生虫病的流行特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地方性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寄生虫病在某一地区持续或经常发生的情况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季节性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寄生虫病的发病率与季节变换相关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人兽共患性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些寄生虫病可以在人和动物之间自然地传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6840" y="380880"/>
            <a:ext cx="85345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第三节 寄生虫病的流行与防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4-17T17:44:06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