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EF8D-6854-444B-A798-9ADF880B17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C978-FD45-4686-B7CB-C537FBE8F08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7E90-8879-4D58-AD7E-94D098D9A4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F600-25C5-4884-9E6F-A0D05D9D646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868F-6540-4213-9E9A-50043B22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99C7-09BE-461D-A36C-59B00033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46C3-3E0D-44B6-91A6-F22229BC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44C-C7DD-43A8-878E-45D68861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C20F-283A-4073-9677-F1366BA4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B54-AAC1-4D4C-B14C-148B041E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118-ACA0-43C7-A351-A9571281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027-B748-47BB-9BCC-3911901C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30D-F48F-494B-A0E4-13D1CDCC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392-311B-4C27-A000-C14BDA3E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083-CD2B-4A66-BE09-AB7C1E50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AA0-5C80-45D7-B9A4-4E100B50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3157-1CD4-48C8-8457-1F81645586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1523880" y="3048120"/>
            <a:ext cx="631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螺杆菌属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-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幽门螺杆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( </a:t>
            </a:r>
            <a:r>
              <a:rPr b="1" i="1" lang="zh-CN" sz="3600" spc="-1" strike="noStrike">
                <a:solidFill>
                  <a:srgbClr val="008000"/>
                </a:solidFill>
                <a:latin typeface="Arial"/>
              </a:rPr>
              <a:t>Helicobacter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pylori </a:t>
            </a:r>
            <a:r>
              <a:rPr b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五、其他消化道感染的细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762120" y="1143000"/>
            <a:ext cx="449568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革兰阴性细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呈螺旋形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4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根鞭毛，运动活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菌体内富含尿素酶，其检测可辅助快速诊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1935000" cy="2175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6705720" y="3581280"/>
            <a:ext cx="1546200" cy="2637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Barry J. Marshall"/>
          <p:cNvPicPr/>
          <p:nvPr/>
        </p:nvPicPr>
        <p:blipFill>
          <a:blip r:embed="rId3"/>
          <a:stretch/>
        </p:blipFill>
        <p:spPr>
          <a:xfrm>
            <a:off x="1727280" y="3505320"/>
            <a:ext cx="1387440" cy="2203200"/>
          </a:xfrm>
          <a:prstGeom prst="rect">
            <a:avLst/>
          </a:prstGeom>
          <a:ln w="0">
            <a:noFill/>
          </a:ln>
        </p:spPr>
      </p:pic>
      <p:sp>
        <p:nvSpPr>
          <p:cNvPr id="57" name="矩形 9"/>
          <p:cNvSpPr/>
          <p:nvPr/>
        </p:nvSpPr>
        <p:spPr>
          <a:xfrm>
            <a:off x="1257120" y="583236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Barry J. Marsh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J. Robin Warren"/>
          <p:cNvPicPr/>
          <p:nvPr/>
        </p:nvPicPr>
        <p:blipFill>
          <a:blip r:embed="rId4"/>
          <a:stretch/>
        </p:blipFill>
        <p:spPr>
          <a:xfrm>
            <a:off x="3538440" y="3429000"/>
            <a:ext cx="1422360" cy="2257560"/>
          </a:xfrm>
          <a:prstGeom prst="rect">
            <a:avLst/>
          </a:prstGeom>
          <a:ln w="0">
            <a:noFill/>
          </a:ln>
        </p:spPr>
      </p:pic>
      <p:sp>
        <p:nvSpPr>
          <p:cNvPr id="59" name="矩形 13"/>
          <p:cNvSpPr/>
          <p:nvPr/>
        </p:nvSpPr>
        <p:spPr>
          <a:xfrm>
            <a:off x="3736440" y="583236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J. Robin War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1692720" y="6237360"/>
            <a:ext cx="3806280" cy="45972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05 Nobel Prize Wi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808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8"/>
          <p:cNvSpPr/>
          <p:nvPr/>
        </p:nvSpPr>
        <p:spPr>
          <a:xfrm>
            <a:off x="1371600" y="5029200"/>
            <a:ext cx="7543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年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HO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国际癌症研究机构正式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HP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感染列为第一类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即肯定的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致癌因子，是目前为止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唯一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被列为致癌因子的原核细胞型微生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295280" y="1676520"/>
            <a:ext cx="1650960" cy="2836440"/>
            <a:chOff x="1295280" y="1676520"/>
            <a:chExt cx="1650960" cy="2836440"/>
          </a:xfrm>
        </p:grpSpPr>
        <p:sp>
          <p:nvSpPr>
            <p:cNvPr id="64" name="矩形 3"/>
            <p:cNvSpPr/>
            <p:nvPr/>
          </p:nvSpPr>
          <p:spPr>
            <a:xfrm>
              <a:off x="1295280" y="1676520"/>
              <a:ext cx="165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4"/>
            <p:cNvSpPr/>
            <p:nvPr/>
          </p:nvSpPr>
          <p:spPr>
            <a:xfrm>
              <a:off x="1295280" y="2747880"/>
              <a:ext cx="158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溃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5"/>
            <p:cNvSpPr/>
            <p:nvPr/>
          </p:nvSpPr>
          <p:spPr>
            <a:xfrm>
              <a:off x="1550880" y="3992400"/>
              <a:ext cx="120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直接箭头连接符 7"/>
            <p:cNvCxnSpPr/>
            <p:nvPr/>
          </p:nvCxnSpPr>
          <p:spPr>
            <a:xfrm>
              <a:off x="2126160" y="2263680"/>
              <a:ext cx="1080" cy="478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8" name="直接箭头连接符 8"/>
            <p:cNvCxnSpPr/>
            <p:nvPr/>
          </p:nvCxnSpPr>
          <p:spPr>
            <a:xfrm>
              <a:off x="2126160" y="3342960"/>
              <a:ext cx="1080" cy="476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69" name="Picture 12" descr=""/>
          <p:cNvPicPr/>
          <p:nvPr/>
        </p:nvPicPr>
        <p:blipFill>
          <a:blip r:embed="rId1"/>
          <a:stretch/>
        </p:blipFill>
        <p:spPr>
          <a:xfrm>
            <a:off x="3581280" y="1066680"/>
            <a:ext cx="4343400" cy="3859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" y="533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9572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66680" y="1752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是主要传染源，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是慢性胃炎与消化性溃疡的主要病因，可诱导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胃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73392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与致癌有关的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细菌代谢产物使黏膜细胞发生转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细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片段整合于宿主细胞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3354480" cy="3622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68580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19880" cy="443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755720" y="2060640"/>
            <a:ext cx="281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5943600" y="1066680"/>
            <a:ext cx="2446200" cy="5013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295280" y="2362320"/>
            <a:ext cx="41148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黑体"/>
              </a:rPr>
              <a:t>目前使用的快速诊断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快速脲酶分解试验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子生物学方法检测幽门螺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（四）防治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重组脲酶幽门螺杆菌疫苗，防与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溃疡：质子泵抑制剂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+ 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抗生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阿莫西林、甲硝唑等）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6:47:3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