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A9E3-56AF-4737-A3DF-7934FDF868D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4517-7CF0-4D2B-A568-45A34BCF298F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C392776-B0A0-4E54-8C6A-E1687F11BD0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1E2-050F-47F2-8137-295F1207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85D-690B-4D97-931A-45F65130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A17-C955-486E-ABA3-64A2EB98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E3C-B61E-4B27-9991-C5994940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A5FA-3F0C-4A53-B914-BFA42EDC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BFCB-7BD9-4092-AB3F-B6849C32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14FF-F446-4945-8752-3052505B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FE70-49BF-458A-A1E9-E0818943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CFDE-9EE0-4D2A-8300-49F4AB86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576A-950F-4B93-91F4-6DE253A6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BFDA-5127-4BA3-AD70-752D0F03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C87-1799-4CB7-9568-FB589A94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968B-5423-403A-B743-B8D3814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1D6-D104-4A4A-9716-F2B2B956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4CFB-39D2-4D24-867E-EAD8AD34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02D6-88B5-472D-9C5C-B927D59B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4621-89AD-4050-A6E8-693DF165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449-A7F4-40C9-9559-3F825356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7E6-7883-441A-B593-A673A64A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A5C-4304-4CDE-B03A-9E2459BA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D91-7A71-48C3-8072-6F97B083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CD4-F18E-4E64-A941-224311D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76C-5237-43CF-A275-9E35D2BD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30D-8ED1-4BB0-B7BF-5E07868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6267-08C4-4E48-A578-A6B06A12768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5079-6D9C-4189-B53D-95AD5E9E952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jzcdc.com/admin/upfiles/20099207662459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）免疫性</a:t>
            </a:r>
            <a:br>
              <a:rPr sz="4000"/>
            </a:b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25146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期短，不稳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主要是消化道黏膜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微生物学检查法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3200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试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荧光菌球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胶乳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杂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95680" cy="33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685800" y="83808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微生物学检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066680" y="205740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及时送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暂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甘油缓冲盐水保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505320" y="3581280"/>
            <a:ext cx="46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SS</a:t>
            </a: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平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（无色透明小菌落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581280" y="51055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学反应（玻片凝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657600" y="5791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毒力试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3124080" y="2971800"/>
            <a:ext cx="1760760" cy="533520"/>
          </a:xfrm>
          <a:prstGeom prst="wedgeRoundRectCallout">
            <a:avLst>
              <a:gd name="adj1" fmla="val -27185"/>
              <a:gd name="adj2" fmla="val -155060"/>
              <a:gd name="adj3" fmla="val 16667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分离培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3886200" y="1447920"/>
            <a:ext cx="2843280" cy="533160"/>
          </a:xfrm>
          <a:prstGeom prst="wedgeRoundRectCallout">
            <a:avLst>
              <a:gd name="adj1" fmla="val -70435"/>
              <a:gd name="adj2" fmla="val 3362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新鲜脓血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肛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581280" y="4419720"/>
            <a:ext cx="42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双糖培养基（生化反应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3591000" y="3548160"/>
            <a:ext cx="0" cy="533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3591000" y="430992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3591000" y="50720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591000" y="57578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5"/>
          <p:cNvSpPr/>
          <p:nvPr/>
        </p:nvSpPr>
        <p:spPr>
          <a:xfrm>
            <a:off x="1295280" y="3124080"/>
            <a:ext cx="1760760" cy="533520"/>
          </a:xfrm>
          <a:prstGeom prst="wedgeRoundRectCallout">
            <a:avLst>
              <a:gd name="adj1" fmla="val 47925"/>
              <a:gd name="adj2" fmla="val -160416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990720" y="441972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荧光菌球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990720" y="5029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协同凝集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86000"/>
            <a:ext cx="228096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五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38080" y="4191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管一灭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减毒活菌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发现、早隔离和早治疗，查出带菌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敏感试验指导治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结：志贺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895120"/>
            <a:ext cx="40388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性状特点（分类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及所致疾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生物学检查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志贺菌的防治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1828800"/>
            <a:ext cx="3055680" cy="418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似的形态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简单的培养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活泼的生化反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杂的抗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弱的抵抗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的性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三、志贺菌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Arial"/>
              </a:rPr>
              <a:t>Shigella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志贺菌属是人类细菌性痢疾的病原菌，通称痢疾杆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3886200"/>
            <a:ext cx="7010280" cy="1828800"/>
            <a:chOff x="1447920" y="3886200"/>
            <a:chExt cx="7010280" cy="1828800"/>
          </a:xfrm>
        </p:grpSpPr>
        <p:sp>
          <p:nvSpPr>
            <p:cNvPr id="159" name=""/>
            <p:cNvSpPr/>
            <p:nvPr/>
          </p:nvSpPr>
          <p:spPr>
            <a:xfrm>
              <a:off x="2133720" y="4038480"/>
              <a:ext cx="304560" cy="1676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3886200"/>
              <a:ext cx="2210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痢疾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福氏志贺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鲍氏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宋内志贺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个菌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886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致病力最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57200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572000" y="5105520"/>
              <a:ext cx="7621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48006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我国感染最常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一）生物学性状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形态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鞭毛，无荚膜， 有菌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1667160" cy="281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2286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及生化反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要求不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分解乳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培养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克氏双糖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248520" y="2133720"/>
          <a:ext cx="1801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1801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抗原构造及分类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原组成，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抗原为分类依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种        群        型                   亚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痢疾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          8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福氏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      1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型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鲍氏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           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内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1952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257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其他肠道杆菌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酸和一般消毒剂敏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抵抗力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袭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286000"/>
            <a:ext cx="5638680" cy="3863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菌毛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可黏附于回肠末端和结肠黏膜的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皮细胞。细菌侵入血流罕见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内毒素：所有毒株均有强烈的内毒素。内毒素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于肠黏膜，使其通透性增高，进一步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促进对内毒素的吸收，引起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发热、神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障碍、甚至中毒性休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等一系列症状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还可导致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直肠括约肌痉挛、腹痛、里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      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后重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外毒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a toxin,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可引起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细胞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变，亦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毒素，具有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肠毒素性、细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毒性、神经毒性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11430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所致疾病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菌性痢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和带菌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伏期数小时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热、腹痛、腹泻、里急后重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黏液脓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3544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949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5486400"/>
            <a:ext cx="2743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见于儿童急性感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590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起病急，发热、腹痛、里急后重、腹泻、有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脓血黏液便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没有呕吐、恶心现象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以上，常反复发作，呈慢性过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9520" y="1981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急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5480" y="3505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慢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7480" y="5029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中毒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143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分类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43:28Z</dcterms:modified>
  <cp:revision>720</cp:revision>
  <dc:subject/>
  <dc:title>Microbiology includes:</dc:title>
</cp:coreProperties>
</file>