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5644-1669-4F4F-83E6-9CDAECD25544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92B3-5662-47A0-B0EE-382E7AFD4C39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F6B5-CF45-4F08-A52A-B0643D53589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4D2A-CC4A-4C64-8564-8B4DD8535370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DF29-F477-4EBB-B629-9750D544C91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7D51-300B-4AAF-8E36-8208CF77B696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8362-F566-4B8E-A5DD-961CFE14106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C8F5-5639-468D-8F74-5C388616C539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C8F6-4D2B-47F8-9017-32FE549CB4A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2756-7CA4-4DA5-8072-00644693DB9E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6D89-94AD-499C-94FA-8F91EF74F1B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087C-3C0C-4655-BE4C-35BF5031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9C9B-D17A-4C7F-B7B3-769825E8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69D9-E8B2-436A-8A4D-55CC7D07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6364-8938-4976-953A-E54041CF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8566-397E-4079-A2A1-D82F988E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8511-57DE-401A-BE3E-755AC469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5D15-30A7-41EB-A0B0-8A8298FE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E2B2-F291-422A-845C-CCE57DD5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2BF7-5CBC-4409-BE5A-29F79D70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B8D9-9A1D-4338-98CE-8F7C0A4C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6963-1A18-47F2-9615-6F24A4A3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B7D4-04BE-4EB6-912A-C765811C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B859-07A3-49AD-9539-E44C6DFB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04A6-7B77-41E0-AF4D-2EDD9E10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E6A4-113D-4D8E-A2F2-F09B53E2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52C2-BB22-49D9-ADC4-C7FEEF6E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B89A-171F-47FB-A7E9-421BE4D6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C36-D575-461A-BEED-C3EE8943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0E54-B232-4C03-9463-7C8FD5CB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ABCA-3C7C-4677-89D9-D3EEF6BC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FBF-2889-4DFB-B4EB-285CACDC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A227-EE6B-4A55-BE16-CDF1C7F2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2728-838E-4AEA-B592-BFDEC576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03F5-AA78-48AC-83B1-2C82398E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4038120" y="6324120"/>
            <a:ext cx="48769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5186-39E9-4156-858A-0227D96D280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AF58-07BD-4567-B5E7-D1E5BB3BC6F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755640" y="404640"/>
            <a:ext cx="7232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四、其他呼吸道感染细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黑体"/>
              </a:rPr>
              <a:t>百日咳鲍特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71640" y="2133720"/>
            <a:ext cx="7335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短杆菌，有毒株有荚膜，无鞭毛，无芽胞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鲍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ordet-Gengou, B-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培养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组合 11"/>
          <p:cNvGrpSpPr/>
          <p:nvPr/>
        </p:nvGrpSpPr>
        <p:grpSpPr>
          <a:xfrm>
            <a:off x="755640" y="3500280"/>
            <a:ext cx="3084480" cy="2345040"/>
            <a:chOff x="755640" y="3500280"/>
            <a:chExt cx="3084480" cy="2345040"/>
          </a:xfrm>
        </p:grpSpPr>
        <p:pic>
          <p:nvPicPr>
            <p:cNvPr id="155" name="Picture 6" descr=""/>
            <p:cNvPicPr/>
            <p:nvPr/>
          </p:nvPicPr>
          <p:blipFill>
            <a:blip r:embed="rId1"/>
            <a:stretch/>
          </p:blipFill>
          <p:spPr>
            <a:xfrm>
              <a:off x="755640" y="3500280"/>
              <a:ext cx="3084480" cy="234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5" descr=""/>
            <p:cNvPicPr/>
            <p:nvPr/>
          </p:nvPicPr>
          <p:blipFill>
            <a:blip r:embed="rId2"/>
            <a:srcRect l="25705" t="19845" r="21169" b="27405"/>
            <a:stretch/>
          </p:blipFill>
          <p:spPr>
            <a:xfrm>
              <a:off x="2394000" y="4551480"/>
              <a:ext cx="1382760" cy="1235160"/>
            </a:xfrm>
            <a:prstGeom prst="rect">
              <a:avLst/>
            </a:prstGeom>
            <a:ln w="38160">
              <a:solidFill>
                <a:srgbClr val="d9d9d9"/>
              </a:solidFill>
              <a:miter/>
            </a:ln>
          </p:spPr>
        </p:pic>
      </p:grpSp>
      <p:pic>
        <p:nvPicPr>
          <p:cNvPr id="157" name="Picture 6" descr="http://brc.se.fju.edu.tw/nobelist/191x/p1919.files/image002.jpg"/>
          <p:cNvPicPr/>
          <p:nvPr/>
        </p:nvPicPr>
        <p:blipFill>
          <a:blip r:embed="rId3"/>
          <a:stretch/>
        </p:blipFill>
        <p:spPr>
          <a:xfrm>
            <a:off x="4159080" y="3786120"/>
            <a:ext cx="1216080" cy="1928880"/>
          </a:xfrm>
          <a:prstGeom prst="rect">
            <a:avLst/>
          </a:prstGeom>
          <a:ln w="0">
            <a:noFill/>
          </a:ln>
        </p:spPr>
      </p:pic>
      <p:grpSp>
        <p:nvGrpSpPr>
          <p:cNvPr id="158" name="组合 12"/>
          <p:cNvGrpSpPr/>
          <p:nvPr/>
        </p:nvGrpSpPr>
        <p:grpSpPr>
          <a:xfrm>
            <a:off x="5867280" y="3500280"/>
            <a:ext cx="3022560" cy="2506680"/>
            <a:chOff x="5867280" y="3500280"/>
            <a:chExt cx="3022560" cy="2506680"/>
          </a:xfrm>
        </p:grpSpPr>
        <p:pic>
          <p:nvPicPr>
            <p:cNvPr id="159" name="Picture 4" descr="http://www.bmb.leeds.ac.uk/mbiology/ug/ugteach/dental/exam/exam_images/q9.jpg"/>
            <p:cNvPicPr/>
            <p:nvPr/>
          </p:nvPicPr>
          <p:blipFill>
            <a:blip r:embed="rId4"/>
            <a:srcRect l="3785" t="23810" r="3785" b="0"/>
            <a:stretch/>
          </p:blipFill>
          <p:spPr>
            <a:xfrm>
              <a:off x="5867280" y="3583440"/>
              <a:ext cx="3022560" cy="242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矩形 9"/>
            <p:cNvSpPr/>
            <p:nvPr/>
          </p:nvSpPr>
          <p:spPr>
            <a:xfrm>
              <a:off x="7121520" y="3500280"/>
              <a:ext cx="46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黑体"/>
                </a:rPr>
                <a:t>细小、光滑、银灰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矩形 10"/>
          <p:cNvSpPr/>
          <p:nvPr/>
        </p:nvSpPr>
        <p:spPr>
          <a:xfrm>
            <a:off x="3216240" y="5699160"/>
            <a:ext cx="313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JULES BORD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(1870 -196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1919 Nobel Prize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560" y="1341000"/>
            <a:ext cx="5041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（三）微生物学检查法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7280" y="2852280"/>
            <a:ext cx="511344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直接涂片镜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离培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巧克力培养基、卫星现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728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（四）防治原则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32000" y="2743200"/>
            <a:ext cx="5322960" cy="30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荚膜多糖疫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敏感抗菌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39640" y="404280"/>
            <a:ext cx="4825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嗜肺军团菌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360" y="2492280"/>
            <a:ext cx="556920" cy="2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971640" y="1773360"/>
            <a:ext cx="60292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4198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杆菌，有菌毛、微荚膜、鞭毛，无芽胞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培养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uffered charcoal yeast extrac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CY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ga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半胱氨酸和铁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在水环境中抵抗力强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－与阿米巴原虫和蓝绿藻等共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－形成多菌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iofil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－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36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7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水中可存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－有碳源和能源储存颗粒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在蒸馏水和自来水中可存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tretch/>
        </p:blipFill>
        <p:spPr>
          <a:xfrm>
            <a:off x="6732720" y="981000"/>
            <a:ext cx="1904760" cy="1689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"/>
          <p:cNvPicPr/>
          <p:nvPr/>
        </p:nvPicPr>
        <p:blipFill>
          <a:blip r:embed="rId2"/>
          <a:stretch/>
        </p:blipFill>
        <p:spPr>
          <a:xfrm>
            <a:off x="6732720" y="2908440"/>
            <a:ext cx="1968480" cy="1658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"/>
          <p:cNvPicPr/>
          <p:nvPr/>
        </p:nvPicPr>
        <p:blipFill>
          <a:blip r:embed="rId3"/>
          <a:stretch/>
        </p:blipFill>
        <p:spPr>
          <a:xfrm>
            <a:off x="6732720" y="4761000"/>
            <a:ext cx="1968480" cy="2097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39640" y="1052640"/>
            <a:ext cx="4826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（一）生物学特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4643280" y="2205000"/>
            <a:ext cx="4050000" cy="3774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412920" y="4919760"/>
            <a:ext cx="16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900000" y="1197000"/>
            <a:ext cx="3672000" cy="3684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军团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胞内寄生菌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但在适宜环境中（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8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％相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湿度下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热水中；与原虫等共生；在多菌种生物被膜中）可较长期存活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侵入营自由生活的阿米巴或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噬细胞中可繁殖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4599000" y="1484280"/>
            <a:ext cx="45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嗜肺军团菌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的生存和繁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8"/>
          <p:cNvSpPr/>
          <p:nvPr/>
        </p:nvSpPr>
        <p:spPr>
          <a:xfrm flipV="1">
            <a:off x="6108840" y="5805360"/>
            <a:ext cx="0" cy="719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719280" y="2205000"/>
            <a:ext cx="8424720" cy="33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以气溶胶方式通过呼吸道传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主要污染源是供水系统及和空调系统冷却塔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是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社区获得性肺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ommunity-acquired pneumoni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A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和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医源性肺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osocomial pneumoni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或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ospital-acquired pneumoni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的重要病原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90000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和免疫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684360" y="5516640"/>
            <a:ext cx="7618320" cy="642600"/>
          </a:xfrm>
          <a:prstGeom prst="rect">
            <a:avLst/>
          </a:prstGeom>
          <a:solidFill>
            <a:srgbClr val="b4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细胞免疫在抗感染中起主要作用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762200" y="739800"/>
            <a:ext cx="15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611280" y="76500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（三）所致疾病：军团菌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755640" y="1341360"/>
            <a:ext cx="7261200" cy="605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1.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肺炎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军团菌肺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608040" y="2384280"/>
            <a:ext cx="1326960" cy="576360"/>
          </a:xfrm>
          <a:prstGeom prst="flowChartTerminator">
            <a:avLst/>
          </a:prstGeom>
          <a:solidFill>
            <a:srgbClr val="cc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感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935000" y="2673360"/>
            <a:ext cx="115740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3170160" y="2311560"/>
            <a:ext cx="1779840" cy="793440"/>
          </a:xfrm>
          <a:prstGeom prst="flowChartTerminator">
            <a:avLst/>
          </a:prstGeom>
          <a:solidFill>
            <a:srgbClr val="cc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乏力不适，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上呼吸道症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5877000" y="2239920"/>
            <a:ext cx="2476440" cy="865080"/>
          </a:xfrm>
          <a:prstGeom prst="flowChartTerminator">
            <a:avLst/>
          </a:prstGeom>
          <a:solidFill>
            <a:srgbClr val="cc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&gt;39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痛、咳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103720" y="2673360"/>
            <a:ext cx="69696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2074320" y="220500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~10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736560" y="3613320"/>
            <a:ext cx="7593120" cy="1044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非肺炎型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即庞蒂阿克热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ontiac fe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轻型、自限性疾病。潜伏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~2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临床症状类似流感，病程一周，通常无需治疗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900000" y="907920"/>
            <a:ext cx="806472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军团菌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军团菌病是伴随着人类社会进步和经济的发展，出现的一种新的传染性疾病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7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美国费城的一次退伍军人大会期间，发生肺炎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2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人，其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人死亡，引起了人们关注。由于病因不明，且患病的人又都是退伍军人，称之为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“军团菌病”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军团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是一种水源微生物，在自然条件下，当水温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6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时可长期存活。嗜热怕冷，但人工培养却极其困难，故有苛养菌之称，这也是它迟迟未被发现的主要原因。军团菌在普通自来水中可存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4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天以上，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60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左右甚至在火山口附近的水塘里都能发现军团菌的踪迹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影响个体的易感性的因素主要有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①年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发病率随年龄增长而升高，病死率亦呈同样趋势；据报道发病的多为老年人；②发病以男性多见；③吸烟组的发病率为不吸烟组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.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倍，随吸烟量增加危险性增加；④免疫功能受损危险性升高；⑤肿瘤、糖尿病、肾病和肺气肿患者易感性升高。军团菌病全年均可发生，而以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月发病最多。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目前国内外公认的首选药物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红霉素、阿奇霉素、克拉霉素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疗效最可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5"/>
          <p:cNvSpPr txBox="1"/>
          <p:nvPr/>
        </p:nvSpPr>
        <p:spPr>
          <a:xfrm>
            <a:off x="6300720" y="4292640"/>
            <a:ext cx="22399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5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思考题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1500120" y="981000"/>
            <a:ext cx="3200400" cy="2737080"/>
          </a:xfrm>
          <a:prstGeom prst="cloudCallout">
            <a:avLst>
              <a:gd name="adj1" fmla="val 76587"/>
              <a:gd name="adj2" fmla="val 88342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脲酶分解试验可诊断何种病原菌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476280" y="4437000"/>
            <a:ext cx="3200400" cy="1871640"/>
          </a:xfrm>
          <a:prstGeom prst="wedgeRoundRectCallout">
            <a:avLst>
              <a:gd name="adj1" fmla="val 121472"/>
              <a:gd name="adj2" fmla="val 5046"/>
              <a:gd name="adj3" fmla="val 16667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BCY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培养基可分离培养何种病原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AutoShape 8"/>
          <p:cNvSpPr/>
          <p:nvPr/>
        </p:nvSpPr>
        <p:spPr>
          <a:xfrm>
            <a:off x="6156360" y="1052640"/>
            <a:ext cx="2495520" cy="2305080"/>
          </a:xfrm>
          <a:prstGeom prst="wedgeEllipseCallout">
            <a:avLst>
              <a:gd name="adj1" fmla="val -27097"/>
              <a:gd name="adj2" fmla="val 94560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军团菌病的致病菌是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46436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6" descr="pertussis boy"/>
          <p:cNvPicPr/>
          <p:nvPr/>
        </p:nvPicPr>
        <p:blipFill>
          <a:blip r:embed="rId1">
            <a:lum contrast="6000"/>
          </a:blip>
          <a:srcRect l="0" t="11701" r="0" b="0"/>
          <a:stretch/>
        </p:blipFill>
        <p:spPr>
          <a:xfrm>
            <a:off x="5651640" y="981000"/>
            <a:ext cx="2881080" cy="3745080"/>
          </a:xfrm>
          <a:prstGeom prst="rect">
            <a:avLst/>
          </a:prstGeom>
          <a:ln w="0">
            <a:noFill/>
          </a:ln>
        </p:spPr>
      </p:pic>
      <p:sp>
        <p:nvSpPr>
          <p:cNvPr id="164" name="TextBox 8"/>
          <p:cNvSpPr/>
          <p:nvPr/>
        </p:nvSpPr>
        <p:spPr>
          <a:xfrm>
            <a:off x="6018480" y="4941720"/>
            <a:ext cx="21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百日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鸣样吼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5268960" cy="4024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616360" cy="4041720"/>
          </a:xfrm>
          <a:prstGeom prst="rect">
            <a:avLst/>
          </a:prstGeom>
          <a:ln w="0">
            <a:noFill/>
          </a:ln>
        </p:spPr>
      </p:pic>
      <p:sp>
        <p:nvSpPr>
          <p:cNvPr id="167" name="矩形 12"/>
          <p:cNvSpPr/>
          <p:nvPr/>
        </p:nvSpPr>
        <p:spPr>
          <a:xfrm>
            <a:off x="1476360" y="5373720"/>
            <a:ext cx="6264360" cy="520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白百破三联疫苗接种</a:t>
            </a: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岁以下幼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32000" y="1197000"/>
            <a:ext cx="64087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流感嗜血杆菌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92000" y="3212640"/>
            <a:ext cx="554364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流感嗜血杆菌俗称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流感杆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是嗜血杆菌属中最常见的致病菌，曾被误认为流行性感冒的病原体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得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为流感常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继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感染性细菌，也可引起原发性感染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280" y="1268280"/>
            <a:ext cx="388764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一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生物学特性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6920" y="3284640"/>
            <a:ext cx="360072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革兰阴性短小杆菌，常呈多形态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无鞭毛，不形成芽胞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培养必须有新鲜血液成分（主要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子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子）才能生长，故名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嗜血杆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148360" y="1268280"/>
            <a:ext cx="3413160" cy="2359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219640" y="4005360"/>
            <a:ext cx="3505320" cy="2369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187280" y="2421000"/>
            <a:ext cx="31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  <a:ea typeface="黑体"/>
              </a:rPr>
              <a:t>1.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  <a:ea typeface="黑体"/>
              </a:rPr>
              <a:t>形态与染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920" y="980640"/>
            <a:ext cx="27352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培养特性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或兼性厌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需要含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X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因子、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V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的新鲜血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因子是细菌合成过氧化氢酶、过氧化物酶、细胞色素氧化酶等呼吸酶的辅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卫星现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提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因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716360" y="981000"/>
          <a:ext cx="403236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981000"/>
                    <a:ext cx="40323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716360" y="3860640"/>
            <a:ext cx="403236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31640" y="119664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（二）致病性  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02920" y="2349360"/>
            <a:ext cx="2521080" cy="317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致病物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g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84720" y="2492280"/>
            <a:ext cx="324000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所致疾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鼻咽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咽喉会厌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关节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02:17Z</dcterms:created>
  <dc:creator>Susan</dc:creator>
  <dc:description/>
  <dc:language>en-US</dc:language>
  <cp:lastModifiedBy>微软用户</cp:lastModifiedBy>
  <dcterms:modified xsi:type="dcterms:W3CDTF">2014-04-17T16:38:29Z</dcterms:modified>
  <cp:revision>271</cp:revision>
  <dc:subject/>
  <dc:title>Microbiology includes:</dc:title>
</cp:coreProperties>
</file>