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8DE9-C754-4132-996B-2EC1FB12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7DEB-6082-4D97-8057-54C5999A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77F8-8C28-411A-BC51-493C9F54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1FD-8202-46AF-A179-6008C9B3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ECA-F181-4EC8-8E8E-9C74A15F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246A-EEDC-45B4-AD86-92BD0D7B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FE0-FD55-4E0A-B553-1783DC46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FC55-1205-4015-91DE-2ED8583B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5C79-204C-4D0D-BBB6-3B974F2A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40A6-BC90-4F17-82D3-828CDB55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F30B-9C27-49F4-8F77-4344AA21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9B8A-4FA4-4142-8A82-201E0F23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98F7-565A-490E-B4B1-3D840CCC50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87280" y="2852640"/>
            <a:ext cx="5256000" cy="3814560"/>
            <a:chOff x="1187280" y="2852640"/>
            <a:chExt cx="5256000" cy="3814560"/>
          </a:xfrm>
        </p:grpSpPr>
        <p:graphicFrame>
          <p:nvGraphicFramePr>
            <p:cNvPr id="44" name=""/>
            <p:cNvGraphicFramePr/>
            <p:nvPr/>
          </p:nvGraphicFramePr>
          <p:xfrm>
            <a:off x="3516120" y="5737680"/>
            <a:ext cx="1059120" cy="80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16120" y="5737680"/>
                      <a:ext cx="105912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" name=""/>
            <p:cNvGraphicFramePr/>
            <p:nvPr/>
          </p:nvGraphicFramePr>
          <p:xfrm>
            <a:off x="2141280" y="4871880"/>
            <a:ext cx="1309680" cy="92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41280" y="4871880"/>
                      <a:ext cx="1309680" cy="92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" name=""/>
            <p:cNvGraphicFramePr/>
            <p:nvPr/>
          </p:nvGraphicFramePr>
          <p:xfrm>
            <a:off x="2755800" y="5617440"/>
            <a:ext cx="1342080" cy="88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55800" y="5617440"/>
                      <a:ext cx="1342080" cy="88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"/>
            <p:cNvGraphicFramePr/>
            <p:nvPr/>
          </p:nvGraphicFramePr>
          <p:xfrm>
            <a:off x="1243800" y="4110840"/>
            <a:ext cx="1301760" cy="921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43800" y="4110840"/>
                      <a:ext cx="1301760" cy="9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" name=""/>
            <p:cNvGraphicFramePr/>
            <p:nvPr/>
          </p:nvGraphicFramePr>
          <p:xfrm>
            <a:off x="1640160" y="5713560"/>
            <a:ext cx="1301400" cy="921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40160" y="5713560"/>
                      <a:ext cx="1301400" cy="92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"/>
            <p:cNvGraphicFramePr/>
            <p:nvPr/>
          </p:nvGraphicFramePr>
          <p:xfrm>
            <a:off x="1251720" y="2852640"/>
            <a:ext cx="1244880" cy="865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51720" y="2852640"/>
                      <a:ext cx="124488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1187280" y="5032440"/>
            <a:ext cx="970200" cy="769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187280" y="5032440"/>
                      <a:ext cx="970200" cy="76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3451320" y="5193000"/>
            <a:ext cx="840960" cy="544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451320" y="5193000"/>
                      <a:ext cx="84096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5198040" y="5801760"/>
            <a:ext cx="1245240" cy="865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198040" y="5801760"/>
                      <a:ext cx="124524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2340000" y="2060640"/>
            <a:ext cx="5113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二、脑膜炎奈瑟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1143000"/>
            <a:ext cx="388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四）防治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286000"/>
            <a:ext cx="3810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性预防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隔离病人、检查带菌者、预防性投药，室内通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流脑疫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岁接种两次，间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群脑膜炎球菌多糖抗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制备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青霉素、磺胺类药大剂量治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809880" cy="32004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35" name=""/>
          <p:cNvSpPr/>
          <p:nvPr/>
        </p:nvSpPr>
        <p:spPr>
          <a:xfrm>
            <a:off x="6143400" y="5181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脑膜炎疫苗接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23880" y="152388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97920" y="30481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脑膜炎奈瑟菌的生物学性状、致病物质及所致疾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3000" y="1066680"/>
            <a:ext cx="5113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二、脑膜炎奈瑟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419720" y="1905120"/>
            <a:ext cx="4267080" cy="4240080"/>
            <a:chOff x="4419720" y="1905120"/>
            <a:chExt cx="4267080" cy="424008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4419720" y="2666880"/>
              <a:ext cx="4267080" cy="347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"/>
            <p:cNvGrpSpPr/>
            <p:nvPr/>
          </p:nvGrpSpPr>
          <p:grpSpPr>
            <a:xfrm>
              <a:off x="5334120" y="1905120"/>
              <a:ext cx="3352680" cy="1295280"/>
              <a:chOff x="5334120" y="1905120"/>
              <a:chExt cx="3352680" cy="1295280"/>
            </a:xfrm>
          </p:grpSpPr>
          <p:sp>
            <p:nvSpPr>
              <p:cNvPr id="67" name=""/>
              <p:cNvSpPr/>
              <p:nvPr/>
            </p:nvSpPr>
            <p:spPr>
              <a:xfrm>
                <a:off x="6858000" y="22096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943600" y="22096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34120" y="190512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硬脑膜  软脑膜  脑脊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96440" y="22096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1219320" y="312408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脑膜炎奈瑟菌简称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脑膜炎球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流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的病原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4600" y="3092400"/>
            <a:ext cx="4114800" cy="3765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14400" y="99072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一）生物学特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2133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形态与染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4120" y="0"/>
            <a:ext cx="3152520" cy="341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111880" y="1295280"/>
            <a:ext cx="729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性粒细胞内的脑膜炎球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895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肾形或豆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成双排列，凹面相对，革兰染色阴性，有荚膜和菌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388620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培养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。营养要求高。最常用的培养基是巧克力色培养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露滴状菌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生化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产生自溶酶，人工培养时若不及时移种，数日后菌体自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066680"/>
            <a:ext cx="4800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主要菌体表面抗原构造（四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荚膜多糖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群特异性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血清群），我国流行的是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、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B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核蛋白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脂寡糖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经常变异，相应抗体不能防止再感染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外膜蛋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主要外膜蛋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PI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吸附易感细菌的蛋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925040" cy="4329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66680" y="1066680"/>
            <a:ext cx="388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抗原构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55240" y="12873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93840" y="13064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03560" y="1671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7400" y="20019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61080" y="13064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46320" y="20019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55240" y="28353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4840" y="3192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55240" y="35514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9040" y="247032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7760" y="28353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92160" y="3102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59400" y="28544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51120" y="314784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61720" y="39258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92160" y="40179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65240" y="40179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92160" y="43117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4840" y="478800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96960" y="469584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65520" y="469584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2160" y="554832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84240" y="59230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37960" y="58323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03520" y="58323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3440" y="637236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3440" y="6510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9907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与免疫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44800">
            <a:off x="5562360" y="1295280"/>
            <a:ext cx="2514600" cy="2133720"/>
          </a:xfrm>
          <a:prstGeom prst="cloudCallout">
            <a:avLst>
              <a:gd name="adj1" fmla="val -6888"/>
              <a:gd name="adj2" fmla="val 78828"/>
            </a:avLst>
          </a:prstGeom>
          <a:gradFill rotWithShape="0">
            <a:gsLst>
              <a:gs pos="0">
                <a:srgbClr val="ffffcc"/>
              </a:gs>
              <a:gs pos="100000">
                <a:srgbClr val="99cc00"/>
              </a:gs>
            </a:gsLst>
            <a:lin ang="30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脑膜刺激征：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剧烈头痛、喷射性呕吐、颈项僵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2133720"/>
            <a:ext cx="655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物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荚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菌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毒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致疾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流行性脑脊髓膜炎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流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人类是唯一的易感宿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免疫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月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年龄组婴儿免疫力最低，是易感人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243828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脑膜炎奈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228600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743200"/>
            <a:ext cx="182880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鼻咽腔繁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3352680"/>
            <a:ext cx="0" cy="9907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4419720"/>
            <a:ext cx="152388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繁殖入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362320" y="2437920"/>
            <a:ext cx="1981080" cy="1600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1905120"/>
            <a:ext cx="167616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败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2133720"/>
            <a:ext cx="6858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1905120"/>
            <a:ext cx="221004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枢神经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2362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侵犯蛛网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2971800"/>
            <a:ext cx="0" cy="5335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3657600"/>
            <a:ext cx="2743200" cy="58140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暴发型脑膜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45720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微循环衰竭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内毒素休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5638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脑膜炎奈瑟菌的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8080" y="838080"/>
            <a:ext cx="510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三）微生物学检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3947" t="6163" r="1471" b="0"/>
          <a:stretch/>
        </p:blipFill>
        <p:spPr>
          <a:xfrm>
            <a:off x="5257800" y="1371600"/>
            <a:ext cx="3200400" cy="2035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34120" y="3352680"/>
            <a:ext cx="3200400" cy="3213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66680" y="213372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直接涂片镜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镜下见到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中性粒细胞内、外有革兰阴性双球菌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即可作出初步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离培养与鉴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巧克力色血琼脂平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快速诊断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对流免疫电泳　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SP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同凝集试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6:33:3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